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C25-43F3-4492-9F75-5FA95332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902-8C6C-4529-A050-F601FDB7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6B4-21EF-4BC9-BB57-2D9129A0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4FF-5BF6-4BD8-901D-70B0206B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97A-F41B-4B2A-9755-3D19A6A9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E39-0554-4D4F-85CC-EDB21217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F5A-527D-4919-AC2A-C9A29CC8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8CB-5DC4-4E64-A9DE-879132CC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A76-1F28-40EE-B2C2-EFEF1C66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A7B-D101-4F64-B249-90940E3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18B-3CE1-4152-9CA2-00C5DC95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969-3B72-4753-A636-3446C673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1F94-D18A-4BCA-B696-EA7FFF7FC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RESTAURATION </a:t>
            </a:r>
            <a:br>
              <a:rPr sz="5400"/>
            </a:b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par électroly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Times New Roman"/>
              </a:rPr>
              <a:t>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f5f5f"/>
                </a:solidFill>
                <a:latin typeface="Times New Roman"/>
              </a:rPr>
              <a:t>Ne manipulez pas les objets tant qu’ils sont alimentés par votre  générateur car il y a des risques d’électro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f5f5f"/>
                </a:solidFill>
                <a:latin typeface="Times New Roman"/>
              </a:rPr>
              <a:t>Lavez vous les mains après chaque manipulation, portez des gants et des         lunettes de protectio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f5f5f"/>
                </a:solidFill>
                <a:latin typeface="Times New Roman"/>
              </a:rPr>
              <a:t>Ne fumez pas pendant l’électrolyse                 car il y a un dégagement d’hydrogè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2160" y="1523880"/>
            <a:ext cx="2199960" cy="875880"/>
            <a:chOff x="-2160" y="1523880"/>
            <a:chExt cx="2199960" cy="875880"/>
          </a:xfrm>
        </p:grpSpPr>
        <p:sp>
          <p:nvSpPr>
            <p:cNvPr id="45" name=""/>
            <p:cNvSpPr/>
            <p:nvPr/>
          </p:nvSpPr>
          <p:spPr>
            <a:xfrm>
              <a:off x="-2160" y="1523880"/>
              <a:ext cx="2199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l y a réduc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+ 2e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Times New Roman"/>
                </a:rPr>
                <a:t>-      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 flipV="1">
            <a:off x="7696080" y="2895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’est qu’une restauration par électroly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600200"/>
            <a:ext cx="2286000" cy="24382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013" stAng="10800000" swAng="5400000"/>
                <a:lnTo>
                  <a:pt x="20205" y="5147"/>
                </a:lnTo>
                <a:lnTo>
                  <a:pt x="20205" y="0"/>
                </a:lnTo>
                <a:lnTo>
                  <a:pt x="21600" y="6079"/>
                </a:lnTo>
                <a:lnTo>
                  <a:pt x="20205" y="12158"/>
                </a:lnTo>
                <a:lnTo>
                  <a:pt x="20205" y="7011"/>
                </a:lnTo>
                <a:lnTo>
                  <a:pt x="12427" y="7011"/>
                </a:lnTo>
                <a:arcTo wR="10563" hR="5149" stAng="16200000" swAng="-5400000"/>
                <a:lnTo>
                  <a:pt x="1864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2520" y="1676520"/>
            <a:ext cx="2133360" cy="1904760"/>
          </a:xfrm>
          <a:custGeom>
            <a:avLst/>
            <a:gdLst>
              <a:gd name="textAreaLeft" fmla="*/ 360 w 2133360"/>
              <a:gd name="textAreaRight" fmla="*/ 2134080 w 213336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010" stAng="10800000" swAng="5400000"/>
                <a:lnTo>
                  <a:pt x="14979" y="5150"/>
                </a:lnTo>
                <a:lnTo>
                  <a:pt x="14979" y="0"/>
                </a:lnTo>
                <a:lnTo>
                  <a:pt x="21600" y="6079"/>
                </a:lnTo>
                <a:lnTo>
                  <a:pt x="14979" y="12158"/>
                </a:lnTo>
                <a:lnTo>
                  <a:pt x="14979" y="7008"/>
                </a:lnTo>
                <a:lnTo>
                  <a:pt x="12427" y="7008"/>
                </a:lnTo>
                <a:arcTo wR="10569" hR="5152" stAng="16200000" swAng="-5400000"/>
                <a:lnTo>
                  <a:pt x="18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75248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872" stAng="10800000" swAng="5400000"/>
                <a:lnTo>
                  <a:pt x="14663" y="5288"/>
                </a:lnTo>
                <a:lnTo>
                  <a:pt x="14663" y="0"/>
                </a:lnTo>
                <a:lnTo>
                  <a:pt x="21600" y="6079"/>
                </a:lnTo>
                <a:lnTo>
                  <a:pt x="14663" y="12158"/>
                </a:lnTo>
                <a:lnTo>
                  <a:pt x="14663" y="6870"/>
                </a:lnTo>
                <a:lnTo>
                  <a:pt x="12427" y="6870"/>
                </a:lnTo>
                <a:arcTo wR="10845" hR="5290" stAng="16200000" swAng="-5400000"/>
                <a:lnTo>
                  <a:pt x="1582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334000">
            <a:off x="2552400" y="2857320"/>
            <a:ext cx="457200" cy="2666880"/>
          </a:xfrm>
          <a:custGeom>
            <a:avLst/>
            <a:gdLst>
              <a:gd name="textAreaLeft" fmla="*/ 100440 w 457200"/>
              <a:gd name="textAreaRight" fmla="*/ 356760 w 457200"/>
              <a:gd name="textAreaTop" fmla="*/ 586440 h 2666880"/>
              <a:gd name="textAreaBottom" fmla="*/ 208044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33920" y="1600200"/>
            <a:ext cx="1599840" cy="990360"/>
            <a:chOff x="3733920" y="1600200"/>
            <a:chExt cx="1599840" cy="990360"/>
          </a:xfrm>
        </p:grpSpPr>
        <p:sp>
          <p:nvSpPr>
            <p:cNvPr id="54" name=""/>
            <p:cNvSpPr/>
            <p:nvPr/>
          </p:nvSpPr>
          <p:spPr>
            <a:xfrm>
              <a:off x="3733920" y="1600200"/>
              <a:ext cx="1599840" cy="990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33920" y="1698840"/>
              <a:ext cx="65880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75320" y="1698840"/>
              <a:ext cx="65844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75320" y="1996200"/>
              <a:ext cx="658440" cy="99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400000">
              <a:off x="4657320" y="1998720"/>
              <a:ext cx="693720" cy="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3920" y="1996200"/>
              <a:ext cx="658800" cy="9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rot="5400000">
            <a:off x="5791320" y="1905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872" stAng="10800000" swAng="5400000"/>
                <a:lnTo>
                  <a:pt x="15113" y="5288"/>
                </a:lnTo>
                <a:lnTo>
                  <a:pt x="15113" y="0"/>
                </a:lnTo>
                <a:lnTo>
                  <a:pt x="21600" y="6079"/>
                </a:lnTo>
                <a:lnTo>
                  <a:pt x="15113" y="12158"/>
                </a:lnTo>
                <a:lnTo>
                  <a:pt x="15113" y="6870"/>
                </a:lnTo>
                <a:lnTo>
                  <a:pt x="12427" y="6870"/>
                </a:lnTo>
                <a:arcTo wR="10845" hR="5290" stAng="16200000" swAng="-5400000"/>
                <a:lnTo>
                  <a:pt x="1582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1828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1371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2362320"/>
            <a:ext cx="152280" cy="1066680"/>
          </a:xfrm>
          <a:prstGeom prst="upArrow">
            <a:avLst>
              <a:gd name="adj1" fmla="val 50000"/>
              <a:gd name="adj2" fmla="val 17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9718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0" lang="en-US" sz="4800" spc="-1" strike="noStrike" baseline="30000">
                <a:solidFill>
                  <a:srgbClr val="00cc99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623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0" lang="en-US" sz="4800" spc="-1" strike="noStrike" baseline="30000">
                <a:solidFill>
                  <a:srgbClr val="00cc99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505320"/>
            <a:ext cx="1143000" cy="16002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3048120"/>
            <a:ext cx="1981080" cy="457200"/>
          </a:xfrm>
          <a:prstGeom prst="wedgeRectCallout">
            <a:avLst>
              <a:gd name="adj1" fmla="val -89902"/>
              <a:gd name="adj2" fmla="val 27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8954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334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5715000"/>
            <a:ext cx="2743200" cy="838080"/>
          </a:xfrm>
          <a:prstGeom prst="wedgeRectCallout">
            <a:avLst>
              <a:gd name="adj1" fmla="val 9722"/>
              <a:gd name="adj2" fmla="val -164773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 solution électroly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373392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743200" y="2818800"/>
            <a:ext cx="152280" cy="1066680"/>
          </a:xfrm>
          <a:prstGeom prst="upArrow">
            <a:avLst>
              <a:gd name="adj1" fmla="val 50000"/>
              <a:gd name="adj2" fmla="val 17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666880"/>
            <a:ext cx="1981080" cy="457200"/>
          </a:xfrm>
          <a:prstGeom prst="wedgeRectCallout">
            <a:avLst>
              <a:gd name="adj1" fmla="val 53365"/>
              <a:gd name="adj2" fmla="val 2708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H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261000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4724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9760" y="39625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 gr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77720" y="3962520"/>
            <a:ext cx="236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coura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880" y="487692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éplacement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ons en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4120" y="251460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743560" y="4419720"/>
            <a:ext cx="2260440" cy="669240"/>
            <a:chOff x="2743560" y="4419720"/>
            <a:chExt cx="2260440" cy="669240"/>
          </a:xfrm>
        </p:grpSpPr>
        <p:sp>
          <p:nvSpPr>
            <p:cNvPr id="82" name=""/>
            <p:cNvSpPr/>
            <p:nvPr/>
          </p:nvSpPr>
          <p:spPr>
            <a:xfrm>
              <a:off x="358272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4940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7800" y="4610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06720" y="4457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743560" y="4478400"/>
              <a:ext cx="2218680" cy="553320"/>
              <a:chOff x="2743560" y="4478400"/>
              <a:chExt cx="2218680" cy="5533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353040" y="4478400"/>
                <a:ext cx="542160" cy="324000"/>
                <a:chOff x="3353040" y="4478400"/>
                <a:chExt cx="542160" cy="324000"/>
              </a:xfrm>
            </p:grpSpPr>
            <p:sp>
              <p:nvSpPr>
                <p:cNvPr id="88" name=""/>
                <p:cNvSpPr/>
                <p:nvPr/>
              </p:nvSpPr>
              <p:spPr>
                <a:xfrm rot="15977400">
                  <a:off x="3580920" y="4488120"/>
                  <a:ext cx="30492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>
                  <a:off x="3353040" y="4645080"/>
                  <a:ext cx="304200" cy="19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881160" y="4563720"/>
                <a:ext cx="538920" cy="314280"/>
                <a:chOff x="3881160" y="4563720"/>
                <a:chExt cx="538920" cy="314280"/>
              </a:xfrm>
            </p:grpSpPr>
            <p:sp>
              <p:nvSpPr>
                <p:cNvPr id="91" name=""/>
                <p:cNvSpPr/>
                <p:nvPr/>
              </p:nvSpPr>
              <p:spPr>
                <a:xfrm rot="5509800">
                  <a:off x="3886200" y="4568040"/>
                  <a:ext cx="304560" cy="3049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115160" y="4723200"/>
                  <a:ext cx="304920" cy="972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414680" y="4716000"/>
                <a:ext cx="537840" cy="314280"/>
                <a:chOff x="4414680" y="4716000"/>
                <a:chExt cx="537840" cy="314280"/>
              </a:xfrm>
            </p:grpSpPr>
            <p:sp>
              <p:nvSpPr>
                <p:cNvPr id="94" name=""/>
                <p:cNvSpPr/>
                <p:nvPr/>
              </p:nvSpPr>
              <p:spPr>
                <a:xfrm rot="5509800">
                  <a:off x="4419360" y="4720680"/>
                  <a:ext cx="30456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7960" y="4875480"/>
                  <a:ext cx="304560" cy="972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420080" y="4478400"/>
                <a:ext cx="542160" cy="324000"/>
                <a:chOff x="4420080" y="4478400"/>
                <a:chExt cx="542160" cy="324000"/>
              </a:xfrm>
            </p:grpSpPr>
            <p:sp>
              <p:nvSpPr>
                <p:cNvPr id="97" name=""/>
                <p:cNvSpPr/>
                <p:nvPr/>
              </p:nvSpPr>
              <p:spPr>
                <a:xfrm rot="15977400">
                  <a:off x="4647960" y="4488120"/>
                  <a:ext cx="30492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4420080" y="4645080"/>
                  <a:ext cx="304200" cy="19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743560" y="4707000"/>
                <a:ext cx="539640" cy="247680"/>
                <a:chOff x="2743560" y="4707000"/>
                <a:chExt cx="539640" cy="247680"/>
              </a:xfrm>
            </p:grpSpPr>
            <p:sp>
              <p:nvSpPr>
                <p:cNvPr id="100" name=""/>
                <p:cNvSpPr/>
                <p:nvPr/>
              </p:nvSpPr>
              <p:spPr>
                <a:xfrm rot="15977400">
                  <a:off x="3009600" y="4678200"/>
                  <a:ext cx="22860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2743560" y="4835520"/>
                  <a:ext cx="304200" cy="19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2996640" y="4572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66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3271680" y="4716000"/>
                <a:ext cx="537840" cy="314280"/>
                <a:chOff x="3271680" y="4716000"/>
                <a:chExt cx="537840" cy="314280"/>
              </a:xfrm>
            </p:grpSpPr>
            <p:sp>
              <p:nvSpPr>
                <p:cNvPr id="104" name=""/>
                <p:cNvSpPr/>
                <p:nvPr/>
              </p:nvSpPr>
              <p:spPr>
                <a:xfrm rot="5509800">
                  <a:off x="3276360" y="4720680"/>
                  <a:ext cx="30456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504960" y="4875480"/>
                  <a:ext cx="304560" cy="972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" name=""/>
            <p:cNvSpPr/>
            <p:nvPr/>
          </p:nvSpPr>
          <p:spPr>
            <a:xfrm>
              <a:off x="4439880" y="4629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495680" y="28954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533520"/>
            <a:ext cx="380880" cy="5857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85720"/>
              <a:gd name="textAreaBottom" fmla="*/ 561240 h 585720"/>
            </a:gdLst>
            <a:ahLst/>
            <a:rect l="textAreaLeft" t="textAreaTop" r="textAreaRight" b="textAreaBottom"/>
            <a:pathLst>
              <a:path w="21600" h="33206">
                <a:moveTo>
                  <a:pt x="0" y="0"/>
                </a:moveTo>
                <a:lnTo>
                  <a:pt x="21600" y="0"/>
                </a:lnTo>
                <a:lnTo>
                  <a:pt x="21600" y="33206"/>
                </a:lnTo>
                <a:lnTo>
                  <a:pt x="0" y="33206"/>
                </a:lnTo>
                <a:close/>
              </a:path>
              <a:path fill="lightenLess" w="21600" h="332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206">
                <a:moveTo>
                  <a:pt x="21600" y="0"/>
                </a:moveTo>
                <a:lnTo>
                  <a:pt x="21600" y="33206"/>
                </a:lnTo>
                <a:lnTo>
                  <a:pt x="20200" y="31806"/>
                </a:lnTo>
                <a:lnTo>
                  <a:pt x="20200" y="1400"/>
                </a:lnTo>
                <a:close/>
              </a:path>
              <a:path fill="darkenLess" w="21600" h="33206">
                <a:moveTo>
                  <a:pt x="21600" y="33206"/>
                </a:moveTo>
                <a:lnTo>
                  <a:pt x="0" y="33206"/>
                </a:lnTo>
                <a:lnTo>
                  <a:pt x="1400" y="31806"/>
                </a:lnTo>
                <a:lnTo>
                  <a:pt x="20200" y="31806"/>
                </a:lnTo>
                <a:close/>
              </a:path>
              <a:path fill="lighten" w="21600" h="33206">
                <a:moveTo>
                  <a:pt x="0" y="33206"/>
                </a:moveTo>
                <a:lnTo>
                  <a:pt x="0" y="0"/>
                </a:lnTo>
                <a:lnTo>
                  <a:pt x="1400" y="1400"/>
                </a:lnTo>
                <a:lnTo>
                  <a:pt x="1400" y="31806"/>
                </a:lnTo>
                <a:close/>
              </a:path>
              <a:path fill="darkenLess" w="21600" h="33206">
                <a:moveTo>
                  <a:pt x="5273" y="9788"/>
                </a:moveTo>
                <a:lnTo>
                  <a:pt x="12271" y="9788"/>
                </a:lnTo>
                <a:lnTo>
                  <a:pt x="16327" y="13287"/>
                </a:lnTo>
                <a:lnTo>
                  <a:pt x="16327" y="23418"/>
                </a:lnTo>
                <a:lnTo>
                  <a:pt x="5273" y="23418"/>
                </a:lnTo>
                <a:close/>
              </a:path>
              <a:path fill="darken" w="21600" h="33206">
                <a:moveTo>
                  <a:pt x="12271" y="9788"/>
                </a:moveTo>
                <a:lnTo>
                  <a:pt x="16327" y="13287"/>
                </a:lnTo>
                <a:lnTo>
                  <a:pt x="12271" y="1328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7880" y="5715000"/>
            <a:ext cx="37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La production de dihydrogè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à la cathode favorise le déganguage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8:25:54Z</dcterms:created>
  <dc:creator>Fabie</dc:creator>
  <dc:description/>
  <dc:language>en-US</dc:language>
  <cp:lastModifiedBy>Fabie</cp:lastModifiedBy>
  <dcterms:modified xsi:type="dcterms:W3CDTF">2004-11-03T20:33:46Z</dcterms:modified>
  <cp:revision>8</cp:revision>
  <dc:subject/>
  <dc:title>Aucun titre de diapositive</dc:title>
</cp:coreProperties>
</file>