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C26-8FBB-4A17-B502-B0309A7C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73B-1D91-4613-9329-5423DFCE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B23-0651-4F80-87BB-48380FA4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99C-AB8E-4385-8BED-FEEBA559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CACD-870E-48ED-A924-23C94AA3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7556-6A8B-4DAE-8FA8-414F24FF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E410-191D-4442-B9BA-AB9900F2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574B-4326-4460-8FBF-0795111A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0F74-0BDD-4CF7-93AA-C47EE441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085E-0947-4B00-896A-B402553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21E6-BF19-4697-AA7F-6B2C933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6AC-4D2F-4A40-B1B0-5AB9A6FA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7553-BEAE-42AA-B4F3-AA479608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2E99-3BB2-417D-97DE-76C62D5E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01B1-EBF6-4B89-A560-CD14D2E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3401-C4F2-42C1-B0D1-F6E35AD6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7DC6-1B25-4D06-98D7-75824B37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2AD-6B5D-4882-8F1D-9E4B475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C3A-E61C-4687-8C2B-68545FF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98-726F-49D4-8698-306D0CE3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433-03B0-4893-A886-2072ED06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41F-7A33-49BE-A76F-345CDCF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884-F0BC-441E-B8FB-97B9C0A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CD9-831E-4A95-AEB4-701EC2A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B7F4-9BC7-4EC1-BB4C-6921109A8402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DE0-9BAC-4DDA-ACEC-D9FE11CF345B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42920" y="2852640"/>
            <a:ext cx="69552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979640" y="285264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843280" y="2852640"/>
            <a:ext cx="93960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2852640"/>
            <a:ext cx="1432080" cy="61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08000" y="2997360"/>
            <a:ext cx="1432080" cy="61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8804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2476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088040" y="2952720"/>
            <a:ext cx="93996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547640" y="3068640"/>
            <a:ext cx="1432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3,5) et f(-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2,5) et f(-2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4:57Z</dcterms:modified>
  <cp:revision>15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