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184-FC09-40DD-8740-BC6208B5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0C4-23F1-4D14-9ABA-3B544037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75E-FDB0-4836-927A-3B55B2E2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595-A5A1-463C-8C33-BD22911D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1C0F-A525-4CA5-9949-A0BF73D8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6F31-9A62-43F5-892E-422662E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B24-1A83-4DAF-A961-F5669C7F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932-FE72-4D79-9C1D-06FBA93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CFC-207E-425E-B9F0-5DF6B8D1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F2A1-FEF0-4755-9F03-DB9604DC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E78B-DE5C-4F93-B75B-67C9539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BFE-A7A0-4A34-BAD8-8ED7E2D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40CC-0445-4AE5-A64E-F48335D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DEC6-7D95-4950-82F7-C419454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D3D3-2C80-4C6C-88FD-0C6FD7D1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4C36-D976-4E51-A654-91D3C483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E21-6BCE-4443-A3EA-CE97EC1F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EFD-AC1A-4894-899B-4DEB035F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EAF-8D8D-447E-AE6B-6BD783A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1E5A-E3FF-4283-AF8D-B3B4EE55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5E8-18E0-4830-BEEB-56E7BC69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0A4-56DA-42A0-BE4E-5ABE2F7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D1C-1230-4BE3-BA82-928618A0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344-7580-4CCF-A851-E5F89339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684-DEE2-40C3-ABC3-7C92FE8B6088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C22-B456-4B10-A041-E93418D68218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4720" y="364500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64500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s de 1 par la fonction f définie par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27640" y="3213000"/>
          <a:ext cx="38844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13000"/>
                    <a:ext cx="388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ress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 – 1)(x + 1) + (x + 2)(x – 1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-elle une somme ou un produit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alors le nombre de termes ou de fac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 l’express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x² – (x + 1)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dans l'équat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+2)² – 1 =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fonction f définie par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(x-1)² - x²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st-elle affine ? 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i oui l’écrire sous forme réduite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mx +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’expression de la fonction affine telle qu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0) = 3  et f( 6) = 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357336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57336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5T21:04:41Z</dcterms:modified>
  <cp:revision>10</cp:revision>
  <dc:subject/>
  <dc:title>Donner l'image de -1 par la fonction f définie par </dc:title>
</cp:coreProperties>
</file>