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464-2341-441B-BCB7-C44444B7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A02-A763-46F0-BBBA-A7311B47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A44-5A28-4091-BD1C-B4DB79FE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AD9-023B-4709-AE12-E0395A73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87CD-5296-40DB-B571-BD04A7C4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331B-5BC3-4DFA-AA06-FF8911E8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72FF-62AB-48E2-B861-02C09CBC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87BC-D193-454E-972D-07DA6D5B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4B02-5B41-4A7E-B140-8F0F8DC5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6923-2C4E-41DD-B2C7-354385C0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C0A7-3D44-4B14-B3DE-267A30C8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6AB-3B45-4806-8EFB-4D52995C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5866-28B0-4E50-9CD2-4D83903B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452E-372E-4F2D-85A0-E84D584C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E31F-1D15-4581-9E4D-CE63FACC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7B47-C95D-4264-8345-929545E5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B6F4-D8D7-4DD5-BA2D-61237A4E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DBA-E862-4279-BE8B-418D307E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643-FC03-4003-9F97-92E5334D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890-EF42-4D36-B46A-A6005001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3EF-9B1A-4280-A072-FE4C0138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7AB-72E0-4FEE-8470-DECFE780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9DB-12D0-4CAF-85C9-2FEFAF5A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FA5-5212-4892-81CB-C763510F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6B87-A5D5-479E-953D-80DDC8B7F9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0BEE-4F05-4FC5-AB2F-39D8B3840E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utomaths N°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us disposez d’une minute pa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quez droite ou gauche suivant votre place à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 y a 9 questions ( 2 points gratuits, 2 points par réponse juste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us préciserez le numéro de la question devant chaque ré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79280" y="4797360"/>
                <a:ext cx="4622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737240" y="3357720"/>
                <a:ext cx="44067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évelopp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84360" y="4869000"/>
                <a:ext cx="32893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72000" y="400536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(s) antécédents éventuels du réel 0  par f lorsque f est définie 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ser l’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00000" y="472428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72000" y="400536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435640" y="371628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0920" y="3357720"/>
                <a:ext cx="43560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(s) antécédents éventuels du réel 0  par f lorsque f est définie 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032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076720" y="465300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0920" y="407664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soudr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0" y="206064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Soit la fonction f définie par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est-elle affin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Si oui, la donner sous la forme : mx+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2708280"/>
                <a:ext cx="46353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3068640"/>
                <a:ext cx="3009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35622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s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9280" y="3716280"/>
                <a:ext cx="44071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92720" y="2924280"/>
                <a:ext cx="2946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Soit la fonction f définie par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est-elle affine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Si oui, la donner sous la forme : mx+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0" y="2781360"/>
                <a:ext cx="46353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21240" y="4221000"/>
                <a:ext cx="4622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26920" y="3068640"/>
                <a:ext cx="2946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292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545080" y="3782880"/>
                <a:ext cx="3009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364000" y="2421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14T00:02:36Z</dcterms:modified>
  <cp:revision>20</cp:revision>
  <dc:subject/>
  <dc:title>Donner l'image de -1 par la fonction f définie par </dc:title>
</cp:coreProperties>
</file>