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53D-D87C-49D7-A90F-52BF84C6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9E9-E31D-48E5-A00B-B844585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E9F-F4AC-490A-B490-507A46DC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7DD-730B-42CC-85E1-09602000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DF3-D2EE-4D8C-8613-1AD37340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E8C-C849-409E-9348-0E8795A4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9EB-3133-41AB-BA81-736080AA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B1E-5126-4E63-88AC-94AE1405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D2A-1C68-4FAD-8FD3-535934B1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515-6C08-4546-B2D6-815BB8D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C51-B7D9-4C77-BF30-47BA061C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540-2C6D-424B-986D-D59A8A40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3F82-5B45-4B3C-AF73-E3960634367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7840" y="1971720"/>
            <a:ext cx="3827880" cy="1556280"/>
            <a:chOff x="537840" y="1971720"/>
            <a:chExt cx="3827880" cy="1556280"/>
          </a:xfrm>
        </p:grpSpPr>
        <p:sp>
          <p:nvSpPr>
            <p:cNvPr id="199" name=""/>
            <p:cNvSpPr/>
            <p:nvPr/>
          </p:nvSpPr>
          <p:spPr>
            <a:xfrm>
              <a:off x="537840" y="197172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84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16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8764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360" y="21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068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916880" y="1919160"/>
            <a:ext cx="408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78000" y="2060640"/>
            <a:ext cx="3827880" cy="1556280"/>
            <a:chOff x="4878000" y="2060640"/>
            <a:chExt cx="3827880" cy="1556280"/>
          </a:xfrm>
        </p:grpSpPr>
        <p:sp>
          <p:nvSpPr>
            <p:cNvPr id="212" name=""/>
            <p:cNvSpPr/>
            <p:nvPr/>
          </p:nvSpPr>
          <p:spPr>
            <a:xfrm>
              <a:off x="4878000" y="206064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5144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24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56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2780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24520" y="222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67440" y="31575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0920" y="1989000"/>
            <a:ext cx="424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880" y="1827360"/>
            <a:ext cx="4237560" cy="4237560"/>
            <a:chOff x="335880" y="1827360"/>
            <a:chExt cx="4237560" cy="4237560"/>
          </a:xfrm>
        </p:grpSpPr>
        <p:sp>
          <p:nvSpPr>
            <p:cNvPr id="105" name=""/>
            <p:cNvSpPr/>
            <p:nvPr/>
          </p:nvSpPr>
          <p:spPr>
            <a:xfrm>
              <a:off x="447840" y="182736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826920" y="357336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335880" y="450864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72920" y="1700280"/>
            <a:ext cx="2885760" cy="4480920"/>
            <a:chOff x="5272920" y="1700280"/>
            <a:chExt cx="2885760" cy="4480920"/>
          </a:xfrm>
        </p:grpSpPr>
        <p:sp>
          <p:nvSpPr>
            <p:cNvPr id="109" name=""/>
            <p:cNvSpPr/>
            <p:nvPr/>
          </p:nvSpPr>
          <p:spPr>
            <a:xfrm>
              <a:off x="5272920" y="170028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.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83080" y="4597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68360" y="1844640"/>
            <a:ext cx="3619440" cy="3506040"/>
            <a:chOff x="468360" y="1844640"/>
            <a:chExt cx="3619440" cy="3506040"/>
          </a:xfrm>
        </p:grpSpPr>
        <p:sp>
          <p:nvSpPr>
            <p:cNvPr id="117" name=""/>
            <p:cNvSpPr/>
            <p:nvPr/>
          </p:nvSpPr>
          <p:spPr>
            <a:xfrm>
              <a:off x="46836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39640" y="1916280"/>
              <a:ext cx="1008000" cy="2952720"/>
              <a:chOff x="539640" y="1916280"/>
              <a:chExt cx="1008000" cy="2952720"/>
            </a:xfrm>
          </p:grpSpPr>
          <p:sp>
            <p:nvSpPr>
              <p:cNvPr id="119" name=""/>
              <p:cNvSpPr/>
              <p:nvPr/>
            </p:nvSpPr>
            <p:spPr>
              <a:xfrm>
                <a:off x="140328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128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964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1600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5076720" y="1916280"/>
            <a:ext cx="3619440" cy="3506040"/>
            <a:chOff x="5076720" y="1916280"/>
            <a:chExt cx="3619440" cy="3506040"/>
          </a:xfrm>
        </p:grpSpPr>
        <p:sp>
          <p:nvSpPr>
            <p:cNvPr id="124" name=""/>
            <p:cNvSpPr/>
            <p:nvPr/>
          </p:nvSpPr>
          <p:spPr>
            <a:xfrm>
              <a:off x="5076720" y="191628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148000" y="1987920"/>
              <a:ext cx="1008000" cy="2952720"/>
              <a:chOff x="5148000" y="1987920"/>
              <a:chExt cx="1008000" cy="2952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011640" y="1987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19640" y="2995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48000" y="494064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24360" y="49406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003640" y="2060640"/>
            <a:ext cx="3619440" cy="3506040"/>
            <a:chOff x="5003640" y="2060640"/>
            <a:chExt cx="3619440" cy="3506040"/>
          </a:xfrm>
        </p:grpSpPr>
        <p:sp>
          <p:nvSpPr>
            <p:cNvPr id="136" name=""/>
            <p:cNvSpPr/>
            <p:nvPr/>
          </p:nvSpPr>
          <p:spPr>
            <a:xfrm>
              <a:off x="5003640" y="2060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 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074920" y="2132280"/>
              <a:ext cx="1008000" cy="2952720"/>
              <a:chOff x="5074920" y="2132280"/>
              <a:chExt cx="1008000" cy="2952720"/>
            </a:xfrm>
          </p:grpSpPr>
          <p:sp>
            <p:nvSpPr>
              <p:cNvPr id="138" name=""/>
              <p:cNvSpPr/>
              <p:nvPr/>
            </p:nvSpPr>
            <p:spPr>
              <a:xfrm>
                <a:off x="5938560" y="2132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46560" y="3140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74920" y="5085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51280" y="5085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735120" y="1755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24000" y="1844640"/>
            <a:ext cx="3619440" cy="3506040"/>
            <a:chOff x="324000" y="1844640"/>
            <a:chExt cx="3619440" cy="3506040"/>
          </a:xfrm>
        </p:grpSpPr>
        <p:sp>
          <p:nvSpPr>
            <p:cNvPr id="144" name=""/>
            <p:cNvSpPr/>
            <p:nvPr/>
          </p:nvSpPr>
          <p:spPr>
            <a:xfrm>
              <a:off x="32400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95280" y="1916280"/>
              <a:ext cx="1008000" cy="2952720"/>
              <a:chOff x="395280" y="1916280"/>
              <a:chExt cx="1008000" cy="2952720"/>
            </a:xfrm>
          </p:grpSpPr>
          <p:sp>
            <p:nvSpPr>
              <p:cNvPr id="146" name=""/>
              <p:cNvSpPr/>
              <p:nvPr/>
            </p:nvSpPr>
            <p:spPr>
              <a:xfrm>
                <a:off x="125892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692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28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7164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56960" y="1916280"/>
            <a:ext cx="4237560" cy="4237560"/>
            <a:chOff x="4656960" y="1916280"/>
            <a:chExt cx="4237560" cy="4237560"/>
          </a:xfrm>
        </p:grpSpPr>
        <p:sp>
          <p:nvSpPr>
            <p:cNvPr id="156" name=""/>
            <p:cNvSpPr/>
            <p:nvPr/>
          </p:nvSpPr>
          <p:spPr>
            <a:xfrm>
              <a:off x="4768920" y="191628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5148000" y="366228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4656960" y="459756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01120" y="1971720"/>
            <a:ext cx="2885760" cy="4480920"/>
            <a:chOff x="501120" y="1971720"/>
            <a:chExt cx="2885760" cy="4480920"/>
          </a:xfrm>
        </p:grpSpPr>
        <p:sp>
          <p:nvSpPr>
            <p:cNvPr id="160" name=""/>
            <p:cNvSpPr/>
            <p:nvPr/>
          </p:nvSpPr>
          <p:spPr>
            <a:xfrm>
              <a:off x="501120" y="197172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280" y="486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120" y="190008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152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190008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1916280"/>
            <a:ext cx="405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198900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200" y="1827360"/>
            <a:ext cx="405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177336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380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124000" y="2565360"/>
            <a:ext cx="1440000" cy="3025800"/>
            <a:chOff x="2124000" y="2565360"/>
            <a:chExt cx="1440000" cy="3025800"/>
          </a:xfrm>
        </p:grpSpPr>
        <p:sp>
          <p:nvSpPr>
            <p:cNvPr id="190" name=""/>
            <p:cNvSpPr/>
            <p:nvPr/>
          </p:nvSpPr>
          <p:spPr>
            <a:xfrm>
              <a:off x="2124000" y="256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87640" y="55911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48000" y="55911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47Z</dcterms:modified>
  <cp:revision>27</cp:revision>
  <dc:subject/>
  <dc:title>Donner l'image de -1 par la fonction f définie par </dc:title>
</cp:coreProperties>
</file>