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02D6-0CD4-48BE-BFB8-A92EA13D3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63A4-97B9-405F-BFA4-E3BEE0229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CD43-345A-4FA8-B384-DA17EAF66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770E-B676-4245-AEAD-B71E4C4DC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85C88-CB91-4D00-AF3E-776947184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E79AB-4A4C-484A-8FF5-BCBD8E91F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A62D3-8341-481F-A177-F2DDFF0B6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76971-3A86-42FF-AF9E-CFDBFCA3D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CCB8A-3A44-4E62-8B87-938977531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892A5-D077-412E-ACFE-3F166638A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57715-FA70-4A88-B2DE-A0D81EBE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47FC-949D-4061-8D2D-4AF7D51E6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1B6C3-10A2-43E3-BF2B-E527E428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9F6E7-EC7D-4247-A430-68B42982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D6AAD-F141-4138-9606-78F95E077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7CB5C-6AC3-48F1-970E-877290071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7079F-0254-4898-8672-10C64503B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4E22-FF0D-4C94-98B6-3FE5AD05E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FED0-AF53-40AC-878C-B87CCE72F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E8B7-9234-4845-A061-7F89469E7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7353-057B-483A-B45F-038A24649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1086-4FEE-4AF6-AC06-7C58618C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0DDE-AB9F-43C3-BC2F-16EA3C13D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17AC-43C5-4F68-B048-14C223AD1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4b4e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b4eb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76b7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b7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c481c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b4eb5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4709a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9E0F0-AC5A-40A6-999F-A29C0F8C000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76b7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b74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4b4e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b4eb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c481c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64F1A-7433-453D-853A-7FE134CD2035}" type="slidenum">
              <a:rPr b="0" lang="en-US" sz="1400" spc="-1" strike="noStrike">
                <a:solidFill>
                  <a:srgbClr val="333333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42920" y="33300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Tahoma"/>
              </a:rPr>
              <a:t>Automaths 1 (question 1)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Quel est la nature du nombre 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²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onner l’écriture scientifique de 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31437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4932360" y="2205000"/>
            <a:ext cx="0" cy="388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Tahoma"/>
              </a:rPr>
              <a:t>Automaths 1(question 10)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Quelle est la nature du nombre  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1/3 - 4/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Quel est la nature du nombre 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²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4932360" y="2205000"/>
            <a:ext cx="0" cy="388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Tahoma"/>
              </a:rPr>
              <a:t>Automaths 1(question 2)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Qu’est ce qu’un rationnel 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iter parmi tous les ensembles de nombres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eux qui contiennent 1/2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4932360" y="2205000"/>
            <a:ext cx="0" cy="388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Tahoma"/>
              </a:rPr>
              <a:t>Automaths 1(question 3)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onner l’écriture scientifique de 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31437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 quels ensembles de nombres appartient  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084720" y="4437000"/>
            <a:ext cx="1979640" cy="927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932360" y="2205000"/>
            <a:ext cx="0" cy="388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Tahoma"/>
              </a:rPr>
              <a:t>Automaths 1(question 4)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Donner l’écriture scientifique  de :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0,000523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Un nombre décimal est-il toujours un rationnel 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2205000"/>
            <a:ext cx="0" cy="388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Tahoma"/>
              </a:rPr>
              <a:t>Automaths 1(question 5)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iter parmi tous les ensembles de nombres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eux qui contiennent 1/2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Un rationnel est-il toujours un nombre décimal 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4470480" y="3206880"/>
                <a:ext cx="20304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4932360" y="2205000"/>
            <a:ext cx="0" cy="388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Tahoma"/>
              </a:rPr>
              <a:t>Automaths 1(question 6)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932000" y="20606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Qu’est ce qu’un rationnel 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826920" y="2060640"/>
            <a:ext cx="3673800" cy="46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Un rationnel est-il toujours un décimal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601280" y="4151160"/>
            <a:ext cx="2971800" cy="19814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932360" y="2205000"/>
            <a:ext cx="0" cy="388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Tahoma"/>
              </a:rPr>
              <a:t>Automaths 1(question 7)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 quels ensembles de nombres appartient  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Quelle est la nature du nombre  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1/3 - 4/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4932360" y="2205000"/>
            <a:ext cx="0" cy="388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476360" y="4437000"/>
            <a:ext cx="1979640" cy="92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Tahoma"/>
              </a:rPr>
              <a:t>Automaths 1(question 8)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182600" y="2805120"/>
            <a:ext cx="3810240" cy="25401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68360" y="2060640"/>
            <a:ext cx="4319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iter parmi tous les ensembles de nomb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eux qui contienn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3/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32360" y="2205000"/>
            <a:ext cx="0" cy="388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Donner l’écriture scientifique  de :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0,000523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Tahoma"/>
              </a:rPr>
              <a:t>Automaths 1(question 9)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Un nombre décimal est– il toujours un rationnel 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iter parmi tous les ensembles de nomb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eux qui contienn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3/7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4932360" y="2205000"/>
            <a:ext cx="0" cy="388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1T23:50:51Z</dcterms:created>
  <dc:creator>CLEMENT ODILE</dc:creator>
  <dc:description/>
  <dc:language>en-US</dc:language>
  <cp:lastModifiedBy>CLEMENT ODILE</cp:lastModifiedBy>
  <dcterms:modified xsi:type="dcterms:W3CDTF">2008-08-05T00:43:37Z</dcterms:modified>
  <cp:revision>17</cp:revision>
  <dc:subject/>
  <dc:title>Calcul mental 1</dc:title>
</cp:coreProperties>
</file>