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183-A26E-41A1-AE6A-5D115392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96E-6014-442A-A975-8F16E603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A31-E0D6-46E9-BAF4-6D35FCAE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6F5-C9BE-4F41-AF1B-104CA03D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0F57-2820-4755-A7A0-8C3B8A7F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B5A7-F47B-4A0F-8196-B98B0DB4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B727-A4DB-4EA2-945D-5EF3E254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5674-F2B7-4EF9-A3E0-E83A661D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5F45-8373-4E5C-9DA6-CAD88F00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FC5C-3677-4E87-A8D9-13D65FDB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9028-576F-465C-8950-468DDAB2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F66-D785-4524-A2B8-F4F89031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1948-3712-4D0A-AF0F-3DE84608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FB47-EFFB-41C7-92EF-EB013ACD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46DC-A4E4-42F6-B2BE-6BC29448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C49A-9631-4F9D-A9FC-7D3BED1F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F812-E012-43AE-8E46-08FE2F7A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DFD-3EDC-4634-8D99-ECD4DA41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93D-83B6-4CDB-AC9E-621E6C1F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C39-8F37-42FC-88AE-622823D6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903-DCFC-4803-A4E2-B986E06B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A79-5F16-4DE2-9B14-9BA8493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1FF-70CB-41AA-8EB3-980ABF9F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EBF-724D-48BD-B10C-3FFD48B7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07F1-9B02-454F-9116-CAF2A6191D0F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98D5-B109-40BE-A4ED-85E8BDE5A900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4600"/>
            </a:br>
            <a:r>
              <a:rPr b="0" lang="fr-FR" sz="4600" spc="-1" strike="noStrike">
                <a:solidFill>
                  <a:srgbClr val="006633"/>
                </a:solidFill>
                <a:latin typeface="Garamond"/>
              </a:rPr>
              <a:t>Seconde 8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280" y="2924280"/>
            <a:ext cx="7561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solutions d’ é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us disposez de  45 secondes par question. Il y a  9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rème : 2 points gratuits, deux points par réponse exacte, 0,5 point enlevé par réponse faus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9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x + 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2)(x-2)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1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oudre dans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7(x-5)= -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3x+5= 3(x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20500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 X² =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a étant un réel donné et x l’inconn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e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6 = 3(x+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3x+5= 3(x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oudre dans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7(x-5)= - 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6 = 3(x+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    X² =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a étant un réel donné et x l’inconn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e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5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1)(x-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6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² + 1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x + 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7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1)(x-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8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2)(x-2)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² + 1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5-19T22:34:08Z</dcterms:modified>
  <cp:revision>6</cp:revision>
  <dc:subject/>
  <dc:title>CR2</dc:title>
</cp:coreProperties>
</file>