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15A-397A-441E-9651-0CDAB609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BF4-6970-4E55-97F7-D0418FC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E90-C60B-48E8-9559-9C1D942F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C53-2412-45B9-BF4A-7C95B480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7BCD-BF28-4D3C-A4A8-4DFD3F43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61C-7ACD-4B80-8BCF-6F0841F5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69E8-A672-4074-985C-DDA986C9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8668-59C8-4ADA-B27C-8CA9650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9AD-7085-4390-BE69-FCBBA7EF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A855-3963-446D-B4C8-2937986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2AC-99E4-4F87-8343-6E58D96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530-DDBB-4B5C-B44B-9F9CF2F2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5AA3-2504-49C6-B77C-F217F54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CE9F-1B6E-4022-838D-88AE4C1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BB05-450A-4529-8532-3641DBB0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F19-8DC7-4B6D-ADF9-AAE20523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BB24-9F62-4F29-A9F4-00781479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981-108D-4DD2-859A-6C82342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3CA-B17A-4333-B944-0C21E5DB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46D-8C94-4F43-A32A-27AF44CA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D8A-A9C7-46F4-97E4-898FD82F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481-BCB0-4E4D-8227-879D4769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336-C0C8-4219-A2BB-B66DF81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B40-69A5-4CBE-B0FB-234FBD1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8FA-71D8-41A5-9CC2-11133F10C9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F75-D055-4577-A75B-D0B67998D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3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: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un encadrement de A-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9079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l‘inéq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57880" y="2946240"/>
                <a:ext cx="2286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71640" y="328464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un encadrement 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3x + 2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nner un encadrement du réel : -3x+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l‘inéqu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80000" y="342900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48:18Z</dcterms:modified>
  <cp:revision>17</cp:revision>
  <dc:subject/>
  <dc:title>Donner l'image de -1 par la fonction f définie par </dc:title>
</cp:coreProperties>
</file>