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4ED-59C0-4BCB-B13E-B10CBE91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3C4-7E20-45A1-BBCE-0FC1FB5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490-8A78-4C78-9332-EE4AAE2C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A6F-FC18-4DC2-BFC9-1EABA89E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52C-3B61-4962-9BF6-F0D11D5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CAD-3D3C-473E-8223-2CBD29E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611A-C186-4037-A65E-EEA24F12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945-FC85-431E-A5C2-3C80DB0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516-9458-49E3-ACE4-07BC18B6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1D7-1FE5-42C4-95FC-CBCDEDC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FC65-A73D-45FA-8A70-DCDFCFC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C61-C0E0-4AFD-B4D2-3237D7A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8EB4-CC8B-40A8-A001-E8AAECA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3B5C-5FC3-42BE-B5F9-0FD0BF8A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DA69-1DDA-43E9-A7A7-28D2D1B0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DAB2-9305-4E21-B39A-8D4EC45B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8104-CBE4-40F0-BAE2-EC7BF6B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AC0-7FE2-4893-835D-5F97998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19D-096E-404B-AB7F-2C43EFBB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C84-2400-4FD2-A3E4-48F1332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F0D-78C9-4440-B5EB-C53B954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CF4-1E11-4CF0-873A-847AD10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232-38F7-40CA-B56A-3650812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4B2-08D2-4E9F-BEF8-6039D53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0A6-5850-4900-B1A8-9B1F69FD2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802F-F8B2-43F1-B817-5EE927A6B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306864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76720" y="3357720"/>
          <a:ext cx="3884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357720"/>
                    <a:ext cx="3884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200" y="2852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84640"/>
          <a:ext cx="388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388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06864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19640" y="292428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92428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320" y="28526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292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7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33240" y="2303640"/>
            <a:ext cx="356220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28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2960" y="25653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3500280"/>
                <a:ext cx="1905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356000" y="407664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7664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50028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3068640"/>
                <a:ext cx="1905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26:19Z</dcterms:modified>
  <cp:revision>16</cp:revision>
  <dc:subject/>
  <dc:title>Donner l'image de -1 par la fonction f définie par </dc:title>
</cp:coreProperties>
</file>