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F1B-1471-4F48-B415-A1F52547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F33-6DA5-4371-831B-4EECC0DE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E29-4446-4B80-A6D7-97728053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872-508C-4D11-BB4C-AEB7833F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8A0A-DBBA-4822-9D31-CDF60036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7C89-25D5-42FD-A114-52441B6C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E240-FFDB-4262-BD41-6B1E266B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CEE1-7AB1-4830-81A4-11AC2B1B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CC0-CF32-47FE-9D6E-C717A955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13A-B420-4E79-AF74-33C97DBD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CBA1-226A-4ABD-AB01-3AE8B68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639-0173-42D7-87BD-DF97CD57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2223-DC71-4E2E-A5DA-0F76737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5CBD-B96B-4237-A065-A3491FE0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28B4-2F57-42C8-AEB1-E8A9D6C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6E1A-1B32-4588-9BCF-E621FA05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CA0A-29F7-4492-B693-1180BE3B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5D1-DAA4-451A-94D7-90A07CF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7C6-1724-4D8C-98F3-EE4D6206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3B0-2621-4F7B-9A28-489FBA47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46C-359E-40C3-BC60-39D8DBB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120-6FEC-4F19-B9B1-FD17623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D8A-A227-4AAA-B962-A14E033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333-BDC3-4D5C-AB17-878DB33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B57-0869-4F52-9416-2F4853A56A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22E3-FCD6-4632-B7DD-DFF843C1E7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060640"/>
            <a:ext cx="6400800" cy="93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314136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considère la droite (d) d’équation :5x + 3y = 150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considère la droite (d) d’équation :  -2x + 3y = 9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ln) ‘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1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e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ri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8 + 3ln2 – ln4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fonction de l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3x² + 2ln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 f ’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5x+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x²+ 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4:33:42Z</dcterms:created>
  <dc:creator>Mignot Nathalie</dc:creator>
  <dc:description/>
  <dc:language>en-US</dc:language>
  <cp:lastModifiedBy>Mignot Nathalie</cp:lastModifiedBy>
  <dcterms:modified xsi:type="dcterms:W3CDTF">2008-08-01T05:06:19Z</dcterms:modified>
  <cp:revision>3</cp:revision>
  <dc:subject/>
  <dc:title>Activité mentale</dc:title>
</cp:coreProperties>
</file>