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A7A9-2F27-45B9-8966-77E29ECC7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37F5-8517-4119-BCD9-082CA90D6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F9F6-6526-485F-A764-9A4A87EB4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D076-864F-44A1-BD4E-5CB053B80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0F1EB-BD56-47E2-AA10-796C1DF2A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5D995-2B2E-4C36-B715-868F1623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355C8-0FF4-461E-8938-66ECE0B7C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4BA9C-877E-4ADA-9AA5-381F8EB0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79A71-DBEB-458E-AE57-51F7D828D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C0BBD-A036-4D4E-BAF4-78505D8D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DA774-BEC9-42B2-8E75-7005463E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4AF7-A00E-4277-ACCA-D3F59191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97FF4-2E6B-4093-ACA2-430C0FAA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8A863-424C-400D-88BA-B1D4C6AD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2A914-7FAE-4285-9972-4BE7DD722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3D339-6468-459D-B7E0-E9EC7FAD0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7ABAC-3347-45CD-B3D6-55FD0F670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217F-17ED-461A-B6CE-E6A572D7A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C7C6-0E87-4635-B2AB-0EF848854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BF43-7590-4606-A214-F28190EF4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525D-36E6-4175-AFF8-D5973CDB0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697A-32A7-4A62-8393-1C28812C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E47B-1DD0-4DB2-A9C0-6ADD4496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8ADF-CA37-47F7-A9CD-871DF7BB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642BF-5C7E-4822-B2BC-7C14D3F8DAAA}" type="slidenum">
              <a:rPr b="0" lang="fr-FR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FF30B-CBEF-4FC4-BB54-1AE45C6321B7}" type="slidenum">
              <a:rPr b="0" lang="fr-FR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ntrôl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éparez une feuille de répons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ttez votre no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érotez dix lignes de 1 à 1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us aurez 40 secondes par ques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ans une série statistique double comment obtient –on le point moyen du nuag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9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50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ans une série statistique double  , la droite obtenue avec les formules de la calculatrice est la droite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10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50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mule de dérivée :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96" name=""/>
          <p:cNvGraphicFramePr/>
          <p:nvPr/>
        </p:nvGraphicFramePr>
        <p:xfrm>
          <a:off x="4527720" y="3887640"/>
          <a:ext cx="116820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7720" y="3887640"/>
                    <a:ext cx="116820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6012000" y="476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1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50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ez la dérivée de :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103" name=""/>
          <p:cNvGraphicFramePr/>
          <p:nvPr/>
        </p:nvGraphicFramePr>
        <p:xfrm>
          <a:off x="3695760" y="3989520"/>
          <a:ext cx="2832120" cy="49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95760" y="3989520"/>
                    <a:ext cx="2832120" cy="49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2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50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ez la dérivée de :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110" name=""/>
          <p:cNvGraphicFramePr/>
          <p:nvPr/>
        </p:nvGraphicFramePr>
        <p:xfrm>
          <a:off x="4324320" y="3944880"/>
          <a:ext cx="157500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4320" y="3944880"/>
                    <a:ext cx="157500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3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50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24000" y="980640"/>
            <a:ext cx="6477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(1) =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……</a:t>
            </a:r>
            <a:br>
              <a:rPr sz="48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’ (1) =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4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140360" y="2781360"/>
            <a:ext cx="3924000" cy="3848040"/>
          </a:xfrm>
          <a:prstGeom prst="rect">
            <a:avLst/>
          </a:prstGeom>
          <a:ln w="0">
            <a:noFill/>
          </a:ln>
        </p:spPr>
      </p:pic>
    </p:spTree>
  </p:cSld>
  <p:transition advTm="50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i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ez  le coefficient directeur de la tangente au point d’absciss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123" name=""/>
          <p:cNvGraphicFramePr/>
          <p:nvPr/>
        </p:nvGraphicFramePr>
        <p:xfrm>
          <a:off x="4229280" y="1341360"/>
          <a:ext cx="285732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29280" y="1341360"/>
                    <a:ext cx="285732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5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50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i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 quelle valeur de x,  la tangente est-elle « horizontale 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130" name=""/>
          <p:cNvGraphicFramePr/>
          <p:nvPr/>
        </p:nvGraphicFramePr>
        <p:xfrm>
          <a:off x="4229280" y="1341360"/>
          <a:ext cx="285732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29280" y="1341360"/>
                    <a:ext cx="285732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6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50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ans une série statistique double, l’ensemble des points que l’on place dans un repère s’appelle ….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7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50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ans une série statistique doubl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, essayer de placer une droite passant le plus près possible des points du nuage revient à réaliser un ajustement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8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50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8:38:38Z</dcterms:created>
  <dc:creator>Admin</dc:creator>
  <dc:description/>
  <dc:language>en-US</dc:language>
  <cp:lastModifiedBy>CLEMENT ODILE</cp:lastModifiedBy>
  <dcterms:modified xsi:type="dcterms:W3CDTF">2008-08-17T19:48:14Z</dcterms:modified>
  <cp:revision>25</cp:revision>
  <dc:subject/>
  <dc:title>Donner l'image de -1 par la fonction f définie par </dc:title>
</cp:coreProperties>
</file>