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8BC-B863-4578-B5EE-FD71DAFD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229-36C9-4621-B245-45F65DC5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F07-1E85-4A74-BBE0-9FAABECB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B37-E4E7-41FE-B629-61401B74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DC14-1AEB-431E-8AED-6A9F9333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8017-AB2B-4A68-A027-AC535754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A4EA-E8B1-424F-A331-A4B366CD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36FA-0116-4015-9E70-17783B8B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7866-1F9C-4068-BE8B-0B0767E7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26D-A0A7-4330-A297-A3F77B1B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7011-4AC3-47B5-8335-5F0C602E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F0D-279E-4BDE-9C67-E15901C6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9D7-AF31-4710-AE2E-6D189A7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B91A-96B2-4252-8912-79C28CE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D445-DEA5-440F-9FFE-B8E0D4FC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CF0F-73A0-47E3-8435-5C579308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AF78-177E-47DE-B638-7F75CF26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C2B-5D4E-472E-A4F3-9F09891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3F9-4E49-4268-AEA2-DE61F508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513-33F5-42D5-8C60-8C27C1E8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835-C4C6-4657-A936-294B3813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952-ED50-40D2-9691-40D549EB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918-8FFD-45FA-9628-AD7073F8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4BD-8704-43FA-A4FB-F0D57D3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5CA4-D283-460E-9519-8EC06689879C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4226-29A7-4D29-AC4C-FB748C23BBC3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7:37Z</dcterms:modified>
  <cp:revision>21</cp:revision>
  <dc:subject/>
  <dc:title>Donner l'image de -1 par la fonction f définie par </dc:title>
</cp:coreProperties>
</file>