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6F03-F15D-4E89-8FFA-7D1C97A2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F25-758C-4650-9416-B25FB141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39B7-87CB-4C9B-88F8-0C1D3F62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C232-6E08-474A-A986-4E357314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17F0-DD1B-4BC8-BC1A-8031A4D2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468E-0853-450B-8C52-26B6402F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B826-121F-4B75-9EEC-6EA93CE8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2E73-3CA6-4B43-ADFA-1556AFDE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5F08-9734-4A0D-8CFC-74279856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8AEE-CB8A-4164-B974-16633329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F626-27A2-4C11-975E-07175099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07B-1CE7-4B9C-83E8-0882116A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7DBC-E7A3-4424-BDBC-320B3995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B1EE-8655-47CB-8D0D-C542FA31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F1B5-AD12-402D-84EB-250EAA2F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F0B9-16A1-4992-84FC-CCBDE8E6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9000-AD25-40B6-B0B2-0DA542E3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BAFD-8074-4755-9D4A-65300F17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B997-07C3-4959-A6EF-04019669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9C8-BC4B-491A-A46A-EC217A92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962-3E03-46CA-AD9E-391732FD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ABF-EED1-4174-BB93-EE78E17D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1D66-9802-429D-83D0-634E9CDE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062-0E0C-44E7-88D7-76F55F5F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D495-95CE-4882-A279-63C099B86EA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BA60-69A8-4ABB-A52C-E9FEC744C32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Vous aurez 3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16360" y="1916280"/>
                <a:ext cx="3035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59280" y="3357720"/>
                <a:ext cx="1015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z le tableau de signes de la déri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48960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52920" y="3633840"/>
                <a:ext cx="11178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654440" y="3919680"/>
                <a:ext cx="91440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u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49600" y="3989520"/>
                <a:ext cx="3124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260960" y="3944880"/>
                <a:ext cx="1701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413240" y="3716280"/>
                <a:ext cx="13971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’ 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’ 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 le coefficient directeur de la tangente au point d’abscis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40360" y="1341360"/>
                <a:ext cx="30351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Mignot Nathalie</cp:lastModifiedBy>
  <dcterms:modified xsi:type="dcterms:W3CDTF">2008-08-01T04:28:02Z</dcterms:modified>
  <cp:revision>22</cp:revision>
  <dc:subject/>
  <dc:title>Donner l'image de -1 par la fonction f définie par </dc:title>
</cp:coreProperties>
</file>