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05C2-E8F4-49EB-82E5-460F2CBF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F856-0617-4B49-8430-07C903C0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B40B-53E1-4AD9-8900-F39711C97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07C9-1E2B-4CE9-AA5B-3988787C7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FEBB-1CCE-40FD-9393-4C9A1B12D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B2C7-146D-4631-98A6-12A82124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2DAE-B724-4D31-A4D7-6736FD34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5B3A-0416-40E8-B42F-38760F43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5AAD-33AF-4633-A868-CE639B5D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32D1-C659-4860-9B9C-7D226AC0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E4D6-E0E4-4A28-936C-9E825A39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915D-BD45-4573-8318-42A46E54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A8C3-A202-40A4-80B3-8DFA8160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FCA8-5FBC-466A-808C-62518E93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BD7F-774F-4ECD-9EFC-02BE54E6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C31E-85C2-4D3B-9B64-2449A0EF1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7061-FB34-45A8-8243-97983385C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AC4F-A1AD-4405-B934-C9A9CF9C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1E5F-1791-419F-8AC7-23AF3F0D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0C93-2FC4-4A80-9C6A-B758966D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BD52-E417-403F-9A32-5B39069E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1508-00F9-4078-8E55-E5279AC4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68C6-CD17-463C-BA34-82F3A6A1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D8FD-4F8E-4B25-A06F-CA9960F0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00E4-B328-40E4-9B2C-C982FAB1AC6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61840" y="-177840"/>
            <a:ext cx="2427120" cy="2246760"/>
            <a:chOff x="7161840" y="-177840"/>
            <a:chExt cx="2427120" cy="2246760"/>
          </a:xfrm>
        </p:grpSpPr>
        <p:grpSp>
          <p:nvGrpSpPr>
            <p:cNvPr id="39" name=""/>
            <p:cNvGrpSpPr/>
            <p:nvPr/>
          </p:nvGrpSpPr>
          <p:grpSpPr>
            <a:xfrm>
              <a:off x="7161840" y="-177840"/>
              <a:ext cx="2427120" cy="2246760"/>
              <a:chOff x="7161840" y="-177840"/>
              <a:chExt cx="2427120" cy="224676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0480" y="1632600"/>
                <a:ext cx="9828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61840" y="-177840"/>
                <a:ext cx="2427120" cy="2246760"/>
                <a:chOff x="7161840" y="-177840"/>
                <a:chExt cx="2427120" cy="224676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73920" y="21600"/>
                  <a:ext cx="24264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04600" y="435240"/>
                  <a:ext cx="42696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03280" y="197280"/>
                  <a:ext cx="8013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73840" y="-120960"/>
                  <a:ext cx="12031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399880" y="1332000"/>
                  <a:ext cx="26784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29680" y="118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03800" y="241920"/>
                  <a:ext cx="2869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46200" y="133920"/>
                  <a:ext cx="2836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21280" y="42480"/>
              <a:ext cx="66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04640"/>
            <a:ext cx="8675640" cy="645336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6000" y="134100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09BF-F5EB-4E70-975A-CB438D0B79F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68360" y="476280"/>
            <a:ext cx="2549520" cy="1101240"/>
            <a:chOff x="468360" y="476280"/>
            <a:chExt cx="2549520" cy="1101240"/>
          </a:xfrm>
        </p:grpSpPr>
        <p:sp>
          <p:nvSpPr>
            <p:cNvPr id="93" name=""/>
            <p:cNvSpPr/>
            <p:nvPr/>
          </p:nvSpPr>
          <p:spPr>
            <a:xfrm>
              <a:off x="525960" y="504720"/>
              <a:ext cx="2403720" cy="100008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4080" y="587160"/>
              <a:ext cx="2397600" cy="990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43120" y="668880"/>
              <a:ext cx="1589760" cy="9036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468360" y="476280"/>
              <a:ext cx="2549520" cy="1063080"/>
              <a:chOff x="468360" y="476280"/>
              <a:chExt cx="2549520" cy="1063080"/>
            </a:xfrm>
          </p:grpSpPr>
          <p:sp>
            <p:nvSpPr>
              <p:cNvPr id="97" name=""/>
              <p:cNvSpPr/>
              <p:nvPr/>
            </p:nvSpPr>
            <p:spPr>
              <a:xfrm>
                <a:off x="2479320" y="1249200"/>
                <a:ext cx="226440" cy="2102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68360" y="476280"/>
                <a:ext cx="2549520" cy="106308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83280" y="486000"/>
                <a:ext cx="1801440" cy="603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74000" y="577440"/>
                <a:ext cx="242280" cy="4032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240920" y="857880"/>
                <a:ext cx="738000" cy="3578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67360" y="4458240"/>
            <a:ext cx="979920" cy="1159560"/>
            <a:chOff x="7767360" y="445824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62680" y="480024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37480" y="477900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05600" y="476280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67360" y="4458240"/>
              <a:ext cx="979920" cy="1159560"/>
              <a:chOff x="7767360" y="445824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886160" y="520344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27760" y="479088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05680" y="489744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484120" y="470088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23400" y="490140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0000" y="515772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1557360"/>
            <a:ext cx="888840" cy="38088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2000" y="1700280"/>
            <a:ext cx="6400800" cy="1008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Activité mentale</a:t>
            </a: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900000" y="3068640"/>
            <a:ext cx="7559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quer vos nom et prénom sur votre feu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y a 10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us disposez de 30 à 45 secondes par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1258920" y="1413000"/>
            <a:ext cx="6265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(x)= x² + 2x +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éterminer l’équation de la tangente à la courbe de f au point d’abscisse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1403280" y="1557360"/>
            <a:ext cx="6121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it   f ’(x) = -x²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 est le sens de variation de la fonction f 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836640"/>
            <a:ext cx="6870600" cy="91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191120" y="3009960"/>
                <a:ext cx="6858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1258920" y="1920960"/>
            <a:ext cx="6121440" cy="33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 suite arithmét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 premier terme 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52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t de raison r = 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t 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1547640" y="1920960"/>
            <a:ext cx="5310360" cy="33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 suite géométriqu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 premier terme 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2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t de raison r =1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t 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1476360" y="1413000"/>
            <a:ext cx="5545080" cy="33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 suite arithmét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 premier terme 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25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t de raison r =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…+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1341360"/>
            <a:ext cx="6481800" cy="27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 suite géométr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 premier terme 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10 000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t de raison r = 1,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…+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1403280" y="1341360"/>
            <a:ext cx="5977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 capital de 5000 F est placé à intérêt composé à un taux de 3%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le capital obtenu au bout de 10 a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1692360" y="170028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(x) = 4x² + 2ln(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f ’(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1619280" y="155736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(x) = ln(2x+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f ’(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1619280" y="1628640"/>
            <a:ext cx="509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ésoudre l’inéq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n(3x-5) &lt;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22:09:42Z</dcterms:created>
  <dc:creator>Mignot Nathalie</dc:creator>
  <dc:description/>
  <dc:language>en-US</dc:language>
  <cp:lastModifiedBy>Mignot Nathalie</cp:lastModifiedBy>
  <dcterms:modified xsi:type="dcterms:W3CDTF">2008-09-08T22:21:26Z</dcterms:modified>
  <cp:revision>2</cp:revision>
  <dc:subject/>
  <dc:title>Activité mentale</dc:title>
</cp:coreProperties>
</file>