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A95-D7B5-4E02-8250-37EC08F5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43D-3F1B-44A0-89BE-BF91321C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F62-6970-40E0-BC66-9733A605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3DE-F6E0-4819-995F-31B54636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3164-252C-49B9-9AF5-BEDCA458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A108-B340-4326-8F08-DCB95D64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62D6-F40C-4550-972B-FD550A6A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FD7F-604D-4B96-BA7A-825F0073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DB90-1910-4426-A9B9-67941FE5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B97A-CD97-486D-88E8-6CF55BCB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35D8-9A0F-4E49-9B86-7919BDF9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F36-B63B-47A8-8488-AE5D69F6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73E3-AFC7-4FEC-81E9-3BD06DFE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46FC-4887-4BAA-B07F-884B5E91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82CC-977F-47C6-B0C1-E9C10CC4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8460-C437-4374-A6D5-5A49F198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D968-E413-4D41-A945-C97B3A74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D16-2051-47D5-A371-62BF5670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05F-4AFC-4D89-A0B7-D5086607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E4A-0433-44BD-A708-A0747DB6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073-4A10-4883-89F9-28F45771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711-647F-4C1A-9785-FD28C6C4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4CC-C2E5-4E1A-B5C2-E78B6087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B3D-F8AE-4E5A-888D-3A1CA44A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40AE-DCA1-48A4-B0CC-CB94996304F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0B59-4C64-4C00-9CAD-BDE8F016910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3068640"/>
            <a:ext cx="727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us disposez de 45 secondes pa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1557360"/>
            <a:ext cx="504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une fo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916360" y="2585880"/>
          <a:ext cx="1882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585880"/>
                    <a:ext cx="1882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87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1557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une fo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843280" y="2421000"/>
          <a:ext cx="2660760" cy="15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421000"/>
                    <a:ext cx="266076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227664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ét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191120" y="3009960"/>
                <a:ext cx="68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57" name=""/>
          <p:cNvGraphicFramePr/>
          <p:nvPr/>
        </p:nvGraphicFramePr>
        <p:xfrm>
          <a:off x="2268360" y="3213000"/>
          <a:ext cx="362916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213000"/>
                    <a:ext cx="3629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177336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cas d’équiprobabilité, comment calculer la probabilité d’un événement A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03280" y="1557360"/>
          <a:ext cx="618192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18192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619280" y="2997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er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‘ (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773360"/>
            <a:ext cx="3571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x² ln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‘ 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1484280"/>
            <a:ext cx="61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considère la droite (d) d’équation :  x + 2y = 16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erminer les coordonnées des points d’intersection de la droite (d) et des ax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ésoudre l’équation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n (x) =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1844640"/>
            <a:ext cx="64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a formule de l’équation d’une tangente à la courbe d’une fonction f au point d’abscisse  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1413000"/>
            <a:ext cx="590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rire la formule permettant de calculer   t    pour   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1+t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,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04:26:59Z</dcterms:created>
  <dc:creator>Mignot Nathalie</dc:creator>
  <dc:description/>
  <dc:language>en-US</dc:language>
  <cp:lastModifiedBy>Mignot Nathalie</cp:lastModifiedBy>
  <dcterms:modified xsi:type="dcterms:W3CDTF">2008-08-24T04:58:14Z</dcterms:modified>
  <cp:revision>5</cp:revision>
  <dc:subject/>
  <dc:title>Activité mentale</dc:title>
</cp:coreProperties>
</file>