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198-A5A4-4D49-9C60-D78051F6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437-44ED-4C1E-BD1F-157CC03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0AE-2115-4912-BBA7-20F59096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937-93BB-41D2-AC8C-C8D248A4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8D3-FAAD-41F4-97E6-5C40CB52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923-FA86-47BE-B8D3-929B04A9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365-1F3A-47C8-A861-05993554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A20-305E-4DD8-82EA-711E960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010-957A-4B65-AFAC-32B82FEA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DC5-E3A5-4F13-B7B2-6499DE9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F42-DB89-461A-92D9-86883EAE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9D1-C134-407F-84D4-125956C5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4764-ACBA-4622-8DA7-2118C31B022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8 primitives et intég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620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62240" y="1660680"/>
            <a:ext cx="3929760" cy="3797280"/>
            <a:chOff x="4962240" y="1660680"/>
            <a:chExt cx="3929760" cy="3797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076720" y="342900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962240" y="166068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2276640"/>
            <a:ext cx="4176720" cy="3506040"/>
            <a:chOff x="395280" y="2276640"/>
            <a:chExt cx="4176720" cy="3506040"/>
          </a:xfrm>
        </p:grpSpPr>
        <p:sp>
          <p:nvSpPr>
            <p:cNvPr id="197" name=""/>
            <p:cNvSpPr/>
            <p:nvPr/>
          </p:nvSpPr>
          <p:spPr>
            <a:xfrm>
              <a:off x="395280" y="227664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702080" y="4583160"/>
                  <a:ext cx="279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ransition advTm="45000">
    <p:zoom dir="ou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16360" y="2205000"/>
            <a:ext cx="4176720" cy="3506040"/>
            <a:chOff x="4716360" y="2205000"/>
            <a:chExt cx="4176720" cy="3506040"/>
          </a:xfrm>
        </p:grpSpPr>
        <p:sp>
          <p:nvSpPr>
            <p:cNvPr id="203" name=""/>
            <p:cNvSpPr/>
            <p:nvPr/>
          </p:nvSpPr>
          <p:spPr>
            <a:xfrm>
              <a:off x="4716360" y="220500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6023160" y="4511880"/>
                  <a:ext cx="2793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5" name=""/>
          <p:cNvGrpSpPr/>
          <p:nvPr/>
        </p:nvGrpSpPr>
        <p:grpSpPr>
          <a:xfrm>
            <a:off x="374400" y="1989000"/>
            <a:ext cx="3929760" cy="3797280"/>
            <a:chOff x="374400" y="1989000"/>
            <a:chExt cx="3929760" cy="3797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8880" y="375732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74400" y="198900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5000"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7920" y="1827360"/>
            <a:ext cx="3038040" cy="2854080"/>
            <a:chOff x="547920" y="1827360"/>
            <a:chExt cx="3038040" cy="2854080"/>
          </a:xfrm>
        </p:grpSpPr>
        <p:sp>
          <p:nvSpPr>
            <p:cNvPr id="105" name=""/>
            <p:cNvSpPr/>
            <p:nvPr/>
          </p:nvSpPr>
          <p:spPr>
            <a:xfrm>
              <a:off x="547920" y="182736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5800" y="40338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4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604400" y="2060640"/>
            <a:ext cx="4356360" cy="3287520"/>
            <a:chOff x="4604400" y="2060640"/>
            <a:chExt cx="4356360" cy="3287520"/>
          </a:xfrm>
        </p:grpSpPr>
        <p:sp>
          <p:nvSpPr>
            <p:cNvPr id="109" name=""/>
            <p:cNvSpPr/>
            <p:nvPr/>
          </p:nvSpPr>
          <p:spPr>
            <a:xfrm>
              <a:off x="4604400" y="206064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808520" y="416700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38640" y="1916280"/>
            <a:ext cx="3477600" cy="3171600"/>
            <a:chOff x="5138640" y="1916280"/>
            <a:chExt cx="3477600" cy="3171600"/>
          </a:xfrm>
        </p:grpSpPr>
        <p:sp>
          <p:nvSpPr>
            <p:cNvPr id="117" name=""/>
            <p:cNvSpPr/>
            <p:nvPr/>
          </p:nvSpPr>
          <p:spPr>
            <a:xfrm>
              <a:off x="5390640" y="191628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 su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 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138640" y="380520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202320" y="227664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0520" y="1844640"/>
            <a:ext cx="3477600" cy="3171600"/>
            <a:chOff x="560520" y="1844640"/>
            <a:chExt cx="3477600" cy="3171600"/>
          </a:xfrm>
        </p:grpSpPr>
        <p:sp>
          <p:nvSpPr>
            <p:cNvPr id="126" name=""/>
            <p:cNvSpPr/>
            <p:nvPr/>
          </p:nvSpPr>
          <p:spPr>
            <a:xfrm>
              <a:off x="812520" y="184464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s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60520" y="373356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4450320" y="242100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04080" y="1989000"/>
            <a:ext cx="3038040" cy="2854080"/>
            <a:chOff x="5104080" y="1989000"/>
            <a:chExt cx="3038040" cy="2854080"/>
          </a:xfrm>
        </p:grpSpPr>
        <p:sp>
          <p:nvSpPr>
            <p:cNvPr id="135" name=""/>
            <p:cNvSpPr/>
            <p:nvPr/>
          </p:nvSpPr>
          <p:spPr>
            <a:xfrm>
              <a:off x="5104080" y="198900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241960" y="419544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480240" y="1827360"/>
            <a:ext cx="4356360" cy="3287520"/>
            <a:chOff x="480240" y="1827360"/>
            <a:chExt cx="4356360" cy="3287520"/>
          </a:xfrm>
        </p:grpSpPr>
        <p:sp>
          <p:nvSpPr>
            <p:cNvPr id="139" name=""/>
            <p:cNvSpPr/>
            <p:nvPr/>
          </p:nvSpPr>
          <p:spPr>
            <a:xfrm>
              <a:off x="480240" y="182736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84360" y="393372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46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795320" y="317340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4716360" y="2060640"/>
            <a:ext cx="4176720" cy="3268080"/>
            <a:chOff x="4716360" y="2060640"/>
            <a:chExt cx="4176720" cy="3268080"/>
          </a:xfrm>
        </p:grpSpPr>
        <p:sp>
          <p:nvSpPr>
            <p:cNvPr id="150" name=""/>
            <p:cNvSpPr/>
            <p:nvPr/>
          </p:nvSpPr>
          <p:spPr>
            <a:xfrm>
              <a:off x="4716360" y="206064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292720" y="4128120"/>
                  <a:ext cx="173988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57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081160" y="2798640"/>
                  <a:ext cx="69840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4875120" y="2205000"/>
            <a:ext cx="3786480" cy="3949920"/>
            <a:chOff x="4875120" y="2205000"/>
            <a:chExt cx="3786480" cy="3949920"/>
          </a:xfrm>
        </p:grpSpPr>
        <p:sp>
          <p:nvSpPr>
            <p:cNvPr id="161" name=""/>
            <p:cNvSpPr/>
            <p:nvPr/>
          </p:nvSpPr>
          <p:spPr>
            <a:xfrm>
              <a:off x="487512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740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27696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30760" y="2133720"/>
            <a:ext cx="3786480" cy="3949920"/>
            <a:chOff x="4730760" y="2133720"/>
            <a:chExt cx="3786480" cy="3949920"/>
          </a:xfrm>
        </p:grpSpPr>
        <p:sp>
          <p:nvSpPr>
            <p:cNvPr id="169" name=""/>
            <p:cNvSpPr/>
            <p:nvPr/>
          </p:nvSpPr>
          <p:spPr>
            <a:xfrm>
              <a:off x="4730760" y="213372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2320" y="452736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329160" y="2727360"/>
                  <a:ext cx="69804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73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88424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75120" y="1916280"/>
            <a:ext cx="3786480" cy="3949920"/>
            <a:chOff x="4875120" y="1916280"/>
            <a:chExt cx="3786480" cy="3949920"/>
          </a:xfrm>
        </p:grpSpPr>
        <p:sp>
          <p:nvSpPr>
            <p:cNvPr id="181" name=""/>
            <p:cNvSpPr/>
            <p:nvPr/>
          </p:nvSpPr>
          <p:spPr>
            <a:xfrm>
              <a:off x="4875120" y="191628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7400" y="430992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188040" y="288468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179280" y="2043000"/>
            <a:ext cx="4176720" cy="3214800"/>
            <a:chOff x="179280" y="2043000"/>
            <a:chExt cx="4176720" cy="3214800"/>
          </a:xfrm>
        </p:grpSpPr>
        <p:sp>
          <p:nvSpPr>
            <p:cNvPr id="185" name=""/>
            <p:cNvSpPr/>
            <p:nvPr/>
          </p:nvSpPr>
          <p:spPr>
            <a:xfrm>
              <a:off x="179280" y="204300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55640" y="4076640"/>
                  <a:ext cx="17398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20T02:03:52Z</dcterms:modified>
  <cp:revision>33</cp:revision>
  <dc:subject/>
  <dc:title>Donner l'image de -1 par la fonction f définie par </dc:title>
</cp:coreProperties>
</file>