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71E-4AA7-476F-9EAD-A529A341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EDC-C4D0-476C-9145-AE96A82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2F1-D09B-4001-BC3C-6DC3F394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DF4-69C6-4DFE-B856-99E8DC06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B828-B9DD-45A3-9B19-7420DB7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19A-811B-4F00-AEFB-674FEACF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156A-53E2-4BDF-81B2-37388BD9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638-E8BC-4F09-A9AF-D09BBEE3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E66-6C8A-45F1-9C3B-7F2D551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E160-DA86-4CA7-929B-AD50BB5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43F-A6B5-462C-808C-F54552A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BCB-5CF9-4646-A98D-7BD02CC3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A99E-7342-45DA-8CD5-8478F7A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90D4-6774-4B6C-9C5C-0FD3A64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288-E88A-4856-A02C-7A65FE6C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8D2A-BF88-41FC-8330-296C5B3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372D-A58A-41C6-9CBB-87FC95F4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2BB-EF72-42A1-BEEC-011224B9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941-FE0B-41CA-A7B1-B2D531E9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641-773D-4594-84AB-8AF8101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216-1B66-4DD3-AE91-A97B3DE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E5C-5B29-47F1-A137-075FD09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245-4B19-41DB-8A70-A0CE81B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A66-695E-40E8-97A7-F24C2D1B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811-ABE9-46AE-B6C3-E7430520A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FAA-91C8-4637-89F0-25F34A8DFEEA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bilités 1. Automath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votre nom 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us disposer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y a neuf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ème : 2 points gratuits et deux points par questions exactes. Il n’est pas tenu compte de la rédaction, seule la réponse m’importe mais des calculs intermédiaires sont parfois nécess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4720" y="5805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164360" y="537372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34000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59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640" y="321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263700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14172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0920" y="3933360"/>
            <a:ext cx="936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29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53880" y="3645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09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2240" y="306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24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492280"/>
            <a:ext cx="6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640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160" y="522936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terminer P(A     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0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400536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87640" y="4581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544500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deux événements A et B indépendants et p(A  B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3933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3816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645000"/>
            <a:ext cx="861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221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71640" y="321300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371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43280" y="443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797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84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0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860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221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242100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6920" y="299736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0" y="2205000"/>
            <a:ext cx="43210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 totales permettant de calculer p(B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19640" y="3860280"/>
            <a:ext cx="8622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50864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15772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72360" y="472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328428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789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5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86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224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0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240" y="551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537372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573408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01120" y="2781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1168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512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6560" y="24210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9480" y="429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1628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93080" y="256500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92428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80360" y="3789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414972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52472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88508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168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296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168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8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712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429264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4941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le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ra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060640"/>
            <a:ext cx="36738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: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43280" y="4797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 deux événements A et B indépend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   B) = 0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372360" y="3357720"/>
                <a:ext cx="317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8000" y="234936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,7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072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3080" y="285264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03640" y="3573360"/>
                <a:ext cx="762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 flipV="1">
            <a:off x="521964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22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149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4370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515772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5589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4760" y="522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14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2240" y="4941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2240" y="558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353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06064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es permettant de calculer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5640" y="364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50846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0760" y="33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068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733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076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653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50920" y="33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95640" y="4365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653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64500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7-08T04:03:37Z</dcterms:modified>
  <cp:revision>28</cp:revision>
  <dc:subject/>
  <dc:title>Calcul mental 1</dc:title>
</cp:coreProperties>
</file>