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127-4C22-467C-AA49-3D40B190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D46-DC89-4A86-98C7-7DA1E54E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460-81A7-4D08-9CBF-A226387E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143-A00E-4E63-8748-84CF2532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71EC-D805-42C5-BDC6-9FB03AF1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AB49-CA89-4D16-8B21-0D750B2C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4785-131A-43B9-9741-54586CC0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BABC-C1FD-41F7-A23A-FA7394DC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0959-0DA2-4648-963A-0F224E71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B59-E5FB-44B8-B966-A65BD57B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94B6-C9F2-457B-871C-DC7A506C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1EE-7D78-4154-A027-8FC29868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4317-EBCB-4C96-AD80-3E2F8C5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AD77-ECB3-42AD-B8E0-2210106E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6CFF-C40D-404D-B5C3-F133AC21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8AC0-3906-462B-B4BC-1A62042F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1154-277D-4CF2-9996-D2F231BA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108-2C4B-4179-8BD4-22A2F35A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0CA-92CF-4C2F-B3AE-33B69530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FA5-3CCD-4B28-9475-75D07742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CEC-9E9A-49F7-A25B-57E32875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BA6-CDB2-406B-BB10-1870A18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86D-B9B8-4A70-AD90-E775D5CE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7D2-D51C-436A-AFAF-00A66470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1CC7-FC4B-47EA-9C59-85AD7CA9F2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B4AE-6E7E-4CF3-8BB4-7203E9EFDE7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4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403280" y="299736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51640" y="45086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24360" y="5516640"/>
                <a:ext cx="2159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, 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76720" y="4724280"/>
                <a:ext cx="3492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6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 ,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3645000"/>
                <a:ext cx="3492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35280" y="4149720"/>
                <a:ext cx="175248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12000" y="306864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32000" y="2852640"/>
                <a:ext cx="1307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435640" y="422100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81200" y="38768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55640" y="4941720"/>
                <a:ext cx="2158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4076640"/>
                <a:ext cx="17524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4360" y="393372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88000" y="2708280"/>
                <a:ext cx="130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5:05Z</dcterms:modified>
  <cp:revision>25</cp:revision>
  <dc:subject/>
  <dc:title>CR2</dc:title>
</cp:coreProperties>
</file>