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243-0AE7-434B-8364-619ACC6D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268-048F-47F5-828B-9D304223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5C4-6A6E-4F2F-8A50-8FFA7EEB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5DB-8720-4371-9416-01677D10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343-902E-491F-A513-7FF4A851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E05-EE15-4E4E-B8E9-0DEC5E7C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613-4216-47D8-890C-B6BB04AE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019-878D-4803-ADAF-DB08C863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CEE-FAA8-401D-A7C6-BFADCF8C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6D6-A2BC-42B0-A7A0-6DBB3B57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5C4-5D10-409D-9DAF-B81A6C26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F95-EBE7-4274-B08C-0082618A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82D2-1FD5-4E99-89EC-2292978B6852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6 - 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 30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916280"/>
            <a:ext cx="4427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droite (AB) cou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en A et elle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le à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(1,1,1) et B(4,5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équation de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8640" y="1773360"/>
            <a:ext cx="4640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doit vér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pour qu’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soit ortho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)parallèle 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48240" y="1916280"/>
            <a:ext cx="4595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droite (AB) cou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en A et elle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le à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(1,1,1) et B(4,5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équation de P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134640" y="1773360"/>
            <a:ext cx="4640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doit vér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pour qu’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soit ortho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)parallèle 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5440" y="1755720"/>
            <a:ext cx="4466160" cy="4054680"/>
            <a:chOff x="235440" y="1755720"/>
            <a:chExt cx="4466160" cy="4054680"/>
          </a:xfrm>
        </p:grpSpPr>
        <p:sp>
          <p:nvSpPr>
            <p:cNvPr id="105" name=""/>
            <p:cNvSpPr/>
            <p:nvPr/>
          </p:nvSpPr>
          <p:spPr>
            <a:xfrm>
              <a:off x="235440" y="1755720"/>
              <a:ext cx="4466160" cy="40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Quelle est l’express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 AB.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n fonction de l’ang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3200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7964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84360" y="4581000"/>
              <a:ext cx="2156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00000" y="4581360"/>
              <a:ext cx="2872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796280" y="1773360"/>
            <a:ext cx="39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s un trian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conque d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longueurs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tés sont a , b et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rs : a² = 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40" y="1844640"/>
            <a:ext cx="441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tique du prod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aire dans l’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en fonction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onnée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32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) à la dro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 : ax+by +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3240" y="1773360"/>
            <a:ext cx="441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tique du prod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aire dans l’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en fonction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onnée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68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) à la dro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 : ax+by +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47240" y="1916280"/>
            <a:ext cx="4466160" cy="4054680"/>
            <a:chOff x="4647240" y="1916280"/>
            <a:chExt cx="4466160" cy="4054680"/>
          </a:xfrm>
        </p:grpSpPr>
        <p:sp>
          <p:nvSpPr>
            <p:cNvPr id="131" name=""/>
            <p:cNvSpPr/>
            <p:nvPr/>
          </p:nvSpPr>
          <p:spPr>
            <a:xfrm>
              <a:off x="4647240" y="1916280"/>
              <a:ext cx="4466160" cy="40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Quelle est l’express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 AB.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n fonction de l’ang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3800" y="2941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440" y="2941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096160" y="4741560"/>
              <a:ext cx="2156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1800" y="4741920"/>
              <a:ext cx="2872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56120" y="1900080"/>
            <a:ext cx="39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s un trian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conque d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longueurs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tés sont a , b et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rs : a² = 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68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,z)  au plan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 : ax+by +cz + d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43080" y="1628640"/>
            <a:ext cx="37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plans suiv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t-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lè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ux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:      x-2y+3z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’ : -2x+4y -6z =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76160" y="1916280"/>
            <a:ext cx="2575440" cy="3506040"/>
            <a:chOff x="776160" y="1916280"/>
            <a:chExt cx="2575440" cy="3506040"/>
          </a:xfrm>
        </p:grpSpPr>
        <p:grpSp>
          <p:nvGrpSpPr>
            <p:cNvPr id="148" name=""/>
            <p:cNvGrpSpPr/>
            <p:nvPr/>
          </p:nvGrpSpPr>
          <p:grpSpPr>
            <a:xfrm>
              <a:off x="798120" y="1916280"/>
              <a:ext cx="2553480" cy="3506040"/>
              <a:chOff x="798120" y="1916280"/>
              <a:chExt cx="2553480" cy="3506040"/>
            </a:xfrm>
          </p:grpSpPr>
          <p:sp>
            <p:nvSpPr>
              <p:cNvPr id="149" name=""/>
              <p:cNvSpPr/>
              <p:nvPr/>
            </p:nvSpPr>
            <p:spPr>
              <a:xfrm>
                <a:off x="798120" y="1916280"/>
                <a:ext cx="2553480" cy="350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On donne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u( 3 ; 1 ; -5 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Et  v(5 ; 3 ; 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Calculer u.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88880" y="4957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47800" y="4957920"/>
                <a:ext cx="28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76160" y="30132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52520" y="402264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833000" y="2060640"/>
            <a:ext cx="386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ciser ce que l’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it du plan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x- y + 5z + 5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117400" y="1844640"/>
            <a:ext cx="2553480" cy="3506040"/>
            <a:chOff x="5117400" y="1844640"/>
            <a:chExt cx="2553480" cy="3506040"/>
          </a:xfrm>
        </p:grpSpPr>
        <p:sp>
          <p:nvSpPr>
            <p:cNvPr id="160" name=""/>
            <p:cNvSpPr/>
            <p:nvPr/>
          </p:nvSpPr>
          <p:spPr>
            <a:xfrm>
              <a:off x="5117400" y="1844640"/>
              <a:ext cx="25534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On don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u( 3 ; 1 ; -5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Et  v(5 ; 3 ; 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Calculer u.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08520" y="488628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67440" y="4886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148360" y="29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4480" y="1971720"/>
            <a:ext cx="386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ciser ce que l’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it du plan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x- y + 5z + 5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9532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,z)  au plan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 : ax+by +cz + d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" y="1700280"/>
            <a:ext cx="37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plans suiv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t-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lè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ux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:      x-2y+3z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’ : -2x+4y -6z =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06T08:35:14Z</dcterms:modified>
  <cp:revision>28</cp:revision>
  <dc:subject/>
  <dc:title>Donner l'image de -1 par la fonction f définie par </dc:title>
</cp:coreProperties>
</file>