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C468-B1BD-4DFF-9317-504C0A94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68C-1755-4ED4-B13E-4278A825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06D-8458-44DA-9827-4B9143BA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2C44-9F30-46C5-900C-534536DD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A71C-352C-41A1-9D68-16E3C7AA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6619-9C3E-42E1-AB61-E39E0A1F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8F7B-B763-461D-A1FE-34CD8D6B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5E64-E591-4FA7-A4E0-AA5FA7FC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6D0C-C29C-4EE6-B4CA-5D169895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607B-7618-4A29-9C20-3081168B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EC64-6D7B-464F-ABA5-60594109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26C-3261-45F2-84FE-7450CDB0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0EF0-4781-4D29-8081-C2041764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F533-E387-4E89-9DFD-EB2DF930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5045-2015-436A-ACE7-AC45757E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08B1-8B29-45ED-9248-835BEB30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7493-ACAE-4AA2-BDD6-6860EB27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92A-37F7-41AE-84B1-DA932DC4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2071-3B86-43B0-B821-2CE6002D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D3A-EB0C-4FD3-831A-4E8D23AF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92E-5DB6-4015-B50C-E54524E2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B92-E6C2-49CB-9AC9-4F0D94F2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159B-A049-46C0-BB3B-91D2BB85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3D7-A4D0-4C9A-A722-B95F0EFC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666720"/>
            <a:ext cx="438120" cy="474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1089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15920"/>
            <a:ext cx="56052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13413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22D1-B11E-4213-979C-FA0FECCEC5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35000" y="404640"/>
            <a:ext cx="9009000" cy="1052640"/>
            <a:chOff x="135000" y="404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425520" y="512640"/>
              <a:ext cx="711360" cy="474840"/>
              <a:chOff x="425520" y="512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25520" y="51264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08560" y="512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49360" y="934920"/>
              <a:ext cx="737640" cy="474840"/>
              <a:chOff x="549360" y="934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549360" y="93492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18000" y="934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35000" y="861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0040" y="40464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51080" y="1226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7D2D-F5A9-41E2-922F-F3CC47F14B4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AM6 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360" y="1268280"/>
            <a:ext cx="7634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Sur la copie, précisez  droite ou gauche suivant votre position dans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Vous disposez de  40 secondes  par quest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Il y a  10 ques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On notera z</a:t>
            </a:r>
            <a:r>
              <a:rPr b="0" i="1" lang="fr-FR" sz="1600" spc="-1" strike="noStrike">
                <a:solidFill>
                  <a:srgbClr val="000000"/>
                </a:solidFill>
                <a:latin typeface="Rockwell Extra Bold"/>
              </a:rPr>
              <a:t>A</a:t>
            </a:r>
            <a:r>
              <a:rPr b="0" i="1" lang="fr-FR" sz="3200" spc="-1" strike="noStrike">
                <a:solidFill>
                  <a:srgbClr val="000000"/>
                </a:solidFill>
                <a:latin typeface="Rockwell Extra Bold"/>
              </a:rPr>
              <a:t> 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l’affixe de A , z</a:t>
            </a:r>
            <a:r>
              <a:rPr b="0" i="1" lang="fr-FR" sz="1600" spc="-1" strike="noStrike">
                <a:solidFill>
                  <a:srgbClr val="000000"/>
                </a:solidFill>
                <a:latin typeface="Rockwell Extra Bold"/>
              </a:rPr>
              <a:t>B</a:t>
            </a: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l’affixe de B , …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= 4+3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’affixe z du point M vérifi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 pouvez vous en déduire pour les points A(2i) , B(-2) et M(z)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4500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435640" y="2852640"/>
                <a:ext cx="24001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3810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affixe z du point M vérifi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pouvez vous en déduire pour les points A(2i) , B(-2) et M(z)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87640" y="1916280"/>
            <a:ext cx="3881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orsqu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&lt;0 , écrire les solutions de l’équatio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z²+bz+c = 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 où l’inconnue z est un complexe , a ,b, c réels et a non nu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916280"/>
            <a:ext cx="0" cy="43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87280" y="2781360"/>
                <a:ext cx="24004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43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M(z) et A(2+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er AM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2000" y="198900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en fonction des affixes de A et B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l’affixe du vecteur 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 l’affixe du milieu de [AB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213372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386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utilisant les affix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 points M,N,P Comment calculer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MN , MP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42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422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2133720"/>
            <a:ext cx="35640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M(z) et A(2+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r A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en fonction des affixes des points A et B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l’affixe du vecteur 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 l’affixe du milieu de [AB]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35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plan complexe est rapporté au repère (O,u,v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mment calcul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u , AB ) en utilisant les affixes de A et 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3068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6764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2720" y="479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plan complexe est rapporté au repère (O,u,v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mment calcul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u , AB ) en utilisant les affixes de A et 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utilisant les affix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 points M,N,P Comment calcul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MN , MP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42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414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414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3814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orsqu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&lt;0 , écrire les solutions de l’équatio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z²+bz+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 où l’inconnue z est un complexe , a ,b, c réels et a non nu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suppose qu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P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A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peut-on dire du complex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867280" y="4365720"/>
                <a:ext cx="16765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suppose qu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P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A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peut-on dire du complex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1640" y="177336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= 4+3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4365720"/>
                <a:ext cx="16761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+3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+3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+3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7640" y="2017800"/>
            <a:ext cx="416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+3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6-30T07:36:08Z</dcterms:modified>
  <cp:revision>39</cp:revision>
  <dc:subject/>
  <dc:title>CR2</dc:title>
</cp:coreProperties>
</file>