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D101-AD55-469E-9855-6D4D9DF4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2DA-C3BE-4F1F-8326-7D655520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3026-66A0-4ACF-8AE9-1709CA2A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1A84-2832-43C7-BDA9-98E7C05B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5B08-3349-4DE9-A966-D1A82130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D5C6-FE67-41ED-9097-233ABD4B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2340-D0AA-4950-9914-306C718E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DA00-3637-4794-BB68-C0ED5AAE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BB83-9F29-475D-9F42-642783E9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3A17-8F72-43DF-9699-A0E43FDE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06A4-7CB7-4B53-8236-B3CD6898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FF87-135D-4166-9777-94AA9FFE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B956-CB73-4609-AC72-01FC3747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9596-B390-4A4E-90EF-01E008F2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865C-F3DC-4BFD-8396-530FA775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97BD-7A7B-439C-B3BE-C15D869FF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F18E-4C73-48AB-ACF4-0148F200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342F-BB41-4087-8FD7-2CA3D374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F582-8806-4D44-8FBC-8DD48A04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3188-382A-4093-A84B-8CA9B358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EC4F-4D4F-41EC-96AA-541BEE32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750D-DE1D-47FB-9147-E6A3CCF2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14E-CCC5-4A94-9D0C-C48EBB73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3180-1875-498D-8833-1BBB4ACF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13413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CC52-CC4C-46DE-B5B2-820F3C49D7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7960-BBF0-4297-A213-2927219B787C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IE2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560" y="1773360"/>
            <a:ext cx="7634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emière partie sur 15 poi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z de  45 secondes  par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l y a  9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rème : 1,5 point gratuit, 1,5 point par réponse exacte, 0,5 point enlevé par réponse fausse , 0 point pour non réponse. Relevez le numéro de la question et donner la répo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uxième partie sur 5 point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rez alors de  5 minu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2017800"/>
            <a:ext cx="445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 le module de z est r et qu’un argument de z est a , préciser alors le module et un argument  du complexe z²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’est-ce que la forme algébrique d’un complexe ?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259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Le final sur 5 points et en 5  minutes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nombres complexes z et z’ sont donnés sous forme trigonométriq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alors la forme trigonométrique du produit zz’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montrer cette formu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elles sont les formules permettant de passer de la forme algébrique à la forme trigonométriqu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Donner une interprétation </a:t>
            </a:r>
            <a:r>
              <a:rPr b="0" lang="en-US" sz="3300" spc="-1" strike="noStrike" u="sng">
                <a:solidFill>
                  <a:srgbClr val="000000"/>
                </a:solidFill>
                <a:uFillTx/>
                <a:latin typeface="Tahoma"/>
              </a:rPr>
              <a:t>géométrique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du module d’un complex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227664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’est-ce que la forme algébrique d’un complexe ?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crire 1/z  en fonction du module de z et de son conjugué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162864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’est ce que la forme trigonométrique d’un complexe non nul ?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elles sont les formules permettant de passer de la forme algébrique à la forme trigonométriqu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Donner une interprétation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ahoma"/>
              </a:rPr>
              <a:t>géométrique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 du module d’un complex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armi ces  4 nombres , quels sont les complexes qui ont même module que z ?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z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 conjugué de z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’opposé de z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’inverse de z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57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crire 1/z  en fonction du module de z et de son conjugué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Z est un réel non nul si et seulement si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Arg(Z)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Z est un réel non nul si et seulement si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Arg(Z)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Z est un imaginaire pur non nul si et seulement si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Arg(Z)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Z est un imaginaire pur non nul si et seulement si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Arg(Z)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’est ce que la forme trigonométrique d’un complexe non nul ?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armi ces  4 nombres , quels sont les complexes qui ont même module que z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2z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e conjugué de z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’opposé de z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’inverse de z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 le module de z est r et qu’un argument de z est a , préciser alors le module et un argument  du complexe z²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7-08T04:02:21Z</dcterms:modified>
  <cp:revision>14</cp:revision>
  <dc:subject/>
  <dc:title>CR2</dc:title>
</cp:coreProperties>
</file>