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13D8-42BC-4B30-9C6D-036D1507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809B-9940-46A2-8056-1F9B661F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6020-3520-4827-A247-79D1E1D8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EC1B-BA5E-4E4D-8774-C2EF4DC0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6D4D-385A-4DE2-A254-FE3A465C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1F1F-71CB-4A5D-8A31-80D4A0D3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A904-BC75-453C-8A25-6DAAFB44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7F4B-9768-4E81-AD0A-7156147E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8FA3-BAF8-44F0-8C84-5CAC21FC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8B8B-E3FB-41D3-ACCD-2B23BAE3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CDFB-DD6E-419A-B40B-641E75B2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A8B8-8E0A-4A39-93F4-949C0A2E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2A28-7854-4D99-A62F-3E647D04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E676-F5BE-40BE-9053-8B810254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8446-67C3-4DE3-B4CE-FA811F5F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17F9-0B39-4579-83D2-C480BEB6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0F45-76B7-4291-80B3-87D0FA65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EAF2-16D0-4C57-B0DA-AD74B527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5ABE-11F4-44E4-B418-526A48B4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545C-479E-4826-8C14-4EC97FC0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6303-97C7-4941-96FE-DF2AD41D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B45B-DE17-4F9A-BFE6-8B42CDC9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E06E-3F50-4027-A982-5D3D9C38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3742-ACF7-4DF3-9C07-46BD7313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EAF1-E792-457F-A7EE-F556F13A10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7960-A174-4CD6-AAD7-89D1FA8EF2B8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5f7b"/>
                </a:solidFill>
                <a:latin typeface="Tahoma"/>
              </a:rPr>
              <a:t>IE3  term .S</a:t>
            </a:r>
            <a:br>
              <a:rPr sz="4000"/>
            </a:b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6560" y="1773360"/>
            <a:ext cx="7634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r 10 poi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ous disposez de  45 secondes  par ques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l y a  9 ques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rème : 1 point gratuit, 1 point par réponse exacte, pas de point enlevé par réponse fauss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levez le numéro de la question et donner la répon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(x)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crire la formule donnant la dérivée de la fonction v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340000" y="3429000"/>
                <a:ext cx="8636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4818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Compléter :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  Alors, pour h voisin de zéro, on peut écrire 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(a+h)   ≈ ………………..……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227664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39640" y="4365720"/>
                <a:ext cx="344196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2017800"/>
            <a:ext cx="43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crire la formule donnant la dérivée de la fonction v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(x)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588000" y="3500280"/>
                <a:ext cx="99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2017800"/>
            <a:ext cx="474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  Alors, pour h voisin de zéro, on peut écrire 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(a+h)   ≈ ………………..……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76640" y="1989000"/>
            <a:ext cx="416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  Donner l’équation de la tangente  à la courbe représentative de f au point d’abscisse 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201780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  Alor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’(a) a une signification graphique par rapport au graphe de f 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’(a) est ……………………………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0328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Compléter :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1773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64000" y="3716280"/>
                <a:ext cx="34419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(x)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(x) =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484360" y="3500280"/>
                <a:ext cx="99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588000" y="3500280"/>
                <a:ext cx="8636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crire la formule permettant de calculer la dérivée de  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(x)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659640" y="3500280"/>
                <a:ext cx="11174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627280" y="3429000"/>
                <a:ext cx="3175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(x)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crire la formule permettant de calculer la dérivée de  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411280" y="3500280"/>
                <a:ext cx="11178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732720" y="3429000"/>
                <a:ext cx="3175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suppose  que f est dérivable en a.   Donner l’équation de la tangente  à la courbe représentative de f au point d’abscisse 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suppose  que f est dérivable en a.   Alor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’(a) a une signification graphique par rapport au graphe de f 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’(a) est …………………………………………………………………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7-08T04:02:46Z</dcterms:modified>
  <cp:revision>17</cp:revision>
  <dc:subject/>
  <dc:title>CR2</dc:title>
</cp:coreProperties>
</file>