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B5B-1D91-4B5B-BE19-F984ACA8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475-588A-43B6-AC6A-5B93C3BA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D93-DB2C-486B-8635-A4D99DD0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39E-4847-4E5D-B2EC-FE6B08B2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AD65-76FA-4A0B-B670-63704E37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E0AE-1154-492C-9F20-88EF715D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FC3C-1E3C-4A05-AD4E-941892C3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8377-3723-444D-B2C7-A7ACA03F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88A0-939E-49AE-A27C-C5615592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E0DC-6872-4148-A2C2-0F18A65E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2A3C-F9FF-4587-B2D3-E5D21420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A42-00C1-4EEA-A09D-A162647E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4988-36A6-4E16-BBDE-EDFC6E3A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CB1C-53A6-4E16-A133-B9986B72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DE85-9554-429F-9481-A4132C19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D882-05CD-4E9E-85A3-0E7BE22A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F89A-342E-4F9E-A451-68A7E4DF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DD4-0157-474A-8E4A-AA469FAB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71D-2063-4C2C-97D1-8968C44D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568E-F019-452E-8188-8484FC36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C80-47D8-424A-84C3-1436232A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C4A-5B20-48A2-9633-2D284F52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2AA-28CF-4D59-97EF-8BF8DA97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168-3F03-4421-BBDB-30489FAD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B08E-8BFF-43A4-A10A-085031F34B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644C-07D5-4313-B9E7-1C2B03C6CA83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Devoir N°3( une heure )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 devoir est en deux parties sur 10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première partie est une série de 10 questions notées 1 point chacune ; vous disposez de 50 secondes par qu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cette première partie, la calculatrice est interd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quez sur votre feuille 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ivant votre position dans votre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deuxième partie, vous disposerez de la calculatrice et du temps re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9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On donne la variance d’une série : V = 0,36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La fonction f est donnée sur [0 ; 5]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a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 est ……. sur [0 ; 5]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084720" y="2852640"/>
                <a:ext cx="22482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0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urcentage de la population dont les modalités sont  comprises entre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remier décile et le neuvième décile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fonction f est donnée sur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[1 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 :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 est ……. sur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[1 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012000" y="2852640"/>
                <a:ext cx="2519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4032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nnaitre les deux fo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ge  et Ble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63640" y="2060280"/>
            <a:ext cx="3591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3616560" cy="424800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67360" y="2852640"/>
            <a:ext cx="407664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17160" y="5157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68120" y="35733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70036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00360" y="393372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4508640"/>
            <a:ext cx="28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4508640"/>
            <a:ext cx="0" cy="86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537372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2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nnaitre les deux fo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ge :……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eu : ……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2648160" cy="3241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2924280"/>
            <a:ext cx="4076640" cy="1447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19640" y="580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91080" y="58770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58920" y="573408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573408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3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- a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03480" y="445140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658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859280" y="2997360"/>
            <a:ext cx="4076640" cy="1447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4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4720" y="1844280"/>
            <a:ext cx="4535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nnaitre les deux fo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ge :……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eu : ……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2648160" cy="3241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4076640" cy="1447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093080" y="551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0160" y="55166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659640" y="544500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7235640" y="544500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5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36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a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235640" y="1700280"/>
            <a:ext cx="17190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nnaitre les deux fonc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ge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e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067280" y="2133720"/>
            <a:ext cx="3616200" cy="424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2881440"/>
            <a:ext cx="3995640" cy="1419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292720" y="4221000"/>
            <a:ext cx="287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80000" y="4221000"/>
            <a:ext cx="0" cy="86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508464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76480" y="38606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53880" y="486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579640" y="4149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5580000" y="508428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6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La fonction f est donnée sur [0 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 est ……. sur [0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63640" y="2924280"/>
                <a:ext cx="2247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7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La fonction f est donnée sur [1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 est ……. sur [1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donne la variance d’une série : V = 0,3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692360" y="2852640"/>
                <a:ext cx="2519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8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 pourcentage de la population dont les modalités sont  comprises entre le premier décile et le neuvième déci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03T06:52:16Z</dcterms:modified>
  <cp:revision>31</cp:revision>
  <dc:subject/>
  <dc:title>Donner l'image de -1 par la fonction f définie par </dc:title>
</cp:coreProperties>
</file>