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C39-1303-4753-A5A2-655D8B53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640-2268-45B2-B844-2C7AD277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46B-9F54-4157-99C4-D6291065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6AD-02A1-4B5B-B972-DABC5C5C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0D65-0B84-4292-924A-DFB00B23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6A43-808F-42CF-9A2D-7ED96BE9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0B64-78DC-4CA0-A58E-0E5049B4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A1AC-D798-4F5A-8E14-F257C53C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6BF2-83B1-4163-A486-09D0DFCA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DD42-675E-4D2D-B093-57A983EA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67E4-D4DC-4D38-A37B-AB82F9CC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485-E30C-473C-AD04-B9070E85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AC62-98E8-4D7F-B5F2-9AAFDD37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9F27-DBAC-464D-BA66-8DC7F0C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E4DE-98E4-4F76-BB7B-B80A22EB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F83D-A383-4EE9-B7F4-AEE24832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B28E-1845-4BBC-8662-F23FE378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2B1-D766-4B8D-9C66-CDB6BCAC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87A-9434-49A3-A857-B48787BE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BA9-E4E7-4B6A-93EF-07158F39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01F-CED9-421D-B9B7-678944C3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F28-40B1-413D-AFC2-476952CD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943-5437-42C7-A52F-121B0689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47A-39F4-470E-B990-0E319F14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b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ad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b3ce82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6C80-EAA7-410A-A388-10B78D3C4AF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ad4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bf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3ce8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CD7B-9595-4E85-B022-275DD18B69AC}" type="slidenum">
              <a:rPr b="0" lang="fr-FR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171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4076"/>
                </a:solidFill>
                <a:latin typeface="Tahoma"/>
              </a:rPr>
              <a:t>CR1 : Question N° 1 </a:t>
            </a:r>
            <a:endParaRPr b="0" lang="en-US" sz="36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4608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45% des élèves d’un lycée pratiquent le foot et parmi eux , 30% le pratiquent plus de 6 heures par sema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élèves du lycée qui jouent au foot plus de 6 heures par semain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76360" y="19162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iminue un prix de 20%, puis de 1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quel pourcentage le prix a-t-il diminu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menter de 120% revient à multiplier par ……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% des sourds sont mue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il y a dans une population 1300 sourds , combien sont sourds et mue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femmes dans la population suivante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mmes : 1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mes : 18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axe sur les services est de 5,5%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prix du menu , taxes comprises , est de 2553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rix du menu hors tax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% des sourds sont mue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il y a dans une population 1300 sourds , combien sont sourds mue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35280" y="177336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5% des élèves d’un lycée pratiquent le foot et parmi eux , 30% le pratiquent plus de 6 heures par sema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élèves du lycée qui jouent au foot plus de 6 heures par semain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axe sur les services est de 5,5%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prix du menu , taxes comprises , est de 2553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rix du menu hors tax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3,5% revient à le multiplier par : …………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20% puis l’augmenter de 20% revient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 rien change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2%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4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2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120% revient à multiplier par ……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capital de 100 000F a été placé au taux annuel de 4,6 %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nouveau capital acquis au bout de 6 a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20% puis l’augmenter de 20% revient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 rien change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2%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4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2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1773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iminue un prix de 20%, puis de 1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quel pourcentage le prix a-t-il diminué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femmes dans la population suivante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mmes : 1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mes : 18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3,5% revient à le multiplier par : …………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164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capital de 100 000F a été placé au taux annuel de 4,6 %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nouveau capital acquis au bout de 6 a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0:22:12Z</dcterms:created>
  <dc:creator>CLEMENT ODILE</dc:creator>
  <dc:description/>
  <dc:language>en-US</dc:language>
  <cp:lastModifiedBy>CLEMENT ODILE</cp:lastModifiedBy>
  <dcterms:modified xsi:type="dcterms:W3CDTF">2008-03-11T06:54:29Z</dcterms:modified>
  <cp:revision>19</cp:revision>
  <dc:subject/>
  <dc:title>Question N° 1 </dc:title>
</cp:coreProperties>
</file>