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FFE-7A3F-429A-967D-C1BD60B4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018-3AFA-42A1-B459-02077CD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B9C-CC07-4BD0-B0D3-4BE5E38C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EDD-D9C6-4321-9A4C-6C09BF6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DB-1660-465C-9E6C-2DFFD3A1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2F0-2859-4731-8CC9-1DD2DBB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353-74BA-4D06-823F-D37D5503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CC8-6907-4C1A-AAEE-84A6F9F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07D-009E-4CDA-9730-A34C785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598-B6E9-43B6-90B5-1CFFC8A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E2D-CA56-4426-8868-ED02884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1BF-B84C-4F07-A85A-AE4D222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251-56EA-468F-80B6-75D4BB1C54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40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80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5580000" y="2133720"/>
            <a:ext cx="2881440" cy="2595600"/>
            <a:chOff x="5580000" y="2133720"/>
            <a:chExt cx="2881440" cy="2595600"/>
          </a:xfrm>
        </p:grpSpPr>
        <p:sp>
          <p:nvSpPr>
            <p:cNvPr id="183" name=""/>
            <p:cNvSpPr/>
            <p:nvPr/>
          </p:nvSpPr>
          <p:spPr>
            <a:xfrm>
              <a:off x="558000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81508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89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5219640" y="2060640"/>
            <a:ext cx="3156120" cy="2782440"/>
            <a:chOff x="5219640" y="2060640"/>
            <a:chExt cx="3156120" cy="2782440"/>
          </a:xfrm>
        </p:grpSpPr>
        <p:sp>
          <p:nvSpPr>
            <p:cNvPr id="192" name=""/>
            <p:cNvSpPr/>
            <p:nvPr/>
          </p:nvSpPr>
          <p:spPr>
            <a:xfrm>
              <a:off x="521964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311800" y="356076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05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4932360" y="2060640"/>
            <a:ext cx="3378240" cy="2433600"/>
            <a:chOff x="4932360" y="2060640"/>
            <a:chExt cx="3378240" cy="2433600"/>
          </a:xfrm>
        </p:grpSpPr>
        <p:sp>
          <p:nvSpPr>
            <p:cNvPr id="108" name=""/>
            <p:cNvSpPr/>
            <p:nvPr/>
          </p:nvSpPr>
          <p:spPr>
            <a:xfrm>
              <a:off x="514512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932360" y="39103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640" y="1857240"/>
            <a:ext cx="3416400" cy="2471760"/>
            <a:chOff x="431640" y="1857240"/>
            <a:chExt cx="3416400" cy="2471760"/>
          </a:xfrm>
        </p:grpSpPr>
        <p:sp>
          <p:nvSpPr>
            <p:cNvPr id="116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31640" y="3668760"/>
                  <a:ext cx="3416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5003640" y="1989000"/>
            <a:ext cx="3454200" cy="2465640"/>
            <a:chOff x="5003640" y="1989000"/>
            <a:chExt cx="3454200" cy="2465640"/>
          </a:xfrm>
        </p:grpSpPr>
        <p:sp>
          <p:nvSpPr>
            <p:cNvPr id="119" name=""/>
            <p:cNvSpPr/>
            <p:nvPr/>
          </p:nvSpPr>
          <p:spPr>
            <a:xfrm>
              <a:off x="5254200" y="198900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003640" y="380700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056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48360" y="2060640"/>
            <a:ext cx="3416040" cy="2471760"/>
            <a:chOff x="5148360" y="2060640"/>
            <a:chExt cx="3416040" cy="2471760"/>
          </a:xfrm>
        </p:grpSpPr>
        <p:sp>
          <p:nvSpPr>
            <p:cNvPr id="128" name=""/>
            <p:cNvSpPr/>
            <p:nvPr/>
          </p:nvSpPr>
          <p:spPr>
            <a:xfrm>
              <a:off x="5379840" y="2060640"/>
              <a:ext cx="3155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48360" y="3872160"/>
                  <a:ext cx="3416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808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2920" y="1857240"/>
            <a:ext cx="3454200" cy="2465640"/>
            <a:chOff x="412920" y="1857240"/>
            <a:chExt cx="3454200" cy="2465640"/>
          </a:xfrm>
        </p:grpSpPr>
        <p:sp>
          <p:nvSpPr>
            <p:cNvPr id="132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2920" y="367524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148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2720" y="1916280"/>
            <a:ext cx="3156120" cy="2782440"/>
            <a:chOff x="5292720" y="1916280"/>
            <a:chExt cx="3156120" cy="2782440"/>
          </a:xfrm>
        </p:grpSpPr>
        <p:sp>
          <p:nvSpPr>
            <p:cNvPr id="141" name=""/>
            <p:cNvSpPr/>
            <p:nvPr/>
          </p:nvSpPr>
          <p:spPr>
            <a:xfrm>
              <a:off x="5292720" y="191628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84880" y="341640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450720" y="1857240"/>
            <a:ext cx="3378240" cy="2433600"/>
            <a:chOff x="450720" y="1857240"/>
            <a:chExt cx="3378240" cy="2433600"/>
          </a:xfrm>
        </p:grpSpPr>
        <p:sp>
          <p:nvSpPr>
            <p:cNvPr id="144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0720" y="37069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13372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34936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205000"/>
            <a:ext cx="33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19640" y="2133720"/>
            <a:ext cx="2881440" cy="2595600"/>
            <a:chOff x="5219640" y="2133720"/>
            <a:chExt cx="2881440" cy="2595600"/>
          </a:xfrm>
        </p:grpSpPr>
        <p:sp>
          <p:nvSpPr>
            <p:cNvPr id="158" name=""/>
            <p:cNvSpPr/>
            <p:nvPr/>
          </p:nvSpPr>
          <p:spPr>
            <a:xfrm>
              <a:off x="521964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45472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13372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66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77336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2349360"/>
            <a:ext cx="435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29T01:18:17Z</dcterms:modified>
  <cp:revision>27</cp:revision>
  <dc:subject/>
  <dc:title>Donner l'image de -1 par la fonction f définie par </dc:title>
</cp:coreProperties>
</file>