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9B8-82E4-4296-BDEC-E8D1E603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BC8-EAA4-44F4-81F7-7D213CB2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A8E-B88E-4282-9F8B-285A3C8C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979-090D-4E3C-8E1E-4D0E648D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117A-46DB-4BA9-A73B-EABC5850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1876-8A5F-4E25-8EE0-225FBAE0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376E-BE06-4FB5-B886-524BD04F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7D54-EB02-4D3B-9274-0194F0D9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56F6-AED7-4D3F-935F-A2B52BBF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F7F6-99E3-446E-B885-848240DB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8CDD-35C8-4027-BB56-784B7F96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F82-F070-4939-B075-6C70F12E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553A-F177-49F7-BE59-4B182460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6D8D-C583-4895-B3FE-70100B2E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B931-5988-4869-AA16-09BDE28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FD19-8934-4E4A-8270-2E649C8F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E86C-7325-48D2-996C-BC5E6A08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2C8-FF78-4E0B-B93E-BD219E5B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4AA-BF25-4870-A43B-8C6CED71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662-AD0E-4476-B24C-EF76091D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2A6-A003-490F-890B-1B92BE75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8D0-440F-42DD-B7A3-E00A98E4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2E4-561A-498D-B618-EB592910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87B-AC0E-493A-837A-43E0EBE8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4B54-2A35-4202-A07C-FE5CE96F4A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C766-F453-4E04-8E99-3C540298E3A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IE N°3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devoir est sur 10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’ est une série de 10 questions notées 1 point chacune ; vous disposez de 50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On donne la variance d’une série : V = 0,64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-il possible que la variance d’une série soit un nombre négatif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centage de la population dont les modalités sont  comprises entre l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quartile et le troisième quart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formule permettant de calculer la moyenne d’une série dont les modalités xi sont affectées des effectifs ni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ciser la différence entre une série qualitative et une série quant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67360" y="285264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formule permettant de calculer la moyenne d’une série dont les modalités xi sont affectées des effectifs ni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40766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 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- a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4076640" cy="1447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ciser la différence entre une série qualitative et une série quant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a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915920"/>
            <a:ext cx="367380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’est-ce que le mode d’une série statistiqu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881440"/>
            <a:ext cx="399564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-il possible que la variance d’une série soit un nombre négatif ? Pourquoi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le mode d’une série statistique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onne la variance d’une séri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 = 0,6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3640" y="2017800"/>
            <a:ext cx="39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 pourcentage de la population dont les modalités sont  comprises entre l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quartile et le troisième quart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13T23:08:56Z</dcterms:modified>
  <cp:revision>33</cp:revision>
  <dc:subject/>
  <dc:title>Donner l'image de -1 par la fonction f définie par </dc:title>
</cp:coreProperties>
</file>