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04-6085-40ED-92FD-8C9EF641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AFC-9D4D-4CCE-BE47-D07D970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E5A-292C-4773-A3EB-2D453DC0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58C-10D0-4D0E-B198-B28023F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275-9779-48B2-BE96-A4949B2D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5B1-17C2-44B2-8BC2-DFDD488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0BEC-202E-4A1F-ABAA-79F8DF26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B42A-6B02-42B8-9F84-C4CD4151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496-8462-465B-B163-41E4787D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CEF-13D4-445F-B691-29ADA52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89C1-546C-4761-99EA-4BEDA73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E30-FF36-467F-97BC-86A1C4CA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F30-13CA-4C24-81DB-F2F5726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76F9-02F5-4706-8B69-AE6CA07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1AF-B569-433C-A979-35F71E6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B225-490E-4EFC-8D2E-9A993FB7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68B5-703A-4A00-B603-3720ED65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FB3-3B62-4277-959A-FC562A61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802-9884-4918-9613-2AE5F8D8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85B-7278-458A-8421-9BEE733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B9F-5540-4F90-9ACF-22260F0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8F6-3865-4A00-A106-F2910F1D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608-DD01-4FE7-A5B0-8F07066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FDA-DF63-4B21-A1D8-DF28502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C48-6DA7-4120-880C-4384DFFD32C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6391-B098-4ADF-AB4B-C45222D2C9F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r la  dérivée de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84600" y="3913200"/>
                <a:ext cx="105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08T04:15:21Z</dcterms:modified>
  <cp:revision>23</cp:revision>
  <dc:subject/>
  <dc:title>Donner l'image de -1 par la fonction f définie par </dc:title>
</cp:coreProperties>
</file>