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5BA2-8EDF-460D-9521-975421F7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68E1-697B-4B92-87FC-C708BD82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BD99-1B6C-4815-B1B1-D4C315D36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4CC1-C250-4BBD-B293-DD64AF83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1A35-CFE2-454F-8D66-1CCF431D3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1A2C-2358-4412-8DBA-2920237A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1F61-52D4-450B-9DB2-9AC36C4D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2D3A-2525-40A0-9D6B-D2680854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8E31-8909-42F6-93D4-994B969B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D4CC-D417-449E-908C-375DA944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BF88-C35D-414D-AB8D-6439C2AB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8F9B-019B-4B45-8CF6-545E8F67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0079-E49A-4F35-B252-2658F534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B0F9-60B3-45E8-B82A-04F649FB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5CE3-6C8A-46CA-AD65-7F452158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4164-56E3-4363-9067-1BEFA737A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263F-D884-45A0-997D-40D78514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BDC7-7D6E-4BEC-AF4D-80AE7973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31A9-0166-46B6-93C0-DFDDECFF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FF25-4726-4752-8E62-226A2528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5222-A370-466C-8BED-7E14D6F4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6D9F-7A10-4E75-B8A8-CD08D08D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D322-2852-4DB1-988B-617C626E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28B0-D7C3-42CC-83F8-90B9E301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24000" y="126828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0365-942D-466B-BC6B-555E2B1EF1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B8E2-7121-4601-A795-E20A064C02AD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515f7b"/>
                </a:solidFill>
                <a:latin typeface="Tahoma"/>
              </a:rPr>
              <a:t>AM  N°4- second degré 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devoir est sur 10 po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’ est une série de 10 questions notées 1 point chacune ; vous disposez de 40 secondes par ques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calculatrice est interdi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quez sur votre feuille :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oi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u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auch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uivant votre position dans votre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0000">
    <p:zoom dir="out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9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trinôme ax²+bx+c est positif ou nul su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[ 3,4 ] et négatif strictement partout ailleurs. Que peut on dire du sig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 a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resser le tableau de signes de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x² + bx + c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orsque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5000">
    <p:zoom dir="out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10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5329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a courbe tracée a pour équation y = ax²+bx+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éterminer le signe de a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866920" y="2017800"/>
            <a:ext cx="3087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La parabole d’équation 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y = -x² + 2x - 1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oupe l’axe des abscisses en :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2 points ?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 point ?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ucun point ?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51640" y="184464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71640" y="2924280"/>
            <a:ext cx="2257200" cy="3114720"/>
          </a:xfrm>
          <a:prstGeom prst="rect">
            <a:avLst/>
          </a:prstGeom>
          <a:ln w="0">
            <a:noFill/>
          </a:ln>
        </p:spPr>
      </p:pic>
    </p:spTree>
  </p:cSld>
  <p:transition advTm="50000">
    <p:zoom dir="out"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1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2276280"/>
            <a:ext cx="40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ent calcule –t-on le discriminant d’un trinôm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63640" y="2060280"/>
            <a:ext cx="35910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trinôm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²- 5x +7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-t-il des racines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oui, combien 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zoom dir="out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2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 trinôme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x²- 5x +7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a-t-il des racines ?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Si oui, combien ?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03640" y="2017800"/>
            <a:ext cx="395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ent calcule –t-on le discriminant d’un trinôm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zoom dir="out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3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43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2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 &gt;0 , quelles sont les solutions de 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ax²+ bx +c =0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&lt; 0 , quelles sont les solutions d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x²+ bx +c =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03480" y="4451400"/>
            <a:ext cx="22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6585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zoom dir="out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4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2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 &gt; 0 , quel est le signe du trinôme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ax²+bx +c  ?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4720" y="1844280"/>
            <a:ext cx="45352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2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 &lt; 0 , quel est le signe du trinôme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ax²+bx +c  ?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4036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zoom dir="out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5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36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 &lt; 0 , quelles sont les solutions de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x²+ bx +c =0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2920" y="1915920"/>
            <a:ext cx="3673800" cy="44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2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 &gt;0 , quelles sont les solutions de 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ax²+ bx +c =0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6728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zoom dir="out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6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 &lt; 0 , </a:t>
            </a: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quel est le signe du trinôme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ax²+bx +c  ?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2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 &gt; 0 , quel est le signe du trinôme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ax²+bx +c  ?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zoom dir="out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7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resser le tableau de signes d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x² + bx + 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orsque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32360" y="2017800"/>
            <a:ext cx="4022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e trinôme ax²+bx+c est positif ou nul su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[ 3,4 ] et négatif strictement partout ailleurs. Que peut on dire du sig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e 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e a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5000">
    <p:zoom dir="out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8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28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parabole d’équ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 = -x² + 2x -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pe l’axe des abscisses en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points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poi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cun poi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51280" y="1844640"/>
            <a:ext cx="52927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a courbe tracée a pour équation y = ax²+bx+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éterminer le signe de a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3528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435640" y="3213000"/>
            <a:ext cx="2257560" cy="3114720"/>
          </a:xfrm>
          <a:prstGeom prst="rect">
            <a:avLst/>
          </a:prstGeom>
          <a:ln w="0">
            <a:noFill/>
          </a:ln>
        </p:spPr>
      </p:pic>
    </p:spTree>
  </p:cSld>
  <p:transition advTm="50000">
    <p:zoom dir="out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6-23T22:21:57Z</dcterms:modified>
  <cp:revision>39</cp:revision>
  <dc:subject/>
  <dc:title>Donner l'image de -1 par la fonction f définie par </dc:title>
</cp:coreProperties>
</file>