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117-4ECE-49AC-9D90-2E916F13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7CD-248F-49FD-83C3-B617E25D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C7D-D336-48AB-97B6-6760F248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EBF-AACA-446D-8516-C958E761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2B05-CD42-457E-8A6D-08B2C3E0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8F6-20BF-474E-8F03-616E71E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56C4-CFD9-45B0-A101-5CC678C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6DCE-B6B1-43AA-9091-829C5BBF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287A-D21C-4674-9ED6-8E5025A0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E8C4-45E7-454C-8811-32D7C968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D1B8-E583-4B83-A10C-858E0D0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875-E5EB-48A4-9456-4D526817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367-A576-4A9B-BB86-7DE7753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D8F2-D30B-42A4-B7E2-190EE9F8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CB4D-93DD-4782-B6A6-610EB94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FDAB-0FA4-4B43-BEAD-7EE0DCE5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20F-1029-430B-BC9E-1617A5C8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E4C-5271-4797-982B-32854D76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B83-C8A3-43EC-A219-96B0A862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EF9-5E1A-47AF-88EA-2037315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B17-2308-431E-9D4E-51D23C05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A39-778E-4D38-ABBB-307B3ED6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0BD-DD7A-4F49-A756-EC990D4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697-482F-471B-AD90-9445B41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C9EF-A432-449B-B698-008CAAD9F9C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1853-740D-411A-99D3-6489504388E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ac-noumea.nc/maths/" TargetMode="External"/><Relationship Id="rId2" Type="http://schemas.openxmlformats.org/officeDocument/2006/relationships/hyperlink" Target="http://www.ac-noumea.nc/maths/" TargetMode="External"/><Relationship Id="rId3" Type="http://schemas.openxmlformats.org/officeDocument/2006/relationships/hyperlink" Target="http://www.ac-noumea.nc/maths/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lgorithme_inter_dif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0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100" spc="-1" strike="noStrike">
                <a:solidFill>
                  <a:srgbClr val="336666"/>
                </a:solidFill>
                <a:latin typeface="Arial Black"/>
              </a:rPr>
              <a:t>Algorithmes en 2</a:t>
            </a:r>
            <a:r>
              <a:rPr b="0" i="1" lang="fr-FR" sz="4100" spc="-1" strike="noStrike" baseline="30000">
                <a:solidFill>
                  <a:srgbClr val="336666"/>
                </a:solidFill>
                <a:latin typeface="Arial Black"/>
              </a:rPr>
              <a:t>nd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4724280"/>
            <a:ext cx="60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aude Poulin pour le groupe de réflexion-production  - Nouméa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la programmation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’est la réalisation de l’algorithme (la phase « intelligente ») qui a un réel intérêt.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ammer,  c’est  finalement traduire un algorithme afin qu’il soit exécuté (ordinateur,  machine outil, ..)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la reste un travail « subalterne », un simple codage dans un langage particul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pprendre à programmer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2nde ce n’est pas vraiment prévu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 s’agit simplement quand la nécessité se fait (ou l’envie, car il est assez stimulant de « voir tourner » un algorithme en espérant obtenir le résultat attendu) de traduire l’algorithme dans un langage adéquat 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mais le langage n’est pas l’essentiel – vaut mieux avoir …. quelque chose à dire 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es supports de programmation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alement les outils déjà communément utilisés (tableurs, calculatrices)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st possible de compléter avec des logiciels de programmation: Scratch, Python, Algobox, Visual Basic, Html&amp;Java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des logiciels de calculs scientifiques (Scilab, Derive…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même des logiciels de calcul formel (Xcas, Mupad…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ttention 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ire tourner un programme permet de montrer qu’il contient des erreurs, pas qu’il est juste.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er l’outil informatique pour émettre des conjectures, oui ;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gare aux preuves « sommaires » apportées par l’exécution d’un progra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Traitements de l’exempl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 la main ou en effectuant les calculs sur une simple calculat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r exemple, si le partenaire a choisi 10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0/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+1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X6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/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t on annonce le résultat affiché.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il faut recommencer avec un autre nombre, cela devient vite fastidieu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Il vaut mieux automatiser ce calcul à l’aide d’un tableur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3954240"/>
            <a:ext cx="32907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On retrouve l’affect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en B1, les formules e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a sortie en B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08360" y="1808280"/>
          <a:ext cx="3770280" cy="2203200"/>
        </p:xfrm>
        <a:graphic>
          <a:graphicData uri="http://schemas.openxmlformats.org/drawingml/2006/table">
            <a:tbl>
              <a:tblPr/>
              <a:tblGrid>
                <a:gridCol w="188748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sir un 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3*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5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08360" y="4076640"/>
          <a:ext cx="3809880" cy="2122560"/>
        </p:xfrm>
        <a:graphic>
          <a:graphicData uri="http://schemas.openxmlformats.org/drawingml/2006/table">
            <a:tbl>
              <a:tblPr/>
              <a:tblGrid>
                <a:gridCol w="1906560"/>
                <a:gridCol w="1903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sir un 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Ou utiliser la calculatrice programmable  …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256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, on passe en mode programmation avec la touche « PRGM »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nouveau, Nom= DEV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N «  demande à l'utilisateur de saisir un nombre : la valeur est stockée dans une mémoire nommée N 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  « La flèch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qui obtenue par appui sur la touche STO, demande à la calculatrice de stocker un résultat dans une mémoire nommée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er une valeur s'appelle faire une affectation »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1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*6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3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2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 R  « La dernière ligne affiche la valeur contenue dans la mémoire R. 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----------------------------------------------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faut parler un peu « patois 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veut dir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 vient d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tor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 veut dir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e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 vient d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isplay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 veut dire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che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IO, on passe en mode programmation avec la touche « PRGM »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 ligne ("Nombre="?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) demande à l'utilisateur de saisir un nombre: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texte est affiché (Nombre=) et le ? invite l'utilisateur à faire la saisie, laquelle est stocké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dans une mémoire nommée 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lèch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mande à la calculatrice de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e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 résultat dans une mémoire :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partir de la 2ème ligne, les résultats de calculs sont stockés dans la mémoire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ernière ligne (R ) affiche la valeur contenue dans la mémoire 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vec Scratch*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2953" t="20013" r="50574" b="50569"/>
          <a:stretch/>
        </p:blipFill>
        <p:spPr>
          <a:xfrm>
            <a:off x="2735280" y="1881360"/>
            <a:ext cx="3781440" cy="29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7640" y="5157720"/>
            <a:ext cx="795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Scratch, logiciel libre et ludique, possède une tortue comme LOGO; il a le gros avantage de bien visualiser les structures; on peut exécuter plusieurs algorithmes en parallè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vec Scilab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x=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x 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r=((x/2)+1)*6/3-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r 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00320" y="2019240"/>
          <a:ext cx="352440" cy="2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2019240"/>
                    <a:ext cx="352440" cy="2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190520" y="3432240"/>
          <a:ext cx="357120" cy="2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3432240"/>
                    <a:ext cx="35712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336666"/>
                </a:solidFill>
                <a:latin typeface="Arial Black"/>
              </a:rPr>
              <a:t>Avec un logiciel de calcul formel (Xcas)</a:t>
            </a: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592280"/>
            <a:ext cx="7772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à il y a une différence de taille: on aura la preuve formelle,  par simplificat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8832" t="4720" r="15282" b="36505"/>
          <a:stretch/>
        </p:blipFill>
        <p:spPr>
          <a:xfrm>
            <a:off x="1150920" y="2637000"/>
            <a:ext cx="6950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4520" y="630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Algorithmique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023560"/>
            <a:ext cx="7772400" cy="4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L’algorithmique est une branche complexe des mathématiques</a:t>
            </a:r>
            <a:br>
              <a:rPr sz="2100"/>
            </a:b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 comparaison de performance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 convergence des algorithme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 preuves de programmes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En 2</a:t>
            </a:r>
            <a:r>
              <a:rPr b="0" lang="fr-FR" sz="2100" spc="-1" strike="noStrike" baseline="30000">
                <a:solidFill>
                  <a:srgbClr val="000000"/>
                </a:solidFill>
                <a:latin typeface="Arial"/>
              </a:rPr>
              <a:t>nde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, on abordera seulement</a:t>
            </a:r>
            <a:br>
              <a:rPr sz="2100"/>
            </a:b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l’initiation à la pensée algorithmiqu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l’analyse d’algorithmes existant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des modifications d’algorithmes 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la réalisation d’algorithme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quelques bases de program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66"/>
                </a:solidFill>
                <a:latin typeface="Arial Black"/>
              </a:rPr>
              <a:t>Comment aborder le sujet en seconde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Une recette de cuisin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Faire exécuter l’algorithme de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onstruction de l’œuf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e rangement d’un cartabl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Jouer au robot (un élève écrit des consignes – calculs, figure – et un autre exécute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Donner des petits algorithmes et deviner ce qu’ils doivent donner ;  les modifier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voide" descr=""/>
          <p:cNvPicPr/>
          <p:nvPr/>
        </p:nvPicPr>
        <p:blipFill>
          <a:blip r:embed="rId1"/>
          <a:stretch/>
        </p:blipFill>
        <p:spPr>
          <a:xfrm>
            <a:off x="6840360" y="1773360"/>
            <a:ext cx="186408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sayer de faire le lien avec les collègues de  français et la logique (si .. alors, ou, et, non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notion de variable est une notion majeure utilisée avec un tableur (une cellule est avant tout une 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notion de variable est très utilisée aussi sur la calculatrice (pour stocker temporairement une vale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Rédiger » un problème de construction en géométrie consiste déjà à proposer un algorithme de construction. Les ordres dans ce cas sont usuellement des droites à tracer avec la règle ou des cercles avec le com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Y a-t-il des difficultés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algorithme apporte une solution à un probl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doit être juste par construction, jamais par ess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doit être rédigé clairement, lisiblement dans un souci de communication (et de maintenan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étapes que l’on retrouve quasi systématiquement (préparation du traitement, traitement, édition des résultats) doivent être clairement identifi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éléments de base restent néanmoins limité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’affectation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952640"/>
          <a:ext cx="8173800" cy="4290840"/>
        </p:xfrm>
        <a:graphic>
          <a:graphicData uri="http://schemas.openxmlformats.org/drawingml/2006/table">
            <a:tbl>
              <a:tblPr/>
              <a:tblGrid>
                <a:gridCol w="4087800"/>
                <a:gridCol w="4086000"/>
              </a:tblGrid>
              <a:tr h="43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A rang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conseillé A = 3   ou     A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3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cice « échanger A et B » 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cice « permuter circulairement A, B et C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bonne habitude, la déclaration quand c’est possible ou l’initialisation systématique des variable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00720" y="2781360"/>
            <a:ext cx="2556000" cy="1614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40360" y="4400640"/>
            <a:ext cx="3527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66"/>
                </a:solidFill>
                <a:latin typeface="Arial Black"/>
                <a:ea typeface="宋体"/>
              </a:rPr>
              <a:t>Le calcul de la surface d’un rectangle quand on entrera les deux dimensions (Python*):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exercice d’initiation, un exemple à commenter ou un exemple à modifie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* Python, logiciel libre possède un interpréteur et un compilateur, une tortu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ais peut  présenter des inconvénients pour des débutants (pas de déclaration de vari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locs par indentation; = pour affectation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060" t="5389" r="60144" b="76207"/>
          <a:stretch/>
        </p:blipFill>
        <p:spPr>
          <a:xfrm>
            <a:off x="2519280" y="2168640"/>
            <a:ext cx="496908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47720" t="66050" r="4718" b="20604"/>
          <a:stretch/>
        </p:blipFill>
        <p:spPr>
          <a:xfrm>
            <a:off x="2519280" y="4041720"/>
            <a:ext cx="5143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e test </a:t>
            </a:r>
            <a:r>
              <a:rPr b="0" lang="fr-FR" sz="1700" spc="-1" strike="noStrike">
                <a:solidFill>
                  <a:srgbClr val="336666"/>
                </a:solidFill>
                <a:latin typeface="Arial Black"/>
              </a:rPr>
              <a:t>(structure alternative)</a:t>
            </a: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07640" y="1905120"/>
            <a:ext cx="74502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LGORITHME Equation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VAR A, B, C, DELTA : RE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DEBUT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LIRE ( A, B, C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Delta := B*B - 4*A*C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SI Delta &gt; 0 :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Ecrire ( 'Première racine : ', (-B + Racine(Delta)) / (2* A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Ecrire ( 'Deuxième racine : ', (-B - Racine(Delta)) / (2 *A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SINON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SI Delta = 0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     Ecrire('Une racine double :', -B / ( 2*A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SINON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     Ecrire('Pas de racine réelle')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     FSI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    FSI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Le test </a:t>
            </a: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(structure alternative ; Algobox*)</a:t>
            </a: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19280" y="1905120"/>
          <a:ext cx="7738920" cy="3179520"/>
        </p:xfrm>
        <a:graphic>
          <a:graphicData uri="http://schemas.openxmlformats.org/drawingml/2006/table">
            <a:tbl>
              <a:tblPr/>
              <a:tblGrid>
                <a:gridCol w="3565440"/>
                <a:gridCol w="4173480"/>
              </a:tblGrid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a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b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c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d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x1 EST_DU_TYPE NOMBR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x2 EST_DU_TYPE NOMBRE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UT_ALGORITHME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LIRE a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LIRE b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LIRE c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d PREND_LA_VALEUR b*b-4*a*c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d&lt;0) ALORS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DEBUT_SI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AFFICHER "Pas de racine réelle"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FIN_SI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SINON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DEBUT_SINON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x1 PREND_LA_VALEUR (-b-sqrt(d))/(2*a)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"x1="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x1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x2 PREND_LA_VALEUR (-b+sqrt(d))/(2*a)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"x2="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FFICHER x2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FIN_SINON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_ALGORITH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150920" y="5300640"/>
            <a:ext cx="7093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*Algobox, logiciel libre est un excellent outil de rédaction d’algorithme, avec des comman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êtes à l’emploi et possibilité d’exécution immédi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Le test </a:t>
            </a: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(structure alternative)</a:t>
            </a:r>
            <a:r>
              <a:rPr b="0" lang="fr-FR" sz="37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nger deux nombres (Scr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4045" t="2747" r="14623" b="46986"/>
          <a:stretch/>
        </p:blipFill>
        <p:spPr>
          <a:xfrm>
            <a:off x="1187280" y="2457360"/>
            <a:ext cx="66614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les boucle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ffectation, entrée, sortie ne doivent pas présenter de grandes difficulté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tructure conditionnelle demandera plus de temp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laborer une boucle reste la véritable difficulté en algorithm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a répétition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2097000"/>
          <a:ext cx="7777080" cy="3853080"/>
        </p:xfrm>
        <a:graphic>
          <a:graphicData uri="http://schemas.openxmlformats.org/drawingml/2006/table">
            <a:tbl>
              <a:tblPr/>
              <a:tblGrid>
                <a:gridCol w="3446280"/>
                <a:gridCol w="4330800"/>
              </a:tblGrid>
              <a:tr h="38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œuf n° 1 jusqu’à œuf n° 6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  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ser l’œuf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er le contenu dans le bol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cet exemple le nombre d’itérations est conn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n EST_DU_TYPE NOMBR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somme EST_DU_TYPE NOMBRE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UT_ALGORITHM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somme PREND_LA_VALEUR 0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n ALLANT_DE 1 A 100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DEBUT_POUR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somme PREND_LA_VALEUR somme+1/n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_POUR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AFFICHER somm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_ALGORITH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8160" y="5932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Des algorithmes, quand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relation avec toutes les parties du programme: fonctions, statistiques, géométrie, logique et langue (si .. alors, et...)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ne s’agit pas seulement d’utiliser des algorithmes exi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La construction d’une étoile </a:t>
            </a:r>
            <a:r>
              <a:rPr b="0" lang="fr-FR" sz="1000" spc="-1" strike="noStrike">
                <a:solidFill>
                  <a:srgbClr val="336666"/>
                </a:solidFill>
                <a:latin typeface="Arial Black"/>
                <a:ea typeface="宋体"/>
              </a:rPr>
              <a:t>(avec la tortue de Scratch) </a:t>
            </a:r>
            <a:r>
              <a:rPr b="0" lang="fr-FR" sz="1900" spc="-1" strike="noStrike">
                <a:solidFill>
                  <a:srgbClr val="336666"/>
                </a:solidFill>
                <a:latin typeface="Arial Black"/>
              </a:rPr>
              <a:t>: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1873" t="15914" r="16617" b="60254"/>
          <a:stretch/>
        </p:blipFill>
        <p:spPr>
          <a:xfrm>
            <a:off x="1008000" y="2276640"/>
            <a:ext cx="7237440" cy="27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a répétition, version 2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92000" y="1736640"/>
          <a:ext cx="7632720" cy="432144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3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t que S &lt;100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air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 + N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N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+1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inFaire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is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i le nombre d’itérations est inconn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e: pourquoi cet algorithme est faux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t que I &lt; 100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is I</a:t>
                      </a:r>
                      <a:br>
                        <a:rPr sz="2000"/>
                      </a:b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in F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fonction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alculer l’indice de masse corporelle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I= masse/taille²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Si I&gt;25 afficher « en surpoids »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Tableau de valeurs avec un tableu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Maximiser le volume d’une boît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expression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Résolution d’une équation du 1</a:t>
            </a:r>
            <a:r>
              <a:rPr b="0" lang="fr-FR" sz="31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 degré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Transformations formelles avec Xc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Méthode de Hörn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Encadrement de solutions de f(x)=0 (dichotomie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  <a:ea typeface="宋体"/>
              </a:rPr>
              <a:t>existence d’un triangle pour trois nombres donné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  <a:ea typeface="宋体"/>
              </a:rPr>
              <a:t>sortir le plus grand de trois nomb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66"/>
                </a:solidFill>
                <a:latin typeface="Arial Black"/>
              </a:rPr>
              <a:t>Algorithme permettant d'obtenir la valeur approchée de la solution positive de l'équation                              (ALGOBOX).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85016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55640" y="1844640"/>
          <a:ext cx="7776720" cy="4032000"/>
        </p:xfrm>
        <a:graphic>
          <a:graphicData uri="http://schemas.openxmlformats.org/drawingml/2006/table">
            <a:tbl>
              <a:tblPr/>
              <a:tblGrid>
                <a:gridCol w="3888360"/>
                <a:gridCol w="3888360"/>
              </a:tblGrid>
              <a:tr h="40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VARI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a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b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ecart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 milieu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 image EST_DU_TYPE 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DEBUT_ALGORITH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 a PREND_LA_VALEU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b PREND_LA_VALEUR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   ecart PREND_LA_VALEUR b-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TANT_QUE (ecart&gt;0.001) FAI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  DEBUT_TANT_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     milieu PREND_LA_VALEUR (a+b)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  image PREND_LA_VALEUR milieu*milieu 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  AFFICHER "(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     AFFICHER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  AFFICHER ";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     AFFICHER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  AFFICHER ")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    AFFICHER "milieu=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     AFFICHE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     AFFICHER ";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     AFFICHER "image par la fontion=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     AFFICHER im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    SI (image&lt;0) AL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       DEBUT_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       a PREND_LA_VALEU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       FIN_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       S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         DEBUT_S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         b PREND_LA_VALEU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         FIN_S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     ecart PREND_LA_VALEUR b-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     FIN_TANT_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   AFFICHER "la valeur qui annule la fonction est proche de :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   AFFICHER mili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 FIN_ALGORITH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716360" y="1305000"/>
          <a:ext cx="13320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305000"/>
                    <a:ext cx="13320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295280" y="6058080"/>
            <a:ext cx="18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statistiques, proba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Fluctuation d’échantillonnage: simulations d’un lancer de deux dé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Intervalles de confianc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Déterminations de Q1, Me, Q3 (les valeurs obtenues à la machine ne sont pas satisfaisante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n seconde – géométri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alcul des coordonnées d’un milieu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Programme de construction dans le pla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Vérifier la colinéarité de deux vecteu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onstruction d’un cube avec Géospac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Et après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l est évident que cette initiation aux algorithmes sera poursuivie par la suite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s documents sont déjà à consulter su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27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www.ac-noumea.nc</a:t>
            </a:r>
            <a:r>
              <a:rPr b="0" lang="fr-FR" sz="27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/maths/</a:t>
            </a:r>
            <a:r>
              <a:rPr b="0" lang="fr-FR" sz="27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(prise en main des calculatrices programmables, de Xcas, de Maple, de Mupad…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s stages de différents niveaux seront proposé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66"/>
                </a:solidFill>
                <a:latin typeface="Arial Black"/>
              </a:rPr>
              <a:t>L’algorithmique au service de problèmes. </a:t>
            </a: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rocédures de tris et comparaison de leurs performan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recherche d’un maximum d’une fonction par trise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Approximation d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Approximation de P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宋体"/>
              </a:rPr>
              <a:t>Algorithme récursif d’Eucl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宋体"/>
              </a:rPr>
              <a:t>Algorithmes sur les graph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宋体"/>
              </a:rPr>
              <a:t>Algorithmes sur le méthodes de calculs d’intégra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84720" y="3213000"/>
          <a:ext cx="7189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213000"/>
                    <a:ext cx="718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66"/>
                </a:solidFill>
                <a:latin typeface="Arial Black"/>
              </a:rPr>
              <a:t>Des algorithmes qui gagnent à être connus…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Équations différentielles : méthode d’Euler, accélération de Runge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Équations non linéaires : point fixe, méthode de la sécante, Newton, Delta d’Aitken, Steffesen et Romberg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ystèmes linéaires : Gauss, Souriau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Algorithme CORDI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Et quelques bases en analyse numérique et en calcul forme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Des algorithmes, pourquoi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cd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solution de certains problèmes montre la nécessité d’organiser une suite de traitements, de calculs; de mettre au point des solutions algorithmiques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Officiellement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751040"/>
            <a:ext cx="8280360" cy="43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Des algorithmes partout …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notion d’algorithme reste proche  de « recette », « méthode systématique», « procédure »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algorithmes plus ou moins complexes sont utilisés dans la vie courante (recherche d’informations -comment marche Google? -,  traitement et compression des données, tris, codage, simulation, imagerie médicale, automate de banque….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59280" y="4616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99cc00"/>
                </a:solidFill>
                <a:uFillTx/>
                <a:latin typeface="Times New Roman"/>
                <a:hlinkClick r:id="rId1"/>
              </a:rPr>
              <a:t>pour un ambulancier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Des algorithmes déjà rencontrés en mathématiques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vision à la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olution d’une équation du premier deg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uc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ratosthè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tructions en géométri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08360" y="1916280"/>
          <a:ext cx="4248000" cy="428400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42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solu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²+ax=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672000" cy="180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51280" y="3753000"/>
            <a:ext cx="3961080" cy="99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32720" y="4905360"/>
            <a:ext cx="18716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’expression des algorithmes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angage ordinaire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pseudo langage, pas aussi formalisé que dans un programme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fois sous forme de schéma: organigramm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Un exemple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810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"Faites prendre la moitié du nombre pair pensé, puis ajouter 1 et multiplier le résultat par 6; demandez le quotient par 3 du résultat obtenu. Ce quotient diminué de 2 est le nombre pensé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(Emile Fourrey, Récréations mathématiques, 1905)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gorithme en plusi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pes, où l’on retrouve u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ée, un trait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ées et une sortie d’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ul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00720" y="3681360"/>
          <a:ext cx="3166920" cy="234000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23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sir un nombre pair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sa moiti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uter 1 au résultat précé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er le résultat par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 diviser par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anche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cc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ncer le nombre pen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2-01T18:55:28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2</vt:r8>
  </property>
</Properties>
</file>