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push.wav" ContentType="audio/x-wav"/>
  <Override PartName="/ppt/media/drumroll.wav" ContentType="audio/x-wav"/>
  <Override PartName="/ppt/media/arrow.wav" ContentType="audio/x-wav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F08D-CD67-4585-8E1B-58B4BEDC7B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FA9A-879B-4804-AF06-16F62823EF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F6A3-D7C7-405D-A98A-018611240B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F341-EC8A-4702-9ABA-98C3F61494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384D-2F59-4699-B223-1588CF5D87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2976-75F5-463A-B3C1-D2E25AF59E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4D1D-9E23-43DD-83FF-00F694F91C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CE97-5BBA-4662-B08D-83A092BBA6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1ABA-3539-4BED-A485-431823F82E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2DB3-B993-47C4-8A9E-47938F3F07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221E-E8DB-40FB-BD89-F4D9FABAE2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79F1-C318-42DA-A520-7C8E5F134D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5710-0446-4289-93D7-20167973FC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63B3-CFB3-44A4-89D1-250501B6EC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0FF9-D510-49E1-8D08-08D3506787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F6B6-CB95-4A92-B757-5CDC08127F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0A78-0753-4F62-950F-BE35B901B9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5E37-4354-4DE4-8F48-4D98972ABE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D5CD-1E75-46BE-9380-195C9D8D6D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C55E-142A-41AB-BAC4-E9D277A278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A305-25C7-4CFC-B037-2A83579C44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019B-7420-4E24-88CE-9640916543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7A3F-BDC2-40F4-8BDA-AFC2D5A160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B875-883B-4DB1-961A-99F5F69589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5857-DE3A-406B-A00B-81E8A66401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2A5-9249-4C14-853F-904B3C05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855-9DD6-4DB0-931E-6C41E64F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2FF-94EE-40E8-AA1A-3FCD8E8A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5E7-FA93-4CE6-B498-D0E64763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0326-0FAE-44A7-96B8-B2D1DD7E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D60F-8714-4268-823D-7BF02E3B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44C4-0F55-49AA-ACD1-D1A45FDC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A128-47BC-4460-A561-8186B8D6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F6ED-D7DD-44BE-83DD-D49C0E80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858F-B714-4382-B233-3BAEE926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3E63-67F0-4E3F-AAF2-4A87C91B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FD0-C49D-4C40-8099-C0D9F440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132A-B394-46E6-8E43-E34E8C4F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5A48-F932-47AE-A97A-BCB78CF7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40D5-CB30-4FE8-9ADA-22723B61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4523-0DB6-45BC-A21B-835C8115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69F8-2C82-4E93-B25B-860134F2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5B8-4416-4F6E-8C54-1FD82F1B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D9B-3397-4DD5-AE7F-6DC8BFF3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075-AAC9-4F79-893C-C1CEA407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8A1-7613-49BB-B186-FFEF0622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16F-8C53-40B5-B285-4E93150D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2AF-2538-4E44-B476-5C5F9716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8B6-2699-4758-8670-3CEF4DFA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DFF5-F6DF-4CC9-B4BB-540F9A36BBA9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EB4A-ED38-44D4-AEC0-D3B30C923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0897-65C0-4D76-985A-3168846DC59B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D4B7-AA3F-4481-9AE3-00166EF83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FAB2-7C45-4DA3-ABBA-3CC7B87C40B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9136-2983-419A-A3DD-ABC8F18B5BC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Comic Sans MS"/>
              </a:rPr>
              <a:t>CALCUL MENTAL N°8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23DB-F11A-4A89-AB76-EBAAE344D940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AE6E-9526-4AFF-A799-CBE7C071019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3"/>
          <p:cNvSpPr/>
          <p:nvPr/>
        </p:nvSpPr>
        <p:spPr>
          <a:xfrm>
            <a:off x="304920" y="2133720"/>
            <a:ext cx="8076960" cy="82512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e soustrais 1200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à 47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AA51-2A63-4BE7-A383-E74E4968CBA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E161-7F4A-4F89-AB73-65AD007B47AA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380880" y="2590920"/>
            <a:ext cx="8077320" cy="155628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4 angles droits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7829-4664-4F43-861B-CB3D4A0C6A1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5BFF-A399-416E-885B-11C83282C2E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304920" y="2286000"/>
            <a:ext cx="8610480" cy="22874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Un quadrilatère qui a 4 angles droits et quatre côtés égaux est un ….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C311-DE3F-48A9-A6D6-91781888AD1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72DD-94A1-433E-8FBA-FF1D4A4CE63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380880" y="2590920"/>
            <a:ext cx="8077320" cy="1556280"/>
          </a:xfrm>
          <a:prstGeom prst="rect">
            <a:avLst/>
          </a:prstGeom>
          <a:solidFill>
            <a:srgbClr val="00b0f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4 côtés égaux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9"/>
          <p:cNvGrpSpPr/>
          <p:nvPr/>
        </p:nvGrpSpPr>
        <p:grpSpPr>
          <a:xfrm>
            <a:off x="2602800" y="771840"/>
            <a:ext cx="1757520" cy="1330200"/>
            <a:chOff x="2602800" y="771840"/>
            <a:chExt cx="1757520" cy="1330200"/>
          </a:xfrm>
        </p:grpSpPr>
        <p:sp>
          <p:nvSpPr>
            <p:cNvPr id="215" name="AutoShape 2"/>
            <p:cNvSpPr/>
            <p:nvPr/>
          </p:nvSpPr>
          <p:spPr>
            <a:xfrm rot="2700000">
              <a:off x="3586320" y="1298160"/>
              <a:ext cx="641160" cy="64152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AutoShape 3"/>
            <p:cNvSpPr/>
            <p:nvPr/>
          </p:nvSpPr>
          <p:spPr>
            <a:xfrm flipH="1" rot="2700000">
              <a:off x="2666520" y="1725120"/>
              <a:ext cx="314280" cy="3110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4"/>
            <p:cNvSpPr/>
            <p:nvPr/>
          </p:nvSpPr>
          <p:spPr>
            <a:xfrm rot="18900000">
              <a:off x="3662280" y="837720"/>
              <a:ext cx="322200" cy="327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 rot="16200000">
              <a:off x="2801880" y="1425600"/>
              <a:ext cx="444240" cy="4442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AutoShape 6"/>
            <p:cNvSpPr/>
            <p:nvPr/>
          </p:nvSpPr>
          <p:spPr>
            <a:xfrm>
              <a:off x="3247920" y="1420920"/>
              <a:ext cx="642960" cy="64440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AutoShape 7"/>
            <p:cNvSpPr/>
            <p:nvPr/>
          </p:nvSpPr>
          <p:spPr>
            <a:xfrm rot="13500000">
              <a:off x="3744720" y="1699920"/>
              <a:ext cx="317520" cy="3146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Freeform 8"/>
            <p:cNvSpPr/>
            <p:nvPr/>
          </p:nvSpPr>
          <p:spPr>
            <a:xfrm>
              <a:off x="3902040" y="1158840"/>
              <a:ext cx="215640" cy="68904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2" name="Group 17"/>
          <p:cNvGrpSpPr/>
          <p:nvPr/>
        </p:nvGrpSpPr>
        <p:grpSpPr>
          <a:xfrm>
            <a:off x="762120" y="762120"/>
            <a:ext cx="836280" cy="2146320"/>
            <a:chOff x="762120" y="762120"/>
            <a:chExt cx="836280" cy="2146320"/>
          </a:xfrm>
        </p:grpSpPr>
        <p:sp>
          <p:nvSpPr>
            <p:cNvPr id="223" name="Rectangle 10"/>
            <p:cNvSpPr/>
            <p:nvPr/>
          </p:nvSpPr>
          <p:spPr>
            <a:xfrm>
              <a:off x="1186200" y="2254320"/>
              <a:ext cx="322200" cy="325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AutoShape 11"/>
            <p:cNvSpPr/>
            <p:nvPr/>
          </p:nvSpPr>
          <p:spPr>
            <a:xfrm rot="10800000">
              <a:off x="947880" y="762120"/>
              <a:ext cx="642960" cy="6429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AutoShape 12"/>
            <p:cNvSpPr/>
            <p:nvPr/>
          </p:nvSpPr>
          <p:spPr>
            <a:xfrm rot="10800000">
              <a:off x="1152360" y="1915920"/>
              <a:ext cx="446040" cy="446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 rot="16200000">
              <a:off x="763920" y="1253880"/>
              <a:ext cx="641160" cy="6447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AutoShape 14"/>
            <p:cNvSpPr/>
            <p:nvPr/>
          </p:nvSpPr>
          <p:spPr>
            <a:xfrm>
              <a:off x="1094040" y="906480"/>
              <a:ext cx="317520" cy="31608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AutoShape 15"/>
            <p:cNvSpPr/>
            <p:nvPr/>
          </p:nvSpPr>
          <p:spPr>
            <a:xfrm flipH="1">
              <a:off x="1136160" y="2597400"/>
              <a:ext cx="314280" cy="311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16"/>
            <p:cNvSpPr/>
            <p:nvPr/>
          </p:nvSpPr>
          <p:spPr>
            <a:xfrm>
              <a:off x="833760" y="1906920"/>
              <a:ext cx="639720" cy="33624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0" name="Group 25"/>
          <p:cNvGrpSpPr/>
          <p:nvPr/>
        </p:nvGrpSpPr>
        <p:grpSpPr>
          <a:xfrm>
            <a:off x="5257800" y="517320"/>
            <a:ext cx="1453320" cy="1735920"/>
            <a:chOff x="5257800" y="517320"/>
            <a:chExt cx="1453320" cy="1735920"/>
          </a:xfrm>
        </p:grpSpPr>
        <p:sp>
          <p:nvSpPr>
            <p:cNvPr id="231" name="Rectangle 18"/>
            <p:cNvSpPr/>
            <p:nvPr/>
          </p:nvSpPr>
          <p:spPr>
            <a:xfrm>
              <a:off x="5267520" y="833400"/>
              <a:ext cx="322200" cy="326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AutoShape 19"/>
            <p:cNvSpPr/>
            <p:nvPr/>
          </p:nvSpPr>
          <p:spPr>
            <a:xfrm rot="2700000">
              <a:off x="5937120" y="971280"/>
              <a:ext cx="641160" cy="64116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AutoShape 20"/>
            <p:cNvSpPr/>
            <p:nvPr/>
          </p:nvSpPr>
          <p:spPr>
            <a:xfrm rot="18900000">
              <a:off x="5711400" y="609120"/>
              <a:ext cx="444600" cy="4446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AutoShape 21"/>
            <p:cNvSpPr/>
            <p:nvPr/>
          </p:nvSpPr>
          <p:spPr>
            <a:xfrm rot="8100000">
              <a:off x="5403240" y="1476360"/>
              <a:ext cx="641160" cy="6444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AutoShape 22"/>
            <p:cNvSpPr/>
            <p:nvPr/>
          </p:nvSpPr>
          <p:spPr>
            <a:xfrm>
              <a:off x="5605560" y="830160"/>
              <a:ext cx="31752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 flipH="1" rot="10800000">
              <a:off x="5267520" y="1164960"/>
              <a:ext cx="31104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5257800" y="1149480"/>
              <a:ext cx="344520" cy="63972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8" name="Group 33"/>
          <p:cNvGrpSpPr/>
          <p:nvPr/>
        </p:nvGrpSpPr>
        <p:grpSpPr>
          <a:xfrm>
            <a:off x="7086600" y="838080"/>
            <a:ext cx="1297080" cy="1611360"/>
            <a:chOff x="7086600" y="838080"/>
            <a:chExt cx="1297080" cy="1611360"/>
          </a:xfrm>
        </p:grpSpPr>
        <p:sp>
          <p:nvSpPr>
            <p:cNvPr id="239" name="AutoShape 26"/>
            <p:cNvSpPr/>
            <p:nvPr/>
          </p:nvSpPr>
          <p:spPr>
            <a:xfrm flipH="1" rot="13500000">
              <a:off x="7513200" y="1913040"/>
              <a:ext cx="444600" cy="4442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7732800" y="1493640"/>
              <a:ext cx="322200" cy="3272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AutoShape 28"/>
            <p:cNvSpPr/>
            <p:nvPr/>
          </p:nvSpPr>
          <p:spPr>
            <a:xfrm>
              <a:off x="7742160" y="838080"/>
              <a:ext cx="641520" cy="64152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AutoShape 29"/>
            <p:cNvSpPr/>
            <p:nvPr/>
          </p:nvSpPr>
          <p:spPr>
            <a:xfrm rot="16200000">
              <a:off x="7088040" y="845640"/>
              <a:ext cx="641160" cy="64440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AutoShape 30"/>
            <p:cNvSpPr/>
            <p:nvPr/>
          </p:nvSpPr>
          <p:spPr>
            <a:xfrm rot="10800000">
              <a:off x="7737120" y="1809720"/>
              <a:ext cx="322200" cy="31896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AutoShape 31"/>
            <p:cNvSpPr/>
            <p:nvPr/>
          </p:nvSpPr>
          <p:spPr>
            <a:xfrm flipH="1" rot="10800000">
              <a:off x="7401240" y="1493640"/>
              <a:ext cx="311400" cy="3146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32"/>
            <p:cNvSpPr/>
            <p:nvPr/>
          </p:nvSpPr>
          <p:spPr>
            <a:xfrm>
              <a:off x="7400880" y="1490760"/>
              <a:ext cx="334800" cy="639720"/>
            </a:xfrm>
            <a:prstGeom prst="pi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6" name="Group 41"/>
          <p:cNvGrpSpPr/>
          <p:nvPr/>
        </p:nvGrpSpPr>
        <p:grpSpPr>
          <a:xfrm>
            <a:off x="762120" y="5181120"/>
            <a:ext cx="1450800" cy="1122840"/>
            <a:chOff x="762120" y="5181120"/>
            <a:chExt cx="1450800" cy="1122840"/>
          </a:xfrm>
        </p:grpSpPr>
        <p:sp>
          <p:nvSpPr>
            <p:cNvPr id="247" name="AutoShape 34"/>
            <p:cNvSpPr/>
            <p:nvPr/>
          </p:nvSpPr>
          <p:spPr>
            <a:xfrm flipH="1">
              <a:off x="991440" y="5281560"/>
              <a:ext cx="446040" cy="446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992160" y="5743440"/>
              <a:ext cx="322200" cy="326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 rot="13500000">
              <a:off x="1125360" y="5317560"/>
              <a:ext cx="641520" cy="64152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 rot="16200000">
              <a:off x="1239480" y="5651280"/>
              <a:ext cx="650880" cy="6476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 rot="10800000">
              <a:off x="1450440" y="5181120"/>
              <a:ext cx="306360" cy="30780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AutoShape 39"/>
            <p:cNvSpPr/>
            <p:nvPr/>
          </p:nvSpPr>
          <p:spPr>
            <a:xfrm flipH="1" rot="5400000">
              <a:off x="1900080" y="5644440"/>
              <a:ext cx="314280" cy="311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Freeform 40"/>
            <p:cNvSpPr/>
            <p:nvPr/>
          </p:nvSpPr>
          <p:spPr>
            <a:xfrm>
              <a:off x="762120" y="6086160"/>
              <a:ext cx="687240" cy="217800"/>
            </a:xfrm>
            <a:prstGeom prst="pi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4" name="Group 48"/>
          <p:cNvGrpSpPr/>
          <p:nvPr/>
        </p:nvGrpSpPr>
        <p:grpSpPr>
          <a:xfrm>
            <a:off x="3124080" y="5124240"/>
            <a:ext cx="1292400" cy="1091880"/>
            <a:chOff x="3124080" y="5124240"/>
            <a:chExt cx="1292400" cy="1091880"/>
          </a:xfrm>
        </p:grpSpPr>
        <p:sp>
          <p:nvSpPr>
            <p:cNvPr id="255" name="Rectangle 42"/>
            <p:cNvSpPr/>
            <p:nvPr/>
          </p:nvSpPr>
          <p:spPr>
            <a:xfrm>
              <a:off x="4093920" y="5889240"/>
              <a:ext cx="322560" cy="3268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AutoShape 43"/>
            <p:cNvSpPr/>
            <p:nvPr/>
          </p:nvSpPr>
          <p:spPr>
            <a:xfrm rot="8100000">
              <a:off x="3297240" y="5257800"/>
              <a:ext cx="644400" cy="64440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AutoShape 44"/>
            <p:cNvSpPr/>
            <p:nvPr/>
          </p:nvSpPr>
          <p:spPr>
            <a:xfrm rot="10800000">
              <a:off x="3433680" y="5571360"/>
              <a:ext cx="644400" cy="64116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AutoShape 45"/>
            <p:cNvSpPr/>
            <p:nvPr/>
          </p:nvSpPr>
          <p:spPr>
            <a:xfrm rot="16200000">
              <a:off x="3140280" y="5892480"/>
              <a:ext cx="31392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AutoShape 46"/>
            <p:cNvSpPr/>
            <p:nvPr/>
          </p:nvSpPr>
          <p:spPr>
            <a:xfrm flipH="1" rot="5400000">
              <a:off x="3773520" y="5889240"/>
              <a:ext cx="32040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Freeform 47"/>
            <p:cNvSpPr/>
            <p:nvPr/>
          </p:nvSpPr>
          <p:spPr>
            <a:xfrm>
              <a:off x="3124080" y="5554440"/>
              <a:ext cx="639720" cy="33444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1" name="AutoShape 49"/>
          <p:cNvSpPr/>
          <p:nvPr/>
        </p:nvSpPr>
        <p:spPr>
          <a:xfrm flipH="1" rot="18900000">
            <a:off x="2895120" y="4800600"/>
            <a:ext cx="446040" cy="446040"/>
          </a:xfrm>
          <a:prstGeom prst="rtTriangle">
            <a:avLst/>
          </a:prstGeom>
          <a:solidFill>
            <a:srgbClr val="6699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" name="Group 58"/>
          <p:cNvGrpSpPr/>
          <p:nvPr/>
        </p:nvGrpSpPr>
        <p:grpSpPr>
          <a:xfrm>
            <a:off x="5559120" y="5193360"/>
            <a:ext cx="1351080" cy="1477800"/>
            <a:chOff x="5559120" y="5193360"/>
            <a:chExt cx="1351080" cy="1477800"/>
          </a:xfrm>
        </p:grpSpPr>
        <p:sp>
          <p:nvSpPr>
            <p:cNvPr id="263" name="AutoShape 50"/>
            <p:cNvSpPr/>
            <p:nvPr/>
          </p:nvSpPr>
          <p:spPr>
            <a:xfrm flipH="1" rot="13500000">
              <a:off x="6108840" y="5895360"/>
              <a:ext cx="644400" cy="64152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4" name="Group 57"/>
            <p:cNvGrpSpPr/>
            <p:nvPr/>
          </p:nvGrpSpPr>
          <p:grpSpPr>
            <a:xfrm>
              <a:off x="5559120" y="5193360"/>
              <a:ext cx="1351080" cy="1008720"/>
              <a:chOff x="5559120" y="5193360"/>
              <a:chExt cx="1351080" cy="1008720"/>
            </a:xfrm>
          </p:grpSpPr>
          <p:sp>
            <p:nvSpPr>
              <p:cNvPr id="265" name="AutoShape 51"/>
              <p:cNvSpPr/>
              <p:nvPr/>
            </p:nvSpPr>
            <p:spPr>
              <a:xfrm flipH="1" rot="5400000">
                <a:off x="5565960" y="5756040"/>
                <a:ext cx="434880" cy="44136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Rectangle 52"/>
              <p:cNvSpPr/>
              <p:nvPr/>
            </p:nvSpPr>
            <p:spPr>
              <a:xfrm>
                <a:off x="5670360" y="5408640"/>
                <a:ext cx="322560" cy="3268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AutoShape 53"/>
              <p:cNvSpPr/>
              <p:nvPr/>
            </p:nvSpPr>
            <p:spPr>
              <a:xfrm flipH="1" rot="2700000">
                <a:off x="5692320" y="5413320"/>
                <a:ext cx="644400" cy="64440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AutoShape 54"/>
              <p:cNvSpPr/>
              <p:nvPr/>
            </p:nvSpPr>
            <p:spPr>
              <a:xfrm rot="8100000">
                <a:off x="5673240" y="5257800"/>
                <a:ext cx="31428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AutoShape 55"/>
              <p:cNvSpPr/>
              <p:nvPr/>
            </p:nvSpPr>
            <p:spPr>
              <a:xfrm flipH="1" rot="8100000">
                <a:off x="6523920" y="5603400"/>
                <a:ext cx="32040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Freeform 56"/>
              <p:cNvSpPr/>
              <p:nvPr/>
            </p:nvSpPr>
            <p:spPr>
              <a:xfrm>
                <a:off x="6673680" y="5514840"/>
                <a:ext cx="217800" cy="6872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1" name="Group 66"/>
          <p:cNvGrpSpPr/>
          <p:nvPr/>
        </p:nvGrpSpPr>
        <p:grpSpPr>
          <a:xfrm>
            <a:off x="7629120" y="4648320"/>
            <a:ext cx="1398960" cy="1531440"/>
            <a:chOff x="7629120" y="4648320"/>
            <a:chExt cx="1398960" cy="1531440"/>
          </a:xfrm>
        </p:grpSpPr>
        <p:sp>
          <p:nvSpPr>
            <p:cNvPr id="272" name="Rectangle 59"/>
            <p:cNvSpPr/>
            <p:nvPr/>
          </p:nvSpPr>
          <p:spPr>
            <a:xfrm rot="18900000">
              <a:off x="7929720" y="5185800"/>
              <a:ext cx="314280" cy="320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AutoShape 60"/>
            <p:cNvSpPr/>
            <p:nvPr/>
          </p:nvSpPr>
          <p:spPr>
            <a:xfrm flipH="1" rot="2700000">
              <a:off x="8249760" y="5238720"/>
              <a:ext cx="644400" cy="6444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AutoShape 61"/>
            <p:cNvSpPr/>
            <p:nvPr/>
          </p:nvSpPr>
          <p:spPr>
            <a:xfrm flipH="1" rot="5400000">
              <a:off x="8101080" y="5530680"/>
              <a:ext cx="644400" cy="641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62"/>
            <p:cNvSpPr/>
            <p:nvPr/>
          </p:nvSpPr>
          <p:spPr>
            <a:xfrm rot="16200000">
              <a:off x="7761240" y="4647600"/>
              <a:ext cx="314280" cy="317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AutoShape 63"/>
            <p:cNvSpPr/>
            <p:nvPr/>
          </p:nvSpPr>
          <p:spPr>
            <a:xfrm rot="13500000">
              <a:off x="7696080" y="5417640"/>
              <a:ext cx="324000" cy="3240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Freeform 64"/>
            <p:cNvSpPr/>
            <p:nvPr/>
          </p:nvSpPr>
          <p:spPr>
            <a:xfrm>
              <a:off x="8086680" y="4648320"/>
              <a:ext cx="217440" cy="68580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AutoShape 65"/>
            <p:cNvSpPr/>
            <p:nvPr/>
          </p:nvSpPr>
          <p:spPr>
            <a:xfrm rot="2700000">
              <a:off x="7889400" y="5663880"/>
              <a:ext cx="426960" cy="4273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9" name="Rectangle 67"/>
          <p:cNvSpPr/>
          <p:nvPr/>
        </p:nvSpPr>
        <p:spPr>
          <a:xfrm>
            <a:off x="762120" y="2819520"/>
            <a:ext cx="8153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C’est fini!</a:t>
            </a:r>
            <a:br>
              <a:rPr sz="5100"/>
            </a:br>
            <a:br>
              <a:rPr sz="5100"/>
            </a:b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Posez les stylos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arrow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9E92-7E91-4048-A9BB-59A8C3EBD8D3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7D8C-20A8-462D-B326-C93D345ED07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AutoShape 15"/>
          <p:cNvSpPr/>
          <p:nvPr/>
        </p:nvSpPr>
        <p:spPr>
          <a:xfrm>
            <a:off x="2971800" y="45720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0"/>
              <p:cNvSpPr txBox="1"/>
              <p:nvPr/>
            </p:nvSpPr>
            <p:spPr>
              <a:xfrm>
                <a:off x="609480" y="2209680"/>
                <a:ext cx="5486400" cy="18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5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ZoneTexte 5"/>
          <p:cNvSpPr/>
          <p:nvPr/>
        </p:nvSpPr>
        <p:spPr>
          <a:xfrm>
            <a:off x="6532200" y="236232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47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CEAD-F0C1-4B81-B5A6-CCC7EA81D483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D84B-0068-4BA3-A512-E451FA7AE28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977760" y="2333520"/>
                <a:ext cx="488952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6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ZoneTexte 5"/>
          <p:cNvSpPr/>
          <p:nvPr/>
        </p:nvSpPr>
        <p:spPr>
          <a:xfrm>
            <a:off x="6281640" y="25146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2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19AA-63E9-413B-BE46-1AAEDD0D4739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AD79-B169-4CE9-A660-42048E96F4C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4920" y="2209680"/>
            <a:ext cx="861048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J’ajoute 7000 à 4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ZoneTexte 6"/>
          <p:cNvSpPr/>
          <p:nvPr/>
        </p:nvSpPr>
        <p:spPr>
          <a:xfrm>
            <a:off x="9578520" y="297180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704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1 0.00486 C -0.18524 0.19514 -0.27621 0.38565 -0.37639 0.40903 C -0.47656 0.43241 -0.58594 0.28866 -0.69514 0.14514 E">
                                      <p:cBhvr>
                                        <p:cTn id="8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9642-DD5A-4358-8966-A45BB09B3074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4FAC-533E-41CF-AD31-1815D727BEC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1"/>
              <p:cNvSpPr txBox="1"/>
              <p:nvPr/>
            </p:nvSpPr>
            <p:spPr>
              <a:xfrm>
                <a:off x="304920" y="2286000"/>
                <a:ext cx="548640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1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29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ZoneTexte 5"/>
          <p:cNvSpPr/>
          <p:nvPr/>
        </p:nvSpPr>
        <p:spPr>
          <a:xfrm>
            <a:off x="9351720" y="25146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90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18 -0.00324 L -0.35885 -0.00324 E">
                                      <p:cBhvr>
                                        <p:cTn id="88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B11F-6613-412E-83D7-529034E59AB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590D-8F05-4699-AEB3-83AA2B02397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2"/>
              <p:cNvSpPr txBox="1"/>
              <p:nvPr/>
            </p:nvSpPr>
            <p:spPr>
              <a:xfrm>
                <a:off x="380880" y="2286000"/>
                <a:ext cx="73915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0 - 32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ZoneTexte 5"/>
          <p:cNvSpPr/>
          <p:nvPr/>
        </p:nvSpPr>
        <p:spPr>
          <a:xfrm>
            <a:off x="3352680" y="4648320"/>
            <a:ext cx="26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418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F709-442F-427D-993A-7FF318EFB18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7F2D-A88F-4D40-8E05-36F0F099D7CA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2209680"/>
            <a:ext cx="8380440" cy="24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0000"/>
                </a:solidFill>
                <a:latin typeface="Comic Sans MS"/>
              </a:rPr>
              <a:t>l‘addition, la soustraction,les quadrilatèr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5703-1D4F-4780-A283-6AD6577394F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7FDE-89A2-4E1E-8392-772E25CB14C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380880" y="2666880"/>
            <a:ext cx="5715000" cy="302004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110 – 11 =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ZoneTexte 6"/>
          <p:cNvSpPr/>
          <p:nvPr/>
        </p:nvSpPr>
        <p:spPr>
          <a:xfrm>
            <a:off x="9428040" y="27432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99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19 -0.00324 L -0.36719 -0.00324 E">
                                      <p:cBhvr>
                                        <p:cTn id="105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F6EB-E393-4717-AA66-26331067A94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8C46-85A6-4D76-A8E0-F2F02045C6F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3"/>
          <p:cNvSpPr/>
          <p:nvPr/>
        </p:nvSpPr>
        <p:spPr>
          <a:xfrm>
            <a:off x="304920" y="2133720"/>
            <a:ext cx="8076960" cy="82512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e soustrais 1200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à 47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ZoneTexte 8"/>
          <p:cNvSpPr/>
          <p:nvPr/>
        </p:nvSpPr>
        <p:spPr>
          <a:xfrm>
            <a:off x="9349920" y="213372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35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2" name="camera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55556E-006 C -0.06858 0.22638 -0.13698 0.453 -0.22084 0.4736 C -0.30469 0.49421 -0.44011 0.16504 -0.50313 0.1236 C -0.56615 0.08217 -0.58264 0.15347 -0.59896 0.22499 E">
                                      <p:cBhvr>
                                        <p:cTn id="111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3D53-5255-4A89-B6AA-14A1863A8A3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A782-EB8A-4D36-A9D1-ABE5CBAE3A9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380880" y="2590920"/>
            <a:ext cx="8077320" cy="155628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4 angles droits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ZoneTexte 5"/>
          <p:cNvSpPr/>
          <p:nvPr/>
        </p:nvSpPr>
        <p:spPr>
          <a:xfrm>
            <a:off x="2815200" y="4572000"/>
            <a:ext cx="386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rectang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2AA1-A522-44F8-93EE-79719B27027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829D-2D79-4EA5-9772-D3FF3FFE899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04920" y="2286000"/>
            <a:ext cx="8610480" cy="22874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Un quadrilatère qui a 4 angles droits et quatre côtés égaux est un ….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ZoneTexte 6"/>
          <p:cNvSpPr/>
          <p:nvPr/>
        </p:nvSpPr>
        <p:spPr>
          <a:xfrm>
            <a:off x="3690000" y="5334120"/>
            <a:ext cx="264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carré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13F7-F2B7-4216-B611-3E2B235C30C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AB02-B317-4327-99F8-D398949E535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80880" y="2590920"/>
            <a:ext cx="8077320" cy="1556280"/>
          </a:xfrm>
          <a:prstGeom prst="rect">
            <a:avLst/>
          </a:prstGeom>
          <a:solidFill>
            <a:srgbClr val="00b0f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4 côtés égaux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ZoneTexte 6"/>
          <p:cNvSpPr/>
          <p:nvPr/>
        </p:nvSpPr>
        <p:spPr>
          <a:xfrm>
            <a:off x="3416760" y="4724280"/>
            <a:ext cx="34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losang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33E9-9E6A-427E-9334-48BE1B65010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7312-9A31-46FF-B8EB-92C8ACE4121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0000"/>
                </a:solidFill>
                <a:latin typeface="Times New Roman"/>
              </a:rPr>
              <a:t>Pour chaque calcul, vous aurez un temps limité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57200" y="29718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b200"/>
                </a:solidFill>
                <a:latin typeface="Times New Roman"/>
              </a:rPr>
              <a:t>Ecrivez uniquement la réponse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7200" y="42670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Times New Roman"/>
              </a:rPr>
              <a:t>Attention, c’est à vou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98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98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384B-A95A-4CAB-977C-66E61EB34BB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6470-DAC9-4929-97CA-0FC68436B04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0"/>
              <p:cNvSpPr txBox="1"/>
              <p:nvPr/>
            </p:nvSpPr>
            <p:spPr>
              <a:xfrm>
                <a:off x="1042920" y="2170080"/>
                <a:ext cx="7058160" cy="18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5 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BC7A-4CE2-4D51-B6A0-CAC5C0FE5A1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3D2C-46EF-4820-9869-B0C9AE045764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1"/>
              <p:cNvSpPr txBox="1"/>
              <p:nvPr/>
            </p:nvSpPr>
            <p:spPr>
              <a:xfrm>
                <a:off x="230040" y="2333520"/>
                <a:ext cx="853308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6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? 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0EFA-CF04-48F6-A0DC-43104DF1A5C9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B85B-2791-4094-B0AA-BFAD0A903780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2209680"/>
            <a:ext cx="861048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J’ajoute 7000 à 4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0C33-B969-4D19-9599-0846F86BABF7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BD9B-66CD-451E-885B-24C050A1BDF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533520" y="2286000"/>
                <a:ext cx="807696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1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29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E1A0-497B-48C7-ABBC-64C9A81BFDCC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8501-CFBC-43CF-9E69-B527824B90F1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457200" y="2438280"/>
                <a:ext cx="82072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0 - 32 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DE64-B1BD-4924-BAE6-22B66C5BB1E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19CB-8AD1-4ABE-B90F-D22EB362C1A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90720" y="2590920"/>
            <a:ext cx="6933960" cy="155700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110 – 11 = ?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a</dc:creator>
  <dc:description/>
  <dc:language>en-US</dc:language>
  <cp:lastModifiedBy>Toma</cp:lastModifiedBy>
  <dcterms:modified xsi:type="dcterms:W3CDTF">2011-05-23T04:43:30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3</vt:r8>
  </property>
</Properties>
</file>