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678-8556-4579-90F7-E489A071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69FB-61DF-4BE8-8288-089083D7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29C6-80EA-47F6-BD5C-CC35EC1F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9E28-A51D-448C-B455-722B2C69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108-815D-4B74-9558-5FE2B921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0B8-790A-4B80-BF48-E4C4F09D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4436-8BA2-452A-8C7E-D5D23D11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8A5-2399-4598-B91F-3476AA34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471F-2E03-4537-923F-E9281ED4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1493-9F34-4E85-A4FB-A9305D38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53AA-98BB-4128-AD84-4FA65057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4A6-1307-4589-8368-C28E39C2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24CC-EB9B-4347-BC53-B5177579BE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é mentale</a:t>
            </a:r>
            <a:br>
              <a:rPr sz="6500"/>
            </a:br>
            <a:br>
              <a:rPr sz="65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ZoneTexte 3"/>
          <p:cNvSpPr/>
          <p:nvPr/>
        </p:nvSpPr>
        <p:spPr>
          <a:xfrm>
            <a:off x="642960" y="157176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 la géométr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 des calculs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574560" y="27082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us aurez 15 secondes pour donner une répon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3276720" y="3716280"/>
            <a:ext cx="33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es-vous prêt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ZoneTexte 6"/>
          <p:cNvSpPr/>
          <p:nvPr/>
        </p:nvSpPr>
        <p:spPr>
          <a:xfrm>
            <a:off x="3214800" y="47862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lors, allons-y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0" y="4857840"/>
            <a:ext cx="2751120" cy="20001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3,6 x 100 = </a:t>
            </a:r>
            <a:r>
              <a:rPr b="0" lang="en-US" sz="7200" spc="-1" strike="noStrike">
                <a:solidFill>
                  <a:srgbClr val="ffc000"/>
                </a:solidFill>
                <a:latin typeface="Calibri"/>
              </a:rPr>
              <a:t>……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42960" y="2928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8+30+6000=</a:t>
            </a:r>
            <a:r>
              <a:rPr b="0" lang="en-US" sz="7200" spc="-1" strike="noStrike">
                <a:solidFill>
                  <a:srgbClr val="ffc000"/>
                </a:solidFill>
                <a:latin typeface="Calibri"/>
              </a:rPr>
              <a:t>……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20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1"/>
          <p:cNvSpPr/>
          <p:nvPr/>
        </p:nvSpPr>
        <p:spPr>
          <a:xfrm>
            <a:off x="1571760" y="642960"/>
            <a:ext cx="62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Correction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819600" cy="3419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ZoneTexte 3"/>
          <p:cNvSpPr/>
          <p:nvPr/>
        </p:nvSpPr>
        <p:spPr>
          <a:xfrm>
            <a:off x="428760" y="471492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. Le quadrilatère ABCD es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071800" y="714240"/>
            <a:ext cx="4305240" cy="361980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4"/>
          <p:cNvSpPr/>
          <p:nvPr/>
        </p:nvSpPr>
        <p:spPr>
          <a:xfrm>
            <a:off x="3574800" y="564372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Un carr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2. L’angle               mesure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2143080" y="1285920"/>
            <a:ext cx="430524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5" name="Object 2"/>
              <p:cNvSpPr txBox="1"/>
              <p:nvPr/>
            </p:nvSpPr>
            <p:spPr>
              <a:xfrm>
                <a:off x="2500200" y="5357880"/>
                <a:ext cx="12146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ZoneTexte 4"/>
          <p:cNvSpPr/>
          <p:nvPr/>
        </p:nvSpPr>
        <p:spPr>
          <a:xfrm>
            <a:off x="11307600" y="2357280"/>
            <a:ext cx="93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90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1 -0.02126 C -0.11858 -0.0208 -0.23438 -0.02011 -0.32813 0.05616 C -0.42188 0.13243 -0.52483 0.37208 -0.56545 0.43702 E">
                                      <p:cBhvr>
                                        <p:cTn id="54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ZoneTexte 3"/>
          <p:cNvSpPr/>
          <p:nvPr/>
        </p:nvSpPr>
        <p:spPr>
          <a:xfrm>
            <a:off x="285840" y="464328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. Nommer une diagonale de ce quadrilatère 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286000" y="500040"/>
            <a:ext cx="4305240" cy="3619440"/>
          </a:xfrm>
          <a:prstGeom prst="rect">
            <a:avLst/>
          </a:prstGeom>
          <a:ln w="0">
            <a:noFill/>
          </a:ln>
        </p:spPr>
      </p:pic>
      <p:sp>
        <p:nvSpPr>
          <p:cNvPr id="80" name="ZoneTexte 4"/>
          <p:cNvSpPr/>
          <p:nvPr/>
        </p:nvSpPr>
        <p:spPr>
          <a:xfrm>
            <a:off x="2728800" y="5572080"/>
            <a:ext cx="336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[AC]  ou   [BD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ZoneTexte 3"/>
          <p:cNvSpPr/>
          <p:nvPr/>
        </p:nvSpPr>
        <p:spPr>
          <a:xfrm>
            <a:off x="214200" y="4572000"/>
            <a:ext cx="86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4. Ce quadrilatère est un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214720" y="1285920"/>
            <a:ext cx="4281480" cy="2533680"/>
          </a:xfrm>
          <a:prstGeom prst="rect">
            <a:avLst/>
          </a:prstGeom>
          <a:ln w="0">
            <a:noFill/>
          </a:ln>
        </p:spPr>
      </p:pic>
      <p:sp>
        <p:nvSpPr>
          <p:cNvPr id="83" name="ZoneTexte 9"/>
          <p:cNvSpPr/>
          <p:nvPr/>
        </p:nvSpPr>
        <p:spPr>
          <a:xfrm>
            <a:off x="3864600" y="557208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los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ZoneTexte 5"/>
          <p:cNvSpPr/>
          <p:nvPr/>
        </p:nvSpPr>
        <p:spPr>
          <a:xfrm>
            <a:off x="714240" y="2643120"/>
            <a:ext cx="51436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0,7 + 0,3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ZoneTexte 2"/>
          <p:cNvSpPr/>
          <p:nvPr/>
        </p:nvSpPr>
        <p:spPr>
          <a:xfrm>
            <a:off x="5646960" y="314316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27144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6</a:t>
            </a:r>
            <a:br>
              <a:rPr sz="4400"/>
            </a:b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Le double de 2,5 est 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ZoneTexte 3"/>
          <p:cNvSpPr/>
          <p:nvPr/>
        </p:nvSpPr>
        <p:spPr>
          <a:xfrm>
            <a:off x="7290000" y="292896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400" y="264276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estion 7</a:t>
            </a:r>
            <a:br>
              <a:rPr sz="3600"/>
            </a:b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La moitié de 7 est</a:t>
            </a:r>
            <a:br>
              <a:rPr sz="3600"/>
            </a:b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ZoneTexte 2"/>
          <p:cNvSpPr/>
          <p:nvPr/>
        </p:nvSpPr>
        <p:spPr>
          <a:xfrm>
            <a:off x="7364880" y="2571840"/>
            <a:ext cx="14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3,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ZoneTexte 3"/>
          <p:cNvSpPr/>
          <p:nvPr/>
        </p:nvSpPr>
        <p:spPr>
          <a:xfrm>
            <a:off x="500040" y="4929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. Le quadrilatère ABCD est un </a:t>
            </a: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………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2071800" y="714240"/>
            <a:ext cx="4305240" cy="36198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12 x 100 =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ZoneTexte 3"/>
          <p:cNvSpPr/>
          <p:nvPr/>
        </p:nvSpPr>
        <p:spPr>
          <a:xfrm>
            <a:off x="9439560" y="2857680"/>
            <a:ext cx="22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120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-0.10602 C -0.09809 -0.24422 -0.20347 -0.38218 -0.27569 -0.37246 C -0.34774 -0.3625 -0.40034 -0.1088 -0.42517 -0.04607 E">
                                      <p:cBhvr>
                                        <p:cTn id="99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707920"/>
            <a:ext cx="567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3,6 x 100 =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ZoneTexte 3"/>
          <p:cNvSpPr/>
          <p:nvPr/>
        </p:nvSpPr>
        <p:spPr>
          <a:xfrm>
            <a:off x="5794200" y="2714760"/>
            <a:ext cx="170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36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42600" y="2928600"/>
            <a:ext cx="51433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8+30+6000=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ZoneTexte 3"/>
          <p:cNvSpPr/>
          <p:nvPr/>
        </p:nvSpPr>
        <p:spPr>
          <a:xfrm>
            <a:off x="5724720" y="2928960"/>
            <a:ext cx="22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603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wipe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oneTexte 1"/>
          <p:cNvSpPr/>
          <p:nvPr/>
        </p:nvSpPr>
        <p:spPr>
          <a:xfrm>
            <a:off x="3635280" y="292428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Fi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E:\college\mes cours\sixièmes\6. Additions et soustractions\Cours\001.jpg"/>
          <p:cNvPicPr/>
          <p:nvPr/>
        </p:nvPicPr>
        <p:blipFill>
          <a:blip r:embed="rId1"/>
          <a:stretch/>
        </p:blipFill>
        <p:spPr>
          <a:xfrm>
            <a:off x="285840" y="-31680"/>
            <a:ext cx="8429400" cy="68896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2. L’angle               mesure  </a:t>
            </a: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………….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143080" y="1285920"/>
            <a:ext cx="430524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2500200" y="5357880"/>
                <a:ext cx="12146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5000">
    <p:wipe dir="r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ZoneTexte 3"/>
          <p:cNvSpPr/>
          <p:nvPr/>
        </p:nvSpPr>
        <p:spPr>
          <a:xfrm>
            <a:off x="0" y="5143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. Nommer une diagonale de ce quadrilatère 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2143080" y="1143000"/>
            <a:ext cx="4305240" cy="3619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3"/>
          <p:cNvSpPr/>
          <p:nvPr/>
        </p:nvSpPr>
        <p:spPr>
          <a:xfrm>
            <a:off x="214200" y="4572000"/>
            <a:ext cx="86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4. Ce quadrilatère est un</a:t>
            </a: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………………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214720" y="1285920"/>
            <a:ext cx="4281480" cy="25336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oneTexte 5"/>
          <p:cNvSpPr/>
          <p:nvPr/>
        </p:nvSpPr>
        <p:spPr>
          <a:xfrm>
            <a:off x="1928880" y="1928880"/>
            <a:ext cx="51433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0,7 + 0,3 = </a:t>
            </a: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…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68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6</a:t>
            </a:r>
            <a:br>
              <a:rPr sz="4400"/>
            </a:br>
            <a:br>
              <a:rPr sz="4400"/>
            </a:b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Le double de 2,5 est </a:t>
            </a:r>
            <a:r>
              <a:rPr b="0" lang="en-US" sz="6000" spc="-1" strike="noStrike">
                <a:solidFill>
                  <a:srgbClr val="ffc000"/>
                </a:solidFill>
                <a:latin typeface="Calibri"/>
              </a:rPr>
              <a:t>….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estion 7</a:t>
            </a:r>
            <a:br>
              <a:rPr sz="3600"/>
            </a:br>
            <a:br>
              <a:rPr sz="3600"/>
            </a:b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La moitié de 7 est </a:t>
            </a:r>
            <a:r>
              <a:rPr b="0" lang="en-US" sz="6000" spc="-1" strike="noStrike">
                <a:solidFill>
                  <a:srgbClr val="ffc000"/>
                </a:solidFill>
                <a:latin typeface="Calibri"/>
              </a:rPr>
              <a:t>….</a:t>
            </a:r>
            <a:br>
              <a:rPr sz="3600"/>
            </a:b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12 x 100 =</a:t>
            </a:r>
            <a:r>
              <a:rPr b="0" lang="en-US" sz="7200" spc="-1" strike="noStrike">
                <a:solidFill>
                  <a:srgbClr val="ffc000"/>
                </a:solidFill>
                <a:latin typeface="Calibri"/>
              </a:rPr>
              <a:t> ……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5:28:19Z</dcterms:created>
  <dc:creator>Didier</dc:creator>
  <dc:description/>
  <dc:language>en-US</dc:language>
  <cp:lastModifiedBy>Christian Girard</cp:lastModifiedBy>
  <dcterms:modified xsi:type="dcterms:W3CDTF">2011-07-12T21:09:03Z</dcterms:modified>
  <cp:revision>84</cp:revision>
  <dc:subject/>
  <dc:title>5 x 10 = ……</dc:title>
</cp:coreProperties>
</file>