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ACD-7DFE-4927-A76A-367BA3FD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F8E-56D8-4F8F-8D78-E5D80B52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23C-B5C8-4EAC-849B-84BFB6A6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9C2-0BE2-4968-BC04-809404B8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F28-5422-42F0-ACF7-92355DC3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DD5-368E-4A0B-98A0-0BBDD160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4CA-22C7-4DB6-BEF6-F201D838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A88-147B-42EB-BF8F-897A33A2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74F-A66B-4A22-81CF-815975D2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038-3427-439D-A9DF-AB12775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8EF-4E96-42BA-AA38-879A3A83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BB0-55FB-4EA7-A6EF-B027A9ED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2BCF-D6BD-484D-AD95-6E2DCAD6B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15 secondes pour résoudre chaque calcu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0 + 6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 x 9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C appartient-il à la droite (AB) ?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4040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643440" cy="389088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3"/>
          <p:cNvSpPr/>
          <p:nvPr/>
        </p:nvSpPr>
        <p:spPr>
          <a:xfrm>
            <a:off x="1449000" y="4714920"/>
            <a:ext cx="59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D appartient-il à [AB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appartient-il à [ED) ?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3890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3"/>
          <p:cNvSpPr/>
          <p:nvPr/>
        </p:nvSpPr>
        <p:spPr>
          <a:xfrm>
            <a:off x="-285840" y="510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eux droites parallèles : (AB) et (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64372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3"/>
          <p:cNvSpPr/>
          <p:nvPr/>
        </p:nvSpPr>
        <p:spPr>
          <a:xfrm>
            <a:off x="0" y="507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eux droites perpendiculaires: (AB) et (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 (CE) et (D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542916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15 – 9 = 10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5 + 14 = 3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C appartient-il à la droite (AB)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4040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7+6 = 4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0 + 600 = 21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 x 9 = 6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643440" cy="389088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3"/>
          <p:cNvSpPr/>
          <p:nvPr/>
        </p:nvSpPr>
        <p:spPr>
          <a:xfrm>
            <a:off x="1449000" y="4714920"/>
            <a:ext cx="59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D appartient-il à [AB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appartient-il à [ED)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3890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3"/>
          <p:cNvSpPr/>
          <p:nvPr/>
        </p:nvSpPr>
        <p:spPr>
          <a:xfrm>
            <a:off x="-285840" y="510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Nomme deux droites 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64372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0" y="507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iter deux droites perpendiculai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542916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15 – 9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5 + 14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7+6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3-29T19:18:29Z</dcterms:modified>
  <cp:revision>34</cp:revision>
  <dc:subject/>
  <dc:title>5 x 10 = ……</dc:title>
</cp:coreProperties>
</file>