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0E7-2543-4946-B1AB-408D8DC322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962B-F220-4734-910B-3F90476989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467-F801-445E-A7F1-CC47A5B603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2EE-8240-411C-ACA1-668B6F2B9C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884-BD22-4B3F-8BC1-00DDCF927C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617-E210-4009-A178-7692454F04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0C86-7DD1-4BC0-B423-106E7A3A6D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D97B-D190-40CB-8D75-E861855C07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B0E-DEF1-4C02-B19F-353DC70556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AD8-2F80-442C-88A7-FD874633FD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502E-FD3B-4E42-A7E5-C3514E50D0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01F4-B2DE-4FDF-8BEA-581AC5458F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F08-9FD2-43B6-9B6B-2E6EEFB70F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EB79-5D69-4657-AF80-16696F87F0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E9EC-94A2-4EC4-A8EF-40D47844FA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6F7-1C2C-46D6-81DD-3EC035F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91-9F79-4DE7-B502-3816142F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56D-7594-4437-B7CF-424AD793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E39-9B38-4059-BEAA-941410EC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234-4BE3-4409-B5E7-8218185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9AE-F54C-4276-9A7C-FAE0447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4339-324C-4BEB-BCDC-13D1FB4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DF7C-589C-4864-8E48-322491C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0523-5B9C-4CE5-9A15-21525C3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B02-11AF-44D4-B54D-CB7836C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7217-DA02-459D-ACB3-09456D4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A6D-A7B6-4919-B23E-2D57142A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7B0A-EDF1-4896-9294-6C57FD2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5B29-D6D8-4110-B5A4-E748ADE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9614-BE98-474A-8E29-123F986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980-54C1-44E5-9EFA-48A585B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5F6E-A546-4D06-B583-A040002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1A5-DBBE-420F-8CED-ED7422F3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E4D-81D6-4996-92A0-B22BAA2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FB3-425F-495E-824B-AF0BB0C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A50-2654-4471-95CA-AFF9FAE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271-B9B9-46C1-ADC0-A7DB17C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F33-3028-4F4C-B32E-7C6834F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1F2-E282-402A-8C6A-CDDA744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9567-1E1E-45BF-8CD3-48BF3BA651E4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C96-A871-426B-98A2-CFD3D20E1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040-0597-4C3C-B8DD-F186F38B48CF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E2B-7977-4749-950F-F75F3D8D2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426F-4BCB-4D91-8BC4-E18CEC28E95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A6B8-CC9C-4044-AC3A-286365BB5BA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48A-C2E5-4239-89BE-187EC07CCD1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91F-F375-4F48-B630-62AF4BDF2A1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362320"/>
                <a:ext cx="868680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6DB-76F5-4E95-B718-D81385B96AC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FE4-2809-4242-88EB-C854B7C4E17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8600" y="2438280"/>
                <a:ext cx="86868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890A-2149-41F0-8FC3-E3C5DB909A3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CE4-2CB7-441E-A173-DB6E2B96A1E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5 ans et demi, Paul est quatre fois plus âgé qu’Alexis, quel âge a Pau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B56-D338-43A8-828B-91F767694C6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50D6-E37A-4E5C-AB4C-2A899044423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3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1D0B-8310-42E3-BA96-316D09A6BCD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CF51-9E88-48F8-92EF-CDCAEC61591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A07-FC59-4482-99E0-B8A35309161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BCF-86CC-4765-AA04-DC983A7E651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98C-6A16-4840-BF73-C30632D3E85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A1E-518F-49CB-ACF3-CBF8B42AAAC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1981080"/>
                <a:ext cx="73663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F6F-49E9-427C-9F4B-E6453C0A2BD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C4D7-563F-4129-97F2-F2BE2EB2629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28600" y="2209680"/>
                <a:ext cx="88120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EF5-9906-4E3B-A779-AE4FE84332A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FC7-1F62-47D9-AE4B-02487715FD1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10083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Dans</a:t>
            </a: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 64 combien de fois 8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77A8-3A3A-4A18-9CE4-597BCC5BFCA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6FC-3C1C-46FB-BE0E-A324A0ACD06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52280" y="2286000"/>
                <a:ext cx="88394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8D8-9424-4C85-92A5-5909085409E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CDF-81B9-4B87-B704-5EDF824A6EF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228600" y="2438280"/>
                <a:ext cx="87631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789-842B-46FD-AF37-8E16812BBD7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B80-ADFF-47B2-9C3A-4C9F7FE4187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50 euros , combien peut-on acheter de livres à 8 euro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a</cp:lastModifiedBy>
  <dcterms:modified xsi:type="dcterms:W3CDTF">2011-05-08T08:52:59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