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4B6-7C83-4626-894F-EE29C2A5AF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7A07-1A24-47A3-94DC-D30B079BB2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8E0-375F-4D77-ABBF-1EF184AB7F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E9C7-5D82-49D0-A520-F2C51B81EE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1715-BBBC-4E9A-9A77-D759DBB29A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178-FA8A-4BAA-8D0D-842AA3A2A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5AE-0009-4F63-B922-74302EBE60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65C-2511-4620-A876-B3C5C0BF9A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87F-3EEF-4420-9868-BF85D8BE78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EE2-8698-44A6-A7E7-02D0133584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98D5-9C4A-45AB-A55D-03224D581B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2216-8D7D-467E-A55F-E216F028C4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62C-48B1-41BE-B385-646AE327BC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FADA-2DBD-4D01-BF0E-B301847193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654-BCB6-45C1-93B3-583356B513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A34-0359-4C9E-A9FF-B79DBAD2FD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1D58-1E75-4BA9-9475-12D6A8BEE9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3379-2A24-4020-A0EA-38179E88EF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5527-8BE8-402D-8853-5BF49E714F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E24A-C470-42FC-BFE7-3B98B7A6EC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C852-09DE-40B1-BC9B-F6629E4AC4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C867-79FD-4DB6-AD6A-B7E72921D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875-177A-438B-961B-B133D2424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2ECD-E12F-4049-AE0D-8A551804B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10B-0086-4DB4-B49D-97BF082331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F3F-EA4E-4545-BF11-6E60C5CD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E54-BE00-4738-96E0-702CDED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B64-3BAE-4F22-A7D5-E992B5A6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F25-F2DD-4895-9C05-7690128E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DBD-36FC-46EB-9B82-1791C147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BBB5-3905-45C6-BEBC-3AB6EA0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54F9-33A0-46A5-8B42-57B07DB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82E4-4CB5-4AD4-982D-67CBF6D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55F5-AE85-4200-9F78-43B984E0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29B-3DEE-4C54-98B4-DFA5003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E273-CBA9-4981-AE86-9FD43E1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973-2363-4085-A37D-C7942AC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AC8C-7AF0-4F4C-ADF3-FAA9521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56C-05ED-4B48-8258-7EFBBC9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9D6-EE62-42B3-BB20-367E46A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7537-42AC-4853-B9A2-C1EC826E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22B5-814F-486E-926D-E5FC26F3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FAA-D92D-4D03-9FAD-95DE514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883-AE47-4271-AE3F-7CE8BB7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05C-FA97-4DFA-B050-60A6BD6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E76-1FD9-4B79-8A4A-44F8B0F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FB6-F8EF-443A-892E-E65043CD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04C-49E0-4D51-885C-A787B2D5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33A-0A1D-41C8-958A-B71F55E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028-215A-468A-883D-B7E7FE990F51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96D2-3E23-4094-B491-347F8C543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C0E-1F43-4A40-B1F6-7DFBC09412F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1D61-F391-40EC-B36C-CE766BFEC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943E-5D1D-4F38-AEFE-F078A576062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745C-FDDC-4649-BE18-0503F2372B0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BDC2-FD46-4C5B-9F55-C346B04510F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C78-F274-426E-9419-3D1C86D015A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411280"/>
                <a:ext cx="868680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B89B-5CA6-44F1-90E7-1DDF91F8D37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D03-1DE0-4880-8976-02AC9B93EED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595440" y="24382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12E4-6446-4EB2-BDCF-FD1FDD7A51E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1E08-1814-45E7-AC1E-033C48CE85C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33F-5758-43E4-AB22-2B52872FA5F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7F0-79E3-45F5-9E83-B8685ADCBB0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F869-5382-4FF3-A630-A1890780B47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446A-9320-423F-B3F3-DC1E379AFF8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1579680" y="2011320"/>
                <a:ext cx="598320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ZoneTexte 5"/>
          <p:cNvSpPr/>
          <p:nvPr/>
        </p:nvSpPr>
        <p:spPr>
          <a:xfrm>
            <a:off x="3886200" y="4419720"/>
            <a:ext cx="101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F919-D5BD-47F3-8DFE-85C4C6E5A0F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DB0-A236-4AA1-8183-FD63F82DFE6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ZoneTexte 5"/>
          <p:cNvSpPr/>
          <p:nvPr/>
        </p:nvSpPr>
        <p:spPr>
          <a:xfrm>
            <a:off x="3565440" y="44956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D84-4C0A-4EC3-B713-0847B21C2C9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27CB-7F07-4757-A8B1-93FE5327551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ZoneTexte 6"/>
          <p:cNvSpPr/>
          <p:nvPr/>
        </p:nvSpPr>
        <p:spPr>
          <a:xfrm>
            <a:off x="9401400" y="33526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9 -0.00602 C -0.04514 -0.01921 -0.0349 -0.03218 -0.09184 0.01759 C -0.14879 0.06736 -0.29428 0.28542 -0.39705 0.29259 C -0.49983 0.29977 -0.60417 0.18009 -0.70851 0.06065 E">
                                      <p:cBhvr>
                                        <p:cTn id="7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906C-F072-4288-BD32-70ABA71544B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6118-38E4-4E6A-9070-E57DD889751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1"/>
              <p:cNvSpPr txBox="1"/>
              <p:nvPr/>
            </p:nvSpPr>
            <p:spPr>
              <a:xfrm>
                <a:off x="0" y="1905120"/>
                <a:ext cx="899172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ZoneTexte 5"/>
          <p:cNvSpPr/>
          <p:nvPr/>
        </p:nvSpPr>
        <p:spPr>
          <a:xfrm>
            <a:off x="9440640" y="2590920"/>
            <a:ext cx="26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,3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1898 L -0.73298 0.2412 E">
                                      <p:cBhvr>
                                        <p:cTn id="8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0DB-0C4B-4FD4-A5C8-F5986161D1B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718-F4FA-4F93-AE9E-037239E9CC2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ZoneTexte 5"/>
          <p:cNvSpPr/>
          <p:nvPr/>
        </p:nvSpPr>
        <p:spPr>
          <a:xfrm>
            <a:off x="9144000" y="3429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,5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53333 0.17778 E">
                                      <p:cBhvr>
                                        <p:cTn id="87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685-CA3D-4341-9585-27774076B8D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8BD-E37B-4D86-8C79-2B2B1B93F7E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4D0F-E017-477F-A7A7-97EC491AB4D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AEA-9539-45C3-9D58-96D0A6D1FF3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ZoneTexte 6"/>
          <p:cNvSpPr/>
          <p:nvPr/>
        </p:nvSpPr>
        <p:spPr>
          <a:xfrm>
            <a:off x="3409920" y="4267080"/>
            <a:ext cx="338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6 cahier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FFD-6505-4769-A4D7-A4F6FD1BD1A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58CB-26B7-4B29-87A4-6A5E032E40A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5"/>
              <p:cNvSpPr txBox="1"/>
              <p:nvPr/>
            </p:nvSpPr>
            <p:spPr>
              <a:xfrm>
                <a:off x="0" y="2057400"/>
                <a:ext cx="868680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ZoneTexte 6"/>
          <p:cNvSpPr/>
          <p:nvPr/>
        </p:nvSpPr>
        <p:spPr>
          <a:xfrm>
            <a:off x="9455040" y="35812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5 0.01065 C -0.20486 0.14422 -0.27205 0.27778 -0.33125 0.27593 C -0.39045 0.27408 -0.4309 0.01991 -0.4927 -0.00046 C -0.55451 -0.02083 -0.66996 0.13056 -0.70208 0.15371 E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72EC-BC83-469A-B62B-F144DDA1090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53C-E4EF-4184-88F8-7EBCCA01BCE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533520" y="19810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ZoneTexte 5"/>
          <p:cNvSpPr/>
          <p:nvPr/>
        </p:nvSpPr>
        <p:spPr>
          <a:xfrm>
            <a:off x="3560400" y="42670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361D-EC63-4642-9764-FD7E5EF56BA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B25-27F8-438F-8DBA-B51610DECF8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304920" y="198108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ZoneTexte 6"/>
          <p:cNvSpPr/>
          <p:nvPr/>
        </p:nvSpPr>
        <p:spPr>
          <a:xfrm>
            <a:off x="2928960" y="464832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l a 21 a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817E-1F9C-4693-ADD1-920DAC60D50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124-F8EA-41EC-9D7F-4C82572D18A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ZoneTexte 5"/>
          <p:cNvSpPr/>
          <p:nvPr/>
        </p:nvSpPr>
        <p:spPr>
          <a:xfrm>
            <a:off x="9397800" y="419112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O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54 0.01065 C -0.17917 -0.04629 -0.24479 -0.10324 -0.30312 -0.08379 C -0.36146 -0.06435 -0.4033 0.10973 -0.46354 0.12732 C -0.52378 0.14491 -0.59427 0.08334 -0.66458 0.02176 E">
                                      <p:cBhvr>
                                        <p:cTn id="1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82F-1527-4278-8E4E-36B00C27DD4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C024-92CC-4CCA-B984-B308802C377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5BB-89D0-400D-91F6-82E6E285559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BB3E-2750-4B68-A191-93268C4FD3F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2011320"/>
                <a:ext cx="736632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472-B498-41F2-ADA2-484500D5D7B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C2E-77DF-425F-B4A4-E32084F03DF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D1AE-425E-40EB-9D21-E7E64BB4776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FAA-A0D0-456D-91D8-15A1B25C2C7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4D8-F678-400E-9606-0DBE838149E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039F-511E-42DC-A941-98E8F29E62F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76320" y="2286000"/>
                <a:ext cx="89913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578F-85BD-4C35-8688-FB3729B9E5F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D4E6-3700-4B35-B8FE-4EDC896AA15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4249-693E-4321-8878-555609A96B1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E95D-FC67-40B3-87E4-8897C4929AC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09T04:25:24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