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2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7ED4-3659-4948-A4D5-41611E294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9B8A-82A4-408B-A62F-58DD2F7C1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9CB1-871E-4369-816B-3EE7CB84E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560F-C55C-4D74-A0E7-C160CB89C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46E2-CAD3-4024-BC54-BD35A5E42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26DC-9AA6-47B1-8098-428A0159A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6B17-CEC6-49F1-A6E9-03C51CD65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4F6C-096D-47E9-B463-43A3D030C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FBA3-B6F5-4B71-8773-9E1D6F484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3D3C-3CAF-41E0-BD9E-5C046D26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C10B-3484-4BCE-8480-B31DA8D7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FD51-73EA-4E7C-BF0E-2EC0E818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F2EAA-6D06-41E9-82DD-F830BCF86F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632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Activité mentale</a:t>
            </a:r>
            <a:br>
              <a:rPr sz="6500"/>
            </a:br>
            <a:br>
              <a:rPr sz="65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oneTexte 3"/>
          <p:cNvSpPr/>
          <p:nvPr/>
        </p:nvSpPr>
        <p:spPr>
          <a:xfrm>
            <a:off x="642960" y="1571760"/>
            <a:ext cx="7786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Calibri"/>
              </a:rPr>
              <a:t>Premiers éléments de géométr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Calibri"/>
              </a:rPr>
              <a:t>Et calculs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4"/>
          <p:cNvSpPr/>
          <p:nvPr/>
        </p:nvSpPr>
        <p:spPr>
          <a:xfrm>
            <a:off x="574560" y="2708280"/>
            <a:ext cx="82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Vous aurez 20 secondes pour donner une répon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5"/>
          <p:cNvSpPr/>
          <p:nvPr/>
        </p:nvSpPr>
        <p:spPr>
          <a:xfrm>
            <a:off x="3276720" y="3716280"/>
            <a:ext cx="331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Etes-vous prêt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ZoneTexte 6"/>
          <p:cNvSpPr/>
          <p:nvPr/>
        </p:nvSpPr>
        <p:spPr>
          <a:xfrm>
            <a:off x="3214800" y="4786200"/>
            <a:ext cx="38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Alors, allons-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0">
    <p:dissolve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3,6 x 100 = ……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ZoneTexte 2"/>
          <p:cNvSpPr/>
          <p:nvPr/>
        </p:nvSpPr>
        <p:spPr>
          <a:xfrm>
            <a:off x="3071880" y="185724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Question 9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1680" y="178560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Question 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42960" y="292860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8+30+6000=……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20000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ZoneTexte 1"/>
          <p:cNvSpPr/>
          <p:nvPr/>
        </p:nvSpPr>
        <p:spPr>
          <a:xfrm>
            <a:off x="1692360" y="2492280"/>
            <a:ext cx="62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fr-FR" sz="9600" spc="-1" strike="noStrike">
                <a:solidFill>
                  <a:srgbClr val="ff0000"/>
                </a:solidFill>
                <a:latin typeface="Calibri"/>
              </a:rPr>
              <a:t>Correction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pull dir="r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1</a:t>
            </a:r>
            <a:br>
              <a:rPr sz="7200"/>
            </a:br>
            <a:br>
              <a:rPr sz="7200"/>
            </a:br>
            <a:br>
              <a:rPr sz="7200"/>
            </a:br>
            <a:r>
              <a:rPr b="0" lang="fr-FR" sz="36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ZoneTexte 3"/>
          <p:cNvSpPr/>
          <p:nvPr/>
        </p:nvSpPr>
        <p:spPr>
          <a:xfrm>
            <a:off x="428760" y="4714920"/>
            <a:ext cx="814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1. Le point d’intersection des droi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(DF) et (CF) est 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"/>
          <p:cNvPicPr/>
          <p:nvPr/>
        </p:nvPicPr>
        <p:blipFill>
          <a:blip r:embed="rId1"/>
          <a:stretch/>
        </p:blipFill>
        <p:spPr>
          <a:xfrm>
            <a:off x="1000080" y="571680"/>
            <a:ext cx="6972480" cy="4057560"/>
          </a:xfrm>
          <a:prstGeom prst="rect">
            <a:avLst/>
          </a:prstGeom>
          <a:ln w="0">
            <a:noFill/>
          </a:ln>
        </p:spPr>
      </p:pic>
      <p:sp>
        <p:nvSpPr>
          <p:cNvPr id="69" name="ZoneTexte 4"/>
          <p:cNvSpPr/>
          <p:nvPr/>
        </p:nvSpPr>
        <p:spPr>
          <a:xfrm>
            <a:off x="10218960" y="135720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2" name="chimes.wav"/>
      </p:stSnd>
    </p:sndAc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056 0.06018 C -0.02604 0.25023 -0.02153 0.44051 -0.12153 0.53078 C -0.22153 0.62106 -0.54844 0.59328 -0.63056 0.60162 E">
                                      <p:cBhvr>
                                        <p:cTn id="40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2. La droite (AB) semble parallèle à la droite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928800" y="642960"/>
            <a:ext cx="7524720" cy="4379760"/>
          </a:xfrm>
          <a:prstGeom prst="rect">
            <a:avLst/>
          </a:prstGeom>
          <a:ln w="0">
            <a:noFill/>
          </a:ln>
        </p:spPr>
      </p:pic>
      <p:sp>
        <p:nvSpPr>
          <p:cNvPr id="72" name="ZoneTexte 3"/>
          <p:cNvSpPr/>
          <p:nvPr/>
        </p:nvSpPr>
        <p:spPr>
          <a:xfrm>
            <a:off x="9364680" y="585792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(DF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2" name="chimes.wav"/>
      </p:stSnd>
    </p:sndAc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403 0.00833 L -0.53681 0.00833 E">
                                      <p:cBhvr>
                                        <p:cTn id="46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oneTexte 3"/>
          <p:cNvSpPr/>
          <p:nvPr/>
        </p:nvSpPr>
        <p:spPr>
          <a:xfrm>
            <a:off x="571680" y="5103720"/>
            <a:ext cx="828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3. La droite (CE) semble perpendiculaire à la droite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928800" y="642960"/>
            <a:ext cx="7524720" cy="4379760"/>
          </a:xfrm>
          <a:prstGeom prst="rect">
            <a:avLst/>
          </a:prstGeom>
          <a:ln w="0">
            <a:noFill/>
          </a:ln>
        </p:spPr>
      </p:pic>
      <p:sp>
        <p:nvSpPr>
          <p:cNvPr id="76" name="ZoneTexte 4"/>
          <p:cNvSpPr/>
          <p:nvPr/>
        </p:nvSpPr>
        <p:spPr>
          <a:xfrm>
            <a:off x="9952920" y="3000240"/>
            <a:ext cx="444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(AE) ou (AB) ou (DF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2" name="chimes.wav"/>
      </p:stSnd>
    </p:sndAc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47 0.04884 C 0.01441 0.1625 0.03246 0.27639 -0.09566 0.33843 C -0.22379 0.40046 -0.64809 0.40787 -0.77222 0.42176 E">
                                      <p:cBhvr>
                                        <p:cTn id="52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ZoneTexte 3"/>
          <p:cNvSpPr/>
          <p:nvPr/>
        </p:nvSpPr>
        <p:spPr>
          <a:xfrm>
            <a:off x="642960" y="507204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4. Les droites (AB) et (CF) sont sécantes en     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928800" y="642960"/>
            <a:ext cx="7524720" cy="4379760"/>
          </a:xfrm>
          <a:prstGeom prst="rect">
            <a:avLst/>
          </a:prstGeom>
          <a:ln w="0">
            <a:noFill/>
          </a:ln>
        </p:spPr>
      </p:pic>
      <p:sp>
        <p:nvSpPr>
          <p:cNvPr id="79" name="ZoneTexte 3"/>
          <p:cNvSpPr/>
          <p:nvPr/>
        </p:nvSpPr>
        <p:spPr>
          <a:xfrm>
            <a:off x="9861480" y="285768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2" name="chimes.wav"/>
      </p:stSnd>
    </p:sndAc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229 0.00509 C -0.15989 -0.1007 -0.28732 -0.20648 -0.39288 -0.13843 C -0.49843 -0.07037 -0.61892 0.3169 -0.66562 0.41319 E">
                                      <p:cBhvr>
                                        <p:cTn id="58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ZoneTexte 5"/>
          <p:cNvSpPr/>
          <p:nvPr/>
        </p:nvSpPr>
        <p:spPr>
          <a:xfrm>
            <a:off x="714240" y="2643120"/>
            <a:ext cx="514368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Question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Arial"/>
              </a:rPr>
              <a:t>0,7 + 0,3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oneTexte 2"/>
          <p:cNvSpPr/>
          <p:nvPr/>
        </p:nvSpPr>
        <p:spPr>
          <a:xfrm>
            <a:off x="5646960" y="3143160"/>
            <a:ext cx="6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271440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Question 6</a:t>
            </a:r>
            <a:br>
              <a:rPr sz="4400"/>
            </a:br>
            <a:r>
              <a:rPr b="0" lang="fr-FR" sz="6000" spc="-1" strike="noStrike">
                <a:solidFill>
                  <a:srgbClr val="ff0000"/>
                </a:solidFill>
                <a:latin typeface="Calibri"/>
              </a:rPr>
              <a:t>Le double de 12 est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ZoneTexte 3"/>
          <p:cNvSpPr/>
          <p:nvPr/>
        </p:nvSpPr>
        <p:spPr>
          <a:xfrm>
            <a:off x="7292880" y="2928960"/>
            <a:ext cx="119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Arial"/>
              </a:rPr>
              <a:t>2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400" y="2642760"/>
            <a:ext cx="70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Question 7</a:t>
            </a:r>
            <a:br>
              <a:rPr sz="3600"/>
            </a:br>
            <a:r>
              <a:rPr b="0" lang="fr-FR" sz="6000" spc="-1" strike="noStrike">
                <a:solidFill>
                  <a:srgbClr val="ff0000"/>
                </a:solidFill>
                <a:latin typeface="Calibri"/>
              </a:rPr>
              <a:t>La moitié de 14 est</a:t>
            </a:r>
            <a:br>
              <a:rPr sz="36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ZoneTexte 2"/>
          <p:cNvSpPr/>
          <p:nvPr/>
        </p:nvSpPr>
        <p:spPr>
          <a:xfrm>
            <a:off x="7361640" y="2571840"/>
            <a:ext cx="6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1</a:t>
            </a:r>
            <a:br>
              <a:rPr sz="7200"/>
            </a:br>
            <a:br>
              <a:rPr sz="7200"/>
            </a:br>
            <a:br>
              <a:rPr sz="7200"/>
            </a:br>
            <a:r>
              <a:rPr b="0" lang="fr-FR" sz="36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oneTexte 3"/>
          <p:cNvSpPr/>
          <p:nvPr/>
        </p:nvSpPr>
        <p:spPr>
          <a:xfrm>
            <a:off x="428760" y="4714920"/>
            <a:ext cx="814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1. Le point d’intersection des droi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(DF) et (CF) est ? 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1000080" y="571680"/>
            <a:ext cx="6972480" cy="405756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ipe dir="r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4920" y="270792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12 x 100 =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ZoneTexte 2"/>
          <p:cNvSpPr/>
          <p:nvPr/>
        </p:nvSpPr>
        <p:spPr>
          <a:xfrm>
            <a:off x="3012120" y="1928880"/>
            <a:ext cx="23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Question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ZoneTexte 3"/>
          <p:cNvSpPr/>
          <p:nvPr/>
        </p:nvSpPr>
        <p:spPr>
          <a:xfrm>
            <a:off x="9439560" y="2857680"/>
            <a:ext cx="221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Arial"/>
              </a:rPr>
              <a:t>120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47 -0.10602 C -0.09809 -0.24422 -0.20347 -0.38218 -0.27569 -0.37246 C -0.34774 -0.3625 -0.40034 -0.1088 -0.42517 -0.04607 E">
                                      <p:cBhvr>
                                        <p:cTn id="85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2707920"/>
            <a:ext cx="567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3,6 x 100 =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ZoneTexte 2"/>
          <p:cNvSpPr/>
          <p:nvPr/>
        </p:nvSpPr>
        <p:spPr>
          <a:xfrm>
            <a:off x="3071880" y="185724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Question 9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oneTexte 3"/>
          <p:cNvSpPr/>
          <p:nvPr/>
        </p:nvSpPr>
        <p:spPr>
          <a:xfrm>
            <a:off x="5794200" y="2714760"/>
            <a:ext cx="170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Arial"/>
              </a:rPr>
              <a:t>36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680" y="178560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Question 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42600" y="2928600"/>
            <a:ext cx="514332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8+30+6000=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oneTexte 3"/>
          <p:cNvSpPr/>
          <p:nvPr/>
        </p:nvSpPr>
        <p:spPr>
          <a:xfrm>
            <a:off x="5724720" y="2928960"/>
            <a:ext cx="221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Arial"/>
              </a:rPr>
              <a:t>603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0">
    <p:wipe dir="l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ZoneTexte 1"/>
          <p:cNvSpPr/>
          <p:nvPr/>
        </p:nvSpPr>
        <p:spPr>
          <a:xfrm>
            <a:off x="3635280" y="2924280"/>
            <a:ext cx="417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Calibri"/>
              </a:rPr>
              <a:t>Fi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0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2. La droite (AB) semble parallèle à la droite …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928800" y="642960"/>
            <a:ext cx="7524720" cy="437976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ipe dir="r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ZoneTexte 3"/>
          <p:cNvSpPr/>
          <p:nvPr/>
        </p:nvSpPr>
        <p:spPr>
          <a:xfrm>
            <a:off x="571680" y="5103720"/>
            <a:ext cx="828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3. La droite (CE) semble perpendiculaire à la droite 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928800" y="642960"/>
            <a:ext cx="7524720" cy="437976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ipe dir="r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ZoneTexte 3"/>
          <p:cNvSpPr/>
          <p:nvPr/>
        </p:nvSpPr>
        <p:spPr>
          <a:xfrm>
            <a:off x="642960" y="507204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4. Les droites (AB) et (CF) sont sécantes en     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928800" y="642960"/>
            <a:ext cx="7524720" cy="437976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ipe dir="r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ZoneTexte 5"/>
          <p:cNvSpPr/>
          <p:nvPr/>
        </p:nvSpPr>
        <p:spPr>
          <a:xfrm>
            <a:off x="1928880" y="2571840"/>
            <a:ext cx="514332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Question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Arial"/>
              </a:rPr>
              <a:t>0,7 + 0,3 = …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1680" y="242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Question 6</a:t>
            </a:r>
            <a:br>
              <a:rPr sz="4400"/>
            </a:br>
            <a:r>
              <a:rPr b="0" lang="fr-FR" sz="6000" spc="-1" strike="noStrike">
                <a:solidFill>
                  <a:srgbClr val="ff0000"/>
                </a:solidFill>
                <a:latin typeface="Calibri"/>
              </a:rPr>
              <a:t>Le double de 12 est …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760" y="264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Question 7</a:t>
            </a:r>
            <a:br>
              <a:rPr sz="3600"/>
            </a:br>
            <a:r>
              <a:rPr b="0" lang="fr-FR" sz="6000" spc="-1" strike="noStrike">
                <a:solidFill>
                  <a:srgbClr val="ff0000"/>
                </a:solidFill>
                <a:latin typeface="Calibri"/>
              </a:rPr>
              <a:t>La moitié de 14 est ….</a:t>
            </a:r>
            <a:br>
              <a:rPr sz="36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12 x 100 = ……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ZoneTexte 2"/>
          <p:cNvSpPr/>
          <p:nvPr/>
        </p:nvSpPr>
        <p:spPr>
          <a:xfrm>
            <a:off x="3012120" y="1928880"/>
            <a:ext cx="23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Question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05:28:19Z</dcterms:created>
  <dc:creator>Didier</dc:creator>
  <dc:description/>
  <dc:language>en-US</dc:language>
  <cp:lastModifiedBy>Toma</cp:lastModifiedBy>
  <dcterms:modified xsi:type="dcterms:W3CDTF">2011-05-03T09:27:18Z</dcterms:modified>
  <cp:revision>62</cp:revision>
  <dc:subject/>
  <dc:title>5 x 10 = ……</dc:title>
</cp:coreProperties>
</file>