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AA6-C647-4FF5-95BD-AB90865B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1F8-5D10-4E60-9CF1-D4E6EF4E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DD3-E422-40A0-8D60-D6FAD429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9C9-44C0-4859-A2D3-CC6BABF3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001-5C85-438D-9877-A25EDE73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9AC-4FB6-4AA5-99C8-CC575846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5E8-9AEA-41E5-B5DD-7DE5FCAA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135-A7A1-4740-BCA0-660CC70F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E52-BC45-48F2-B59E-6D0764C4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93C-8EF6-4C90-9BE9-959F3965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53C-C78D-449A-92EE-067F564E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124-5A97-4E21-8B5B-462A3BCF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C7F8-8D5B-42CD-A198-CA32B8FC5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alcul mental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3132000" y="1700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Opé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us aurez 15 secondes pour résoudre chaque calcu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419640" y="479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7 x 6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7 000 – 5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0792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 x 10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3"/>
          <p:cNvSpPr/>
          <p:nvPr/>
        </p:nvSpPr>
        <p:spPr>
          <a:xfrm>
            <a:off x="5651640" y="263700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 + 2 + 3 + 4 + 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7164360" y="2637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8100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 000 : 2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5651640" y="2708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43 + 2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5867280" y="2637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6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2,5 x 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5076720" y="26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2,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00 000 – 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2"/>
          <p:cNvSpPr/>
          <p:nvPr/>
        </p:nvSpPr>
        <p:spPr>
          <a:xfrm>
            <a:off x="5940360" y="27082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99 99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5 x 1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0 + 5 + 8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6012000" y="270828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2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80 : 4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2"/>
          <p:cNvSpPr/>
          <p:nvPr/>
        </p:nvSpPr>
        <p:spPr>
          <a:xfrm>
            <a:off x="4788000" y="263700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7 x 6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5076720" y="27082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4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81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7 000 – 5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2"/>
          <p:cNvSpPr/>
          <p:nvPr/>
        </p:nvSpPr>
        <p:spPr>
          <a:xfrm>
            <a:off x="6227640" y="2708280"/>
            <a:ext cx="26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6 5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 + 2 + 3 + 4 + 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 000 : 2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543 + 2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2,5 x 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00 000 – 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0 + 5 + 8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80 : 4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3-22T22:53:05Z</dcterms:modified>
  <cp:revision>22</cp:revision>
  <dc:subject/>
  <dc:title>5 x 10 = ……</dc:title>
</cp:coreProperties>
</file>