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image1.png" ContentType="image/png"/>
  <Override PartName="/ppt/media/image2.png" ContentType="image/png"/>
  <Override PartName="/ppt/media/chimes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9949-11BE-46EF-858C-547339E9D4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9380-28E4-4E9A-8367-4BA38F5757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ABC8-4372-4924-AA15-9F43538A60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D577-28A2-4135-9D26-0A668BA763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DC95-6474-48E0-98AC-424B9D7A0E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E0A9-1BAF-447A-AD39-D7EC831D3F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4286-4206-4AE3-B2A6-172172AEB0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89B1-84A8-4F22-885E-2520A5D176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1500-A995-4D4E-A990-BFC7804275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844A-CB66-4932-A9D7-978A166A39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1CA6-D50F-44A8-B9CB-EB727CF83B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141F-2B92-4D21-8BB4-BA4CBD6B08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EDB1-6EDD-41B7-8763-F02968C9FB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F69D-1445-48DE-80E7-2F55CE5902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9C5B-D350-473D-AA31-23100FB6DC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8335-4193-4771-A8A9-8861F34EAE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3ED1-4941-4EC6-998A-38370EA24A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19F2-134E-42DC-BB73-7909A9F0F5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9E05-8B73-41E8-8C1D-5934EF0780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6F6D-41C1-408B-846E-FF6CC79CA7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0DC1-A32D-4CBD-AB24-C77C4358AF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B361-66C3-450E-8A5E-53349E5E95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61EB-0AF9-4E76-8E67-EAE67601CB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A14F-C9F2-4324-9A97-0A635C63B5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B0C6-A37E-4353-BC38-D4F6ECE41A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99E-5B09-4A10-80A6-D8D53281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F49-5B73-436E-91FB-E1089E1C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C30-0F8F-40A3-8A64-8351C768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AE4-1C62-493A-A685-B036B8D4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6E4B-2956-4CC3-B24C-DDF20379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E873-BF9F-40A5-AB00-79AE52A3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75FE-D23C-4E2B-A6A5-39E4A053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6029-7F2F-4678-96F2-63A54907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8947-5CDD-43EA-9455-6184C804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65B7-A2F9-44C3-A94B-A65D11B3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1B53-083E-4D4B-AE90-FF0E72C6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B93-3073-446E-AD3D-79602CCF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E721-E3D4-42A0-9892-058C71ED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F430-7568-40CF-9932-28B24F7A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41D6-09EF-4C72-AD76-AB5FCA98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1F0E-C289-43D5-B64B-1F094411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C23B-93E8-4460-B4A6-E09C346D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1A4-A85B-437E-AA23-C5F1FFB1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E70-905D-419B-8879-955DB8AB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60D-FE34-4B2B-8417-AD8622AD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0B3-ABE2-4F13-9EDB-D3265FA2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938-9219-41CF-AD2C-5BF4BA5C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741-9A7B-4B6F-86A9-D71F89FC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653-E38A-4B43-9FCD-A07AA430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2DA9-E226-4280-9A77-BD7ED6162FBE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0949-0793-4CED-B29D-FD4AF011B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6423-30DC-4717-A824-F3688BA3B541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718C-8D48-4151-B7A0-690CF2082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D543-47B1-4880-B004-1DF25EFF976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E962-19F4-42C9-A105-E45CB936CC69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9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6DD8-3086-43C5-8177-2ABB823BA70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0408-4EB3-463C-830A-4A4A2E101D4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304920" y="25909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5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35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20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0B22-C2AF-4A0E-A044-298D7E470ED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F441-CF6D-4F76-AE8E-DC620B63E0E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28600" y="3581280"/>
            <a:ext cx="8077320" cy="193716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Compléter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A et C sont des sommets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20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B786-B441-4910-9E83-A2509ACED8E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500C-8E90-4445-8736-08030981002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152280" y="4343400"/>
            <a:ext cx="861084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[AC] est une ………………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3E0A-229A-4499-A1AF-E7332C8BC65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E272-E6C8-4AAE-80AF-5318F0220A0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990720" y="2666880"/>
            <a:ext cx="701028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2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7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5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2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3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41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8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9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7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4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5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7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3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4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1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D757-7AA9-4BFE-8B4F-464429C5181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B710-DFA5-4234-9959-AA17602EDA8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AutoShape 15"/>
          <p:cNvSpPr/>
          <p:nvPr/>
        </p:nvSpPr>
        <p:spPr>
          <a:xfrm>
            <a:off x="2971800" y="45720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0"/>
              <p:cNvSpPr txBox="1"/>
              <p:nvPr/>
            </p:nvSpPr>
            <p:spPr>
              <a:xfrm>
                <a:off x="609480" y="2251080"/>
                <a:ext cx="548640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9 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ZoneTexte 5"/>
          <p:cNvSpPr/>
          <p:nvPr/>
        </p:nvSpPr>
        <p:spPr>
          <a:xfrm>
            <a:off x="6532200" y="236232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B6B4-2D35-442A-BBFC-54FC5E52A33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0BF1-10E2-4E06-946D-D8C15B79BCB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1"/>
              <p:cNvSpPr txBox="1"/>
              <p:nvPr/>
            </p:nvSpPr>
            <p:spPr>
              <a:xfrm>
                <a:off x="666720" y="2333520"/>
                <a:ext cx="551340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7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ZoneTexte 5"/>
          <p:cNvSpPr/>
          <p:nvPr/>
        </p:nvSpPr>
        <p:spPr>
          <a:xfrm>
            <a:off x="6406920" y="251460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13FA-EB58-4F48-B1E9-5DE89A2BA04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148E-0D04-44A4-A126-D3587857FFD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152280" y="2590920"/>
            <a:ext cx="861084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3000 à 2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ZoneTexte 6"/>
          <p:cNvSpPr/>
          <p:nvPr/>
        </p:nvSpPr>
        <p:spPr>
          <a:xfrm>
            <a:off x="9578520" y="297180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32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1 0.00486 C -0.18524 0.19514 -0.27621 0.38565 -0.37639 0.40903 C -0.47656 0.43241 -0.58594 0.28866 -0.69514 0.14514 E">
                                      <p:cBhvr>
                                        <p:cTn id="8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0602-8CDE-4685-BCEE-D20F08F0560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3A88-CACA-47D7-BC36-6B200A9CD30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1"/>
              <p:cNvSpPr txBox="1"/>
              <p:nvPr/>
            </p:nvSpPr>
            <p:spPr>
              <a:xfrm>
                <a:off x="304920" y="2286000"/>
                <a:ext cx="54864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4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ZoneTexte 5"/>
          <p:cNvSpPr/>
          <p:nvPr/>
        </p:nvSpPr>
        <p:spPr>
          <a:xfrm>
            <a:off x="9351720" y="25146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18 -0.00324 L -0.35885 -0.00324 E">
                                      <p:cBhvr>
                                        <p:cTn id="88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C38A-7449-4F67-8D11-938FD18BFF6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7ED1-ACBC-4F74-B9BD-E93A73192A3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2"/>
              <p:cNvSpPr txBox="1"/>
              <p:nvPr/>
            </p:nvSpPr>
            <p:spPr>
              <a:xfrm>
                <a:off x="380880" y="2286000"/>
                <a:ext cx="73915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 - 25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ZoneTexte 5"/>
          <p:cNvSpPr/>
          <p:nvPr/>
        </p:nvSpPr>
        <p:spPr>
          <a:xfrm>
            <a:off x="3352680" y="4648320"/>
            <a:ext cx="26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17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EDEC-5692-4182-87DF-A6BD3B21808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F92F-2DC6-4949-B01A-CAB8D48BF1D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220968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‘addition, la soustraction,les quadrilatè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943B-821E-4A76-B577-EB76E296E1C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3909-4595-47A2-BEE0-2795248528D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80880" y="2666880"/>
            <a:ext cx="6324840" cy="155700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220 – 11 =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ZoneTexte 6"/>
          <p:cNvSpPr/>
          <p:nvPr/>
        </p:nvSpPr>
        <p:spPr>
          <a:xfrm>
            <a:off x="9455040" y="274320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20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19 -0.00324 L -0.36719 -0.00324 E">
                                      <p:cBhvr>
                                        <p:cTn id="105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59BE-C276-4DF7-AD11-5947F715C384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7C4A-6AC0-4A7F-8A0A-A7B14D034E2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3"/>
          <p:cNvSpPr/>
          <p:nvPr/>
        </p:nvSpPr>
        <p:spPr>
          <a:xfrm>
            <a:off x="304920" y="21337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5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35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ZoneTexte 8"/>
          <p:cNvSpPr/>
          <p:nvPr/>
        </p:nvSpPr>
        <p:spPr>
          <a:xfrm>
            <a:off x="9349920" y="213372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55556E-006 C -0.06858 0.22638 -0.13698 0.453 -0.22084 0.4736 C -0.30469 0.49421 -0.44011 0.16504 -0.50313 0.1236 C -0.56615 0.08217 -0.58264 0.15347 -0.59896 0.22499 E">
                                      <p:cBhvr>
                                        <p:cTn id="111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7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32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C6E6-A416-4950-A528-1FF634F4F14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B9F7-5B79-41BC-B47C-11F8488A808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304920" y="380988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A et C sont des sommets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ZoneTexte 5"/>
          <p:cNvSpPr/>
          <p:nvPr/>
        </p:nvSpPr>
        <p:spPr>
          <a:xfrm>
            <a:off x="2885760" y="4724280"/>
            <a:ext cx="259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opposé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2" name="camera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7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32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5A95-718A-49F0-8DDE-D08E91C28D3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33EB-5EB8-4E09-A202-40DFEE029F1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304920" y="40384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[AC] est 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ZoneTexte 6"/>
          <p:cNvSpPr/>
          <p:nvPr/>
        </p:nvSpPr>
        <p:spPr>
          <a:xfrm>
            <a:off x="2864160" y="5181480"/>
            <a:ext cx="434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e diagona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2" name="camera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EA89-654C-4263-8358-2A120EFDFD1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5395-FDC6-436B-A692-C151BF3AA77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28600" y="1981080"/>
            <a:ext cx="807732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2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ZoneTexte 6"/>
          <p:cNvSpPr/>
          <p:nvPr/>
        </p:nvSpPr>
        <p:spPr>
          <a:xfrm>
            <a:off x="835560" y="3733920"/>
            <a:ext cx="397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Quadrilatère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quelconqu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2514600" cy="13287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ver dir="d"/>
    <p:sndAc>
      <p:stSnd>
        <p:snd r:embed="rId2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2C80-9579-4F8E-B369-58B91E0BFB3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8297-3C01-4463-A1CA-9ED35A484ED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 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AB2A-C1FB-4714-9A65-137571C3038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9FC3-051A-4510-93BC-1DDEE79DE88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1368360" y="2170080"/>
                <a:ext cx="640728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9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7AF8-5716-4CAB-A03F-FB39DDEE43F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5BFA-E918-42C3-9861-E9B2262D923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609480" y="2333520"/>
                <a:ext cx="784872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75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? 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70F0-5E85-4283-BC2A-082B42BFF14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5555-3DC6-4577-8415-368AF211016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00100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3000 à 2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6982-262C-4B93-9CAB-24E0CB2C0FA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F38D-7F98-4B28-929B-3409B6930AE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533520" y="2286000"/>
                <a:ext cx="807696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4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712C-16C9-4B60-85B2-535948ABBF0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F90A-0A22-42BE-A36E-04DE1E86B45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57200" y="2438280"/>
                <a:ext cx="82072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 - 25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B183-257D-425B-B285-F7077E0979F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0C33-572E-4F38-A399-BE78FA411989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90720" y="2590920"/>
            <a:ext cx="6933960" cy="155700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220 – 11 = 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a</dc:creator>
  <dc:description/>
  <dc:language>en-US</dc:language>
  <cp:lastModifiedBy>thomas</cp:lastModifiedBy>
  <dcterms:modified xsi:type="dcterms:W3CDTF">2011-06-14T02:30:22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