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E49-1457-4F70-9230-48BE59FA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5F3-7F10-4DE0-8A0B-82574351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EC3-7487-4DBC-B1BB-6F199F7A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7A6-7FE4-4B90-9855-F6970E0E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1394-36BB-4620-ADAE-5582508B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CE12-43E1-4F6E-8AE5-B97ABA0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14F2-0CB9-4127-8DE8-393EF242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A3C-C13B-487F-BC4F-791F88B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D63F-9C6A-4A16-BE7E-2DE26D2D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18A0-6331-46C4-903F-9C0DDB74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7959-01D0-4BC4-BD60-C7713421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CF0-6FC9-40F3-924D-64EB8A1B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B7C4-C56C-4706-AC01-7C25B37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E3D-F403-4CD8-83C0-4817121E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49A8-941F-4D68-BBAF-2E957C43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C675-968C-4AD6-B02E-BEEC1C9D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B4AA-AF93-4C00-B109-F0E587459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F2C1-336B-45BB-9B3E-0CFFF7B0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CDD-87E1-4C8D-9F43-94A5632B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369E-D2EA-469F-A929-C487F0BF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AFFB-1497-44E5-A4CB-C8D25A1C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8C8-3FCD-4F06-A382-9DB7962B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BE3-D688-43FA-8976-F96335FE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0331-86D7-4DDF-97CD-3FEA233D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0116-B8E1-4155-9CF4-ABF75E22A27F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ED21-A024-4DB9-A429-EF57471DB84B}" type="slidenum">
              <a:rPr b="0" lang="fr-FR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TEST d’activités mentales n°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z vos NOM, Prénom et Classe sur la fiche répon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Indiquer la lettre du sujet traité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pondez brièvement sur la fiche en respectant rigoureusement la numérotation des ques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45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9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’ensemble de définition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68360" y="234936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le maximum et le minimum de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71640" y="-360"/>
            <a:ext cx="37814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374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2710080" cy="963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580000" y="4724280"/>
            <a:ext cx="2548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-360"/>
            <a:ext cx="334944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0" y="2636640"/>
            <a:ext cx="374508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708280"/>
            <a:ext cx="4427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onner l’(les) antécédant(s) de 0 par la fonction f définie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254772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92720" y="4221000"/>
            <a:ext cx="2717640" cy="96552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932360" y="364500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6360" y="213372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2852640"/>
            <a:ext cx="695520" cy="619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979640" y="285264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2843280" y="2852640"/>
            <a:ext cx="93960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42920" y="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432080" cy="619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867280" y="2852640"/>
            <a:ext cx="1432080" cy="619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42920" y="69840"/>
            <a:ext cx="34923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610080" cy="1981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09880" cy="1933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2205000"/>
            <a:ext cx="38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Résoud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16360" y="2205000"/>
            <a:ext cx="395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ire graphiqu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908000" y="2997360"/>
            <a:ext cx="1432080" cy="618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528804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224760" y="2952720"/>
            <a:ext cx="69516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7088040" y="2952720"/>
            <a:ext cx="939960" cy="62064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2278080"/>
            <a:ext cx="4176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227664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3213000"/>
            <a:ext cx="143172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7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6360" y="2060640"/>
            <a:ext cx="4176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par lecture graphique le sens de variation de f sur l’intervalle [0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onner graphiquement le nombre de solutions de l’é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1547640" y="3068640"/>
            <a:ext cx="1432080" cy="619200"/>
          </a:xfrm>
          <a:prstGeom prst="rect">
            <a:avLst/>
          </a:prstGeom>
          <a:ln w="0">
            <a:noFill/>
          </a:ln>
        </p:spPr>
      </p:pic>
    </p:spTree>
  </p:cSld>
  <p:transition advTm="4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2763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Question 8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3809880" cy="2090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03640" y="3933720"/>
            <a:ext cx="3810240" cy="1933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0720" y="2781360"/>
            <a:ext cx="0" cy="345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8240" y="616284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dd70d"/>
                </a:solidFill>
                <a:latin typeface="Times New Roman"/>
              </a:rPr>
              <a:t>Suje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96360" y="6162840"/>
            <a:ext cx="14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Times New Roman"/>
              </a:rPr>
              <a:t>Suje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3,5) et f(-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141880" y="4151160"/>
          <a:ext cx="3822840" cy="19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1880" y="4151160"/>
                    <a:ext cx="382284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716360" y="2133720"/>
            <a:ext cx="381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omparer graphiquement les valeurs de f(-2,5) et f(-2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3:12:41Z</dcterms:created>
  <dc:creator>hgc</dc:creator>
  <dc:description/>
  <dc:language>en-US</dc:language>
  <cp:lastModifiedBy>CLEMENT ODILE</cp:lastModifiedBy>
  <dcterms:modified xsi:type="dcterms:W3CDTF">2008-08-17T00:54:57Z</dcterms:modified>
  <cp:revision>15</cp:revision>
  <dc:subject/>
  <dc:title>TEST n°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E DAP">
    <vt:lpwstr>[ContentDir]\Student\MS\Templates\Groups and Movements\Groups and Movements.xml</vt:lpwstr>
  </property>
  <property fmtid="{D5CDD505-2E9C-101B-9397-08002B2CF9AE}" pid="3" name="SE DAP Check Values">
    <vt:lpwstr>0</vt:lpwstr>
  </property>
  <property fmtid="{D5CDD505-2E9C-101B-9397-08002B2CF9AE}" pid="4" name="SE DAP Default">
    <vt:lpwstr>NODEFAULTDAP</vt:lpwstr>
  </property>
  <property fmtid="{D5CDD505-2E9C-101B-9397-08002B2CF9AE}" pid="5" name="SE DAP Window Handle">
    <vt:lpwstr>1639994</vt:lpwstr>
  </property>
  <property fmtid="{D5CDD505-2E9C-101B-9397-08002B2CF9AE}" pid="6" name="SE Mode">
    <vt:lpwstr>student</vt:lpwstr>
  </property>
  <property fmtid="{D5CDD505-2E9C-101B-9397-08002B2CF9AE}" pid="7" name="Version">
    <vt:r8>5</vt:r8>
  </property>
</Properties>
</file>