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CD9B-CC66-4FFE-BA58-3B2351E40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99C6-A411-40E9-AE86-2D98DE97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BBF3-DBCA-4B9C-831D-205866B1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6552-7BCB-4119-AA46-B3BA5118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4606-A7C0-4FAB-8AAB-EB593156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7503-56A6-4135-AA44-3C2184E9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27E0-0FE1-48E2-A394-28E65056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B4CE-FE6D-4CAE-9775-EA13A19C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F935-CA43-460E-825B-49184247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7562-1B8B-4818-89CF-2D7ECF90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026F-CDD1-4781-8B37-CEC43DE9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A323-8AE2-422A-8FA9-C54E0EC7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7A9C-25E0-4EAD-ADC0-FA0C67F4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5B1D-9D53-49F2-9685-1F1F1FD9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BED0-6E59-4603-9778-BBA4DCBD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6D3D-A0DD-4B68-B39B-05B75EC6E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2324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12760" y="373356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1333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2324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12760" y="4768200"/>
            <a:ext cx="20851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31D3-9436-4B79-9063-E988D7F4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C8AC-415F-41E9-A7EE-E642957C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BA4B-B487-4CC6-9A43-F31EB8E7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131C-F2D9-45D1-9D3B-F555BBF2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1371600"/>
            <a:ext cx="647676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D2D0-140D-4361-AE00-D7E145D7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B0FD-1BDE-4D3F-B7DB-96B18520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2200" y="476820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D7F2-90E7-43F3-AFE7-2B61C351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3336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2200" y="3733560"/>
            <a:ext cx="31604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33360" y="4768200"/>
            <a:ext cx="647676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C2D8-A98F-4E98-B703-CE943336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0A79-E30B-4D71-8C04-CB32A950E22E}" type="slidenum">
              <a:rPr b="0" lang="fr-FR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4E4A-CDD9-4B8E-B63F-B3DF3DEBB693}" type="slidenum">
              <a:rPr b="0" lang="fr-FR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r l'image de -1 par la fonction f définie par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284720" y="3645000"/>
          <a:ext cx="3456000" cy="14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3645000"/>
                    <a:ext cx="345600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r le (les) antécédents de 1 par la fonction f définie par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427640" y="3213000"/>
          <a:ext cx="3884400" cy="7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213000"/>
                    <a:ext cx="388440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’expression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 – 1)(x + 1) + (x + 2)(x – 1)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st-elle une somme ou un produit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r alors le nombre de termes ou de facte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évelopper l’expressio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x – 1)(x + 1) + (x + 2)(x –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ctoriser  l’expression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x – 1)(x + 1) + (x + 2)(x –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ctoriser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9x² – (x + 1)²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ésoudre dans l'équation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x+2)² – 1 =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La fonction f définie par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f(x) = (x-1)² - x²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est-elle affine ? 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Si oui l’écrire sous forme réduite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Comic Sans MS"/>
              </a:rPr>
              <a:t>f(x) = mx + 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r l’expression de la fonction affine telle que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(0) = 3  et f( 6) = -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r le (les) antécédent(s) de 0 par la fonction f définie par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851280" y="3573360"/>
          <a:ext cx="45799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3573360"/>
                    <a:ext cx="4579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5-15T21:04:41Z</dcterms:modified>
  <cp:revision>10</cp:revision>
  <dc:subject/>
  <dc:title>Donner l'image de -1 par la fonction f définie par </dc:title>
</cp:coreProperties>
</file>