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A347-A7F7-4D17-A611-DCD6A4E69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C2CC-8F51-42CA-883E-A519315D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59D7-D370-4B6C-8415-D0C984366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F90C-3A28-4BE4-8998-74968BA98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0BB5-447C-4775-BC87-C84FCDB3D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F00BD-73FD-49A0-AFDC-C2B55AB9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EF999-8421-49D8-90E6-8F583F51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1E9B-97F5-4128-88D0-B213E4B7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66E91-2FB4-46A4-8519-A2950010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D457-A0B4-4C6C-92DD-49927B04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3CDD-5A29-46FC-9666-E352BF15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E6EA-CAD5-4BD2-A50F-AF211D43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61B6-A7AF-47BC-B626-845F58A4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F95A-05BE-4BE6-8FE1-7FD9C5F3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AD0C-D519-4445-8729-1A014B38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D797-F7C7-4A9E-BEDA-C3BE97682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9900A-C318-474C-B8B3-BA9A810D8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5AA1-492D-4401-84DB-D6F07072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0ED6-95D9-4E8B-BC92-5EC9D655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5F5A-A530-424A-B6E9-68D9BCC8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8D93-F547-4B7E-BC17-D995406D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93F2-A16A-443E-A489-0BF78E01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37D6-EF31-4416-88BB-117DCCE7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7F21-108F-4669-AE32-F0BF76F7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7C8B-299D-453D-A186-A8568A6B2C00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474F-0109-4E3C-AFF7-43F8B4873478}" type="slidenum">
              <a:rPr b="0" lang="fr-F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EST d’activités mentales n°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ndiquez vos NOM, Prénom et Classe sur la fiche répon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ndiquer la lettre du sujet trait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Répondez brièvement sur la fiche en respectant rigoureusement la numérotation des ques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5000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276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9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3809880" cy="2090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003640" y="3933720"/>
            <a:ext cx="3810240" cy="19335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213372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l’ensemble des valeurs prises par la fonction 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5141880" y="4151160"/>
          <a:ext cx="3822840" cy="198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1880" y="4151160"/>
                    <a:ext cx="382284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4716360" y="213372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le maximum et le minimum de f sur l’intervalle [-4;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276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1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3809880" cy="20908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003640" y="3933720"/>
            <a:ext cx="3810240" cy="19335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59280" y="227664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l’ensemble des valeurs prises par la fonction 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5141880" y="4151160"/>
          <a:ext cx="3822840" cy="198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1880" y="4151160"/>
                    <a:ext cx="382284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468360" y="2349360"/>
            <a:ext cx="381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le maximum et le minimum de f sur l’intervalle [0;4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71640" y="-360"/>
            <a:ext cx="378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3744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'image de 2 par la fonction f définie p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42920" y="4508640"/>
            <a:ext cx="2710080" cy="963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16360" y="2708280"/>
            <a:ext cx="4427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’(les) antécédant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e 0 par la fonction f définie 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580000" y="4724280"/>
            <a:ext cx="2548080" cy="619200"/>
          </a:xfrm>
          <a:prstGeom prst="rect">
            <a:avLst/>
          </a:prstGeom>
          <a:ln w="0">
            <a:noFill/>
          </a:ln>
        </p:spPr>
      </p:pic>
    </p:spTree>
  </p:cSld>
  <p:transition advTm="45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0360" y="-360"/>
            <a:ext cx="334944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716000" y="2636640"/>
            <a:ext cx="374508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es valeurs qui n’ont pas d’image par la fonction f définie p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708280"/>
            <a:ext cx="4427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’image de 0 par la fonction f définie 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4221000"/>
            <a:ext cx="2547720" cy="619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292720" y="4221000"/>
            <a:ext cx="2717640" cy="965520"/>
          </a:xfrm>
          <a:prstGeom prst="rect">
            <a:avLst/>
          </a:prstGeom>
          <a:ln w="0">
            <a:noFill/>
          </a:ln>
        </p:spPr>
      </p:pic>
    </p:spTree>
  </p:cSld>
  <p:transition advTm="45000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42920" y="0"/>
            <a:ext cx="349236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95280" y="3716280"/>
            <a:ext cx="3610080" cy="1981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932360" y="3645000"/>
            <a:ext cx="3809880" cy="1933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2205000"/>
            <a:ext cx="381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Lire graphiquement les images de -4 ; 1; et 3 par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16360" y="2133720"/>
            <a:ext cx="3959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Lire graphiquement les antécédents de 0 par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42920" y="0"/>
            <a:ext cx="349236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8360" y="4005360"/>
            <a:ext cx="3610080" cy="1981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2205000"/>
            <a:ext cx="381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Lire graphiquement les antécédents de 0 par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16360" y="2205000"/>
            <a:ext cx="3959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Résoudre graphiqu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859280" y="4149720"/>
            <a:ext cx="3809880" cy="1933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6012000" y="2708280"/>
            <a:ext cx="1431720" cy="619200"/>
          </a:xfrm>
          <a:prstGeom prst="rect">
            <a:avLst/>
          </a:prstGeom>
          <a:ln w="0">
            <a:noFill/>
          </a:ln>
        </p:spPr>
      </p:pic>
    </p:spTree>
  </p:cSld>
  <p:transition advTm="45000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42920" y="69840"/>
            <a:ext cx="349236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8360" y="4005360"/>
            <a:ext cx="3610080" cy="1981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859280" y="4149720"/>
            <a:ext cx="3809880" cy="19335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2205000"/>
            <a:ext cx="381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Résoudre graphiqu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16360" y="2205000"/>
            <a:ext cx="3959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Lire graphiquement les images de -4 ; -1; et 5 par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476360" y="2637000"/>
            <a:ext cx="1432080" cy="618840"/>
          </a:xfrm>
          <a:prstGeom prst="rect">
            <a:avLst/>
          </a:prstGeom>
          <a:ln w="0">
            <a:noFill/>
          </a:ln>
        </p:spPr>
      </p:pic>
    </p:spTree>
  </p:cSld>
  <p:transition advTm="45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276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3809880" cy="2090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003640" y="3933720"/>
            <a:ext cx="3810240" cy="19335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9280" y="2278080"/>
            <a:ext cx="4176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par lecture graphique le sens de variation de f sur l’intervalle [-4;3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88000" y="227664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graphiquement le nombre de solutions de l’équation f(x)=1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276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3809880" cy="20908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003640" y="3933720"/>
            <a:ext cx="3810240" cy="19335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16360" y="206064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par lecture graphique le sens de variation de f sur l’intervalle [2;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213372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graphiquement le nombre de solutions de l’équation f(x)=-1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276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8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3809880" cy="20908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003640" y="3933720"/>
            <a:ext cx="3810240" cy="19335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213372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Comparer par lecture graphique les valeurs de f(1,5) et f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5141880" y="4151160"/>
          <a:ext cx="3822840" cy="198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1880" y="4151160"/>
                    <a:ext cx="382284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4716360" y="213372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Comparer par lecture graphique les valeurs de f(2) et f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3:12:41Z</dcterms:created>
  <dc:creator>hgc</dc:creator>
  <dc:description/>
  <dc:language>en-US</dc:language>
  <cp:lastModifiedBy>CLEMENT ODILE</cp:lastModifiedBy>
  <dcterms:modified xsi:type="dcterms:W3CDTF">2008-08-17T00:55:54Z</dcterms:modified>
  <cp:revision>17</cp:revision>
  <dc:subject/>
  <dc:title>TEST n°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E DAP">
    <vt:lpwstr>[ContentDir]\Student\MS\Templates\Groups and Movements\Groups and Movements.xml</vt:lpwstr>
  </property>
  <property fmtid="{D5CDD505-2E9C-101B-9397-08002B2CF9AE}" pid="3" name="SE DAP Check Values">
    <vt:lpwstr>0</vt:lpwstr>
  </property>
  <property fmtid="{D5CDD505-2E9C-101B-9397-08002B2CF9AE}" pid="4" name="SE DAP Default">
    <vt:lpwstr>NODEFAULTDAP</vt:lpwstr>
  </property>
  <property fmtid="{D5CDD505-2E9C-101B-9397-08002B2CF9AE}" pid="5" name="SE DAP Window Handle">
    <vt:lpwstr>1639994</vt:lpwstr>
  </property>
  <property fmtid="{D5CDD505-2E9C-101B-9397-08002B2CF9AE}" pid="6" name="SE Mode">
    <vt:lpwstr>student</vt:lpwstr>
  </property>
  <property fmtid="{D5CDD505-2E9C-101B-9397-08002B2CF9AE}" pid="7" name="Version">
    <vt:r8>5</vt:r8>
  </property>
</Properties>
</file>