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D1B65-E1DB-4082-9BC9-F37C47C89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03B81-CAB6-41AE-816D-3C9947D24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E4AA4-F7CB-43EF-9EB1-E7A220BB7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B4755-FD61-470F-B2B0-0297A2C25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7393C-236E-4B2B-9C80-CD2B68D42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290C2-BD76-485F-88CB-4E676BF4D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4E375-C3A3-4D5D-A3E7-4DAF32FC2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4F172-1CF1-47B7-9A0F-61520B2EA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535DD-6F43-434D-8262-339D4B1FE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385DF-8A4D-4588-A2FC-760DAD221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06585-274F-433C-BA91-B2F3FFDBB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DE5EB-ED79-4A4C-96D7-EF6DDE2E8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E52C2-CD6A-41D6-B2EE-B09BF7B6B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97097-1E35-4280-A8E3-E31C6E3A3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8E329-8E99-4ED6-9F2A-4037353F8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16A20-25CF-4FD9-BA18-FBAF7AFD3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19397-E05F-42BA-94AF-743AEE9CD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0ADF9-7E76-4EF5-BC86-3B8AEF5BF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C4A06-37DB-4934-A6A3-5145B73D9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1039E-ABEB-4368-A14E-CFB9E483B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F1F1D-0023-48C9-8FD2-0BEB7D9CF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746AE-94A6-4E6B-8866-F3410EA09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5C685-8A8E-4F7A-97CE-AAED83986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32179-5606-469A-AE88-C4A2851BE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C27FB-21D8-460D-BB02-B0C184BC3BA1}" type="slidenum">
              <a:rPr b="0" lang="fr-F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CF2C5-DFB1-4DC4-A6D3-06A4CE4EB0AD}" type="slidenum">
              <a:rPr b="0" lang="fr-FR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TEST d’activités mentales n°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Indiquez vos NOM, Prénom et Classe sur la fiche répons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Répondez brièvement sur la fiche en respectant rigoureusement la numérotation des question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Réponse possible: « ..est un quadrilatère sans nom particulier »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advTm="45000"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987280" y="476280"/>
            <a:ext cx="32050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Question 9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4500720" y="2781360"/>
            <a:ext cx="0" cy="3456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578240" y="6162840"/>
            <a:ext cx="1480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dd70d"/>
                </a:solidFill>
                <a:latin typeface="Times New Roman"/>
              </a:rPr>
              <a:t>Suje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796360" y="6162840"/>
            <a:ext cx="14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0000"/>
                </a:solidFill>
                <a:latin typeface="Times New Roman"/>
              </a:rPr>
              <a:t>Suje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79280" y="2781360"/>
            <a:ext cx="421164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Un quadrilatère qui admet des diagonales perpendiculaires est un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43280" y="2852640"/>
            <a:ext cx="421164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Un quadrilatère qui admet des diagonales perpendiculaires et qui se coupent en leurs milieux est un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5000"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987280" y="476280"/>
            <a:ext cx="32050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Question 10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"/>
          <p:cNvSpPr/>
          <p:nvPr/>
        </p:nvSpPr>
        <p:spPr>
          <a:xfrm>
            <a:off x="4500720" y="2781360"/>
            <a:ext cx="0" cy="3456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578240" y="6162840"/>
            <a:ext cx="1480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dd70d"/>
                </a:solidFill>
                <a:latin typeface="Times New Roman"/>
              </a:rPr>
              <a:t>Suje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796360" y="6162840"/>
            <a:ext cx="14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0000"/>
                </a:solidFill>
                <a:latin typeface="Times New Roman"/>
              </a:rPr>
              <a:t>Suje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79280" y="3141720"/>
            <a:ext cx="421164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Un quadrilatère qui admet des côtés opposés parallèles et des diagonales de mêmes longueurs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16360" y="3068640"/>
            <a:ext cx="421164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Un quadrilatère qui admet des côtés consécutifs perpendiculaires est un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5000"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987640" y="502920"/>
            <a:ext cx="307656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Question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8920" y="2852640"/>
            <a:ext cx="421164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Un quadrilatère qui admet des côtés opposés parallèles est un…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4500720" y="2781360"/>
            <a:ext cx="0" cy="3456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578240" y="6162840"/>
            <a:ext cx="1480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dd70d"/>
                </a:solidFill>
                <a:latin typeface="Times New Roman"/>
              </a:rPr>
              <a:t>Suje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796360" y="6162840"/>
            <a:ext cx="14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0000"/>
                </a:solidFill>
                <a:latin typeface="Times New Roman"/>
              </a:rPr>
              <a:t>Suje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716360" y="2781360"/>
            <a:ext cx="421164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Un quadrilatère qui admet des diagonales de mêmes longueurs est un…..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5000"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87640" y="502920"/>
            <a:ext cx="307656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Question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4500720" y="2781360"/>
            <a:ext cx="0" cy="3456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578240" y="6162840"/>
            <a:ext cx="1480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dd70d"/>
                </a:solidFill>
                <a:latin typeface="Times New Roman"/>
              </a:rPr>
              <a:t>Suje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796360" y="6162840"/>
            <a:ext cx="14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0000"/>
                </a:solidFill>
                <a:latin typeface="Times New Roman"/>
              </a:rPr>
              <a:t>Suje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78920" y="2781000"/>
            <a:ext cx="421164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Un quadrilatère qui admet des côtés opposés parallèles et de mêmes longueurs est un…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4643280" y="2781360"/>
            <a:ext cx="421164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Un quadrilatère qui admet des diagonales perpendiculaires et de mêmes longueurs est un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5000"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987280" y="476280"/>
            <a:ext cx="32050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Question 3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4500720" y="2781360"/>
            <a:ext cx="0" cy="3456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78240" y="6162840"/>
            <a:ext cx="1480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dd70d"/>
                </a:solidFill>
                <a:latin typeface="Times New Roman"/>
              </a:rPr>
              <a:t>Suje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796360" y="6162840"/>
            <a:ext cx="14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0000"/>
                </a:solidFill>
                <a:latin typeface="Times New Roman"/>
              </a:rPr>
              <a:t>Suje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716360" y="2637000"/>
            <a:ext cx="421164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Un quadrilatère qui admet des diagonales perpendiculaires est un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2637000"/>
            <a:ext cx="421164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Un quadrilatère qui admet des diagonales perpendiculaires et de mêmes longueurs est un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5000"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987280" y="476280"/>
            <a:ext cx="32050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Question 4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"/>
          <p:cNvSpPr/>
          <p:nvPr/>
        </p:nvSpPr>
        <p:spPr>
          <a:xfrm>
            <a:off x="4500720" y="2781360"/>
            <a:ext cx="0" cy="3456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578240" y="6162840"/>
            <a:ext cx="1480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dd70d"/>
                </a:solidFill>
                <a:latin typeface="Times New Roman"/>
              </a:rPr>
              <a:t>Suje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796360" y="6162840"/>
            <a:ext cx="14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0000"/>
                </a:solidFill>
                <a:latin typeface="Times New Roman"/>
              </a:rPr>
              <a:t>Suje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79280" y="3357720"/>
            <a:ext cx="421164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Un quadrilatère qui admet des diagonales qui se coupent en leurs milieux est un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643280" y="3357720"/>
            <a:ext cx="421164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Un quadrilatère qui admet des côtés opposés parallèles et des diagonales de mêmes longueurs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5000"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987280" y="476280"/>
            <a:ext cx="32050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Question 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4500720" y="2781360"/>
            <a:ext cx="0" cy="3456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578240" y="6162840"/>
            <a:ext cx="1480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dd70d"/>
                </a:solidFill>
                <a:latin typeface="Times New Roman"/>
              </a:rPr>
              <a:t>Suje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796360" y="6162840"/>
            <a:ext cx="14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0000"/>
                </a:solidFill>
                <a:latin typeface="Times New Roman"/>
              </a:rPr>
              <a:t>Suje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79280" y="3357720"/>
            <a:ext cx="421164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Un quadrilatère qui admet des diagonales perpendiculaires et qui se coupent en leurs milieux est un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643280" y="3357720"/>
            <a:ext cx="421164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Un quadrilatère qui admet des côtés opposés parallèles et de mêmes longueurs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5000"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987280" y="476280"/>
            <a:ext cx="32050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Question 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4500720" y="2781360"/>
            <a:ext cx="0" cy="3456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578240" y="6162840"/>
            <a:ext cx="1480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dd70d"/>
                </a:solidFill>
                <a:latin typeface="Times New Roman"/>
              </a:rPr>
              <a:t>Suje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796360" y="6162840"/>
            <a:ext cx="14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0000"/>
                </a:solidFill>
                <a:latin typeface="Times New Roman"/>
              </a:rPr>
              <a:t>Suje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79280" y="3357720"/>
            <a:ext cx="421164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Un quadrilatère qui admet des côtés opposés de mêmes longueurs et des diagonales de mêmes longueurs, est un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2920" y="3357360"/>
            <a:ext cx="421164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Un quadrilatère qui admet des côtés opposés parallèles est un…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advTm="45000"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987280" y="476280"/>
            <a:ext cx="32050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Question 7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"/>
          <p:cNvSpPr/>
          <p:nvPr/>
        </p:nvSpPr>
        <p:spPr>
          <a:xfrm>
            <a:off x="4500720" y="2781360"/>
            <a:ext cx="0" cy="3456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578240" y="6162840"/>
            <a:ext cx="1480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dd70d"/>
                </a:solidFill>
                <a:latin typeface="Times New Roman"/>
              </a:rPr>
              <a:t>Suje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796360" y="6162840"/>
            <a:ext cx="14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0000"/>
                </a:solidFill>
                <a:latin typeface="Times New Roman"/>
              </a:rPr>
              <a:t>Suje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0" y="2997360"/>
            <a:ext cx="421164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Un quadrilatère qui admet des côtés opposés parallèles et de mêmes longueurs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3068640"/>
            <a:ext cx="421164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Un quadrilatère qui admet des côtés consécutifs perpendiculaires est un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5000"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987280" y="476280"/>
            <a:ext cx="32050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Question 8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"/>
          <p:cNvSpPr/>
          <p:nvPr/>
        </p:nvSpPr>
        <p:spPr>
          <a:xfrm>
            <a:off x="4500720" y="2781360"/>
            <a:ext cx="0" cy="3456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578240" y="6162840"/>
            <a:ext cx="1480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dd70d"/>
                </a:solidFill>
                <a:latin typeface="Times New Roman"/>
              </a:rPr>
              <a:t>Suje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796360" y="6162840"/>
            <a:ext cx="14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0000"/>
                </a:solidFill>
                <a:latin typeface="Times New Roman"/>
              </a:rPr>
              <a:t>Suje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79280" y="2924280"/>
            <a:ext cx="421164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Un quadrilatère qui admet des diagonales de mêmes longueurs est un…..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858920" y="2565000"/>
            <a:ext cx="3745080" cy="23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Un quadrilatère qui admet des côtés opposés de mêmes longueurs et des diagonales de mêmes longueurs, est un…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advTm="45000"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5T13:12:41Z</dcterms:created>
  <dc:creator>hgc</dc:creator>
  <dc:description/>
  <dc:language>en-US</dc:language>
  <cp:lastModifiedBy>CLEMENT ODILE</cp:lastModifiedBy>
  <dcterms:modified xsi:type="dcterms:W3CDTF">2008-08-17T00:57:33Z</dcterms:modified>
  <cp:revision>14</cp:revision>
  <dc:subject/>
  <dc:title>TEST n°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SE DAP">
    <vt:lpwstr>[ContentDir]\Student\MS\Templates\Groups and Movements\Groups and Movements.xml</vt:lpwstr>
  </property>
  <property fmtid="{D5CDD505-2E9C-101B-9397-08002B2CF9AE}" pid="3" name="SE DAP Check Values">
    <vt:lpwstr>0</vt:lpwstr>
  </property>
  <property fmtid="{D5CDD505-2E9C-101B-9397-08002B2CF9AE}" pid="4" name="SE DAP Default">
    <vt:lpwstr>NODEFAULTDAP</vt:lpwstr>
  </property>
  <property fmtid="{D5CDD505-2E9C-101B-9397-08002B2CF9AE}" pid="5" name="SE DAP Window Handle">
    <vt:lpwstr>329242</vt:lpwstr>
  </property>
  <property fmtid="{D5CDD505-2E9C-101B-9397-08002B2CF9AE}" pid="6" name="SE Mode">
    <vt:lpwstr>student</vt:lpwstr>
  </property>
  <property fmtid="{D5CDD505-2E9C-101B-9397-08002B2CF9AE}" pid="7" name="Version">
    <vt:r8>5</vt:r8>
  </property>
</Properties>
</file>