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907-5F1D-4C9A-88AF-DE942E14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B57-6921-4FD9-83C6-CC37B804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44A-733B-4EBB-A4D7-85A97E7B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A60-89CE-4BF6-8975-DFB38C5D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96CF-8C36-47CC-A746-FC8FCBEC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D014-3DBB-4BBC-817F-7CA8199B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FCDB-3D95-4851-A509-416AA36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C90-5D10-463D-822D-0210F23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5E7-0DC0-4FB8-8DB1-F20CE83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767A-FC32-4B3A-9255-57A39818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8151-2F54-493B-869C-E12D751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1CC-F8E4-4803-8876-BA4F9F41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E9A-C2D2-4FEA-8638-6E71BB0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25DF-F9DA-4FE1-875B-1EF58E23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46C-DB86-4ABD-85B2-94766A8B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878B-466D-4577-A6ED-A243E4B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6D9B-23D0-4277-BDB9-4D27CC98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EC75-5039-4CD6-9E37-4B24FED1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1A8E-3273-466E-B77C-9A2E025C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9C58-FA99-48E0-AAFA-07070B8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A2FF-3E5C-4E05-AB9C-5F4B9F7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3192-00EE-4A65-8CCC-F292CEC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9B2-BB2C-4568-90EF-1A7CFDDF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C5C2C-0F45-4F29-9FD7-2BCFDE3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F5D9-E757-4D43-8082-1237A745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109A-225E-433D-869D-192E448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BB18-5F25-432A-B960-EEC2BDF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80D9-4509-4DBD-BD67-0CCBA4F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4145-ACB5-47EB-9933-7C0AA296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32C9-2F4B-4D90-92B7-6FFDA5A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B19-89FA-4D14-8961-2AACC88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6CB-C3A3-4758-89EE-9977ECD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2D4-4367-48E5-8B26-7E70AE1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95C-B9CF-485F-AA66-19928CC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E10-354C-4957-AFE0-1AE0228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9AB-48F3-4F41-A3B2-B507961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65D-509E-4F06-8357-774A55D6E3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82B9-A995-40B7-A620-981D3A5805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B8A-A20F-4C12-B7D1-86A62FFE7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0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3771720" cy="212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26920" y="2421000"/>
          <a:ext cx="32101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21000"/>
                    <a:ext cx="3210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213372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5435640" y="2997360"/>
          <a:ext cx="189216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997360"/>
                    <a:ext cx="1892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003640" y="2781360"/>
          <a:ext cx="24163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78136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467160" cy="2466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360" y="1341360"/>
            <a:ext cx="352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5720" y="1967040"/>
          <a:ext cx="100476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720" y="1967040"/>
                    <a:ext cx="1004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04960" y="2011320"/>
          <a:ext cx="9144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4960" y="2011320"/>
                    <a:ext cx="914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3771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er les antécédents éventuels de O pour la fonction f définie par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4005360"/>
          <a:ext cx="38070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05360"/>
                    <a:ext cx="38070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003640" y="1989000"/>
          <a:ext cx="351180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5118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38894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716360" y="3716280"/>
          <a:ext cx="341640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716280"/>
                    <a:ext cx="34164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43280" y="1916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l’antécédent de O pour la fonction f définie p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403280" y="3500280"/>
          <a:ext cx="204804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500280"/>
                    <a:ext cx="20480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5200" y="234936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377208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346716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4957920" y="2543040"/>
          <a:ext cx="100620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7920" y="2543040"/>
                    <a:ext cx="10062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804000" y="2565360"/>
          <a:ext cx="1062000" cy="8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2565360"/>
                    <a:ext cx="10620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042920" y="2708280"/>
          <a:ext cx="2416320" cy="120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70828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1933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23:46:44Z</dcterms:created>
  <dc:creator>Mignot Nathalie</dc:creator>
  <dc:description/>
  <dc:language>en-US</dc:language>
  <cp:lastModifiedBy>CLEMENT ODILE</cp:lastModifiedBy>
  <dcterms:modified xsi:type="dcterms:W3CDTF">2008-08-17T19:56:52Z</dcterms:modified>
  <cp:revision>7</cp:revision>
  <dc:subject/>
  <dc:title>Activité mentale</dc:title>
</cp:coreProperties>
</file>