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0652-2006-41D2-8720-9EBFD592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E66C-075C-4EBD-B368-56AA071F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0BDF-55DC-4BE7-B14E-2F571E26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C645-CA85-4F40-BEEB-687C60AE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FDCD-ACFA-4ED6-89BB-85E31C31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9EB4-BE36-473A-97FA-2DB9C1D7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3A85-9F26-479E-B832-200D40C6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BBC5-03C5-42C2-B8D1-4D72D0E0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FE4E-6792-4C87-A81E-58112070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2989-5A01-467B-AEA7-F86EAE8B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90D5-7076-40F7-87A5-D3678324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D83-829D-4B91-AAF1-2F62EC08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4FD4-CA6F-42A6-980A-EAA1F558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567C-9FDB-49E8-95DA-D3F79EC2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52B1-05CD-4FDB-8694-C559239E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1F15-9C77-4695-8FA4-B0C13A45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351E-18C1-468B-A7A3-E7EF29A6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9C36-AA8D-4CA8-B733-D9430A6E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BD5D-1DAC-4C4C-B81B-EFC1BAB4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CF3-A844-4B76-A9C6-71899B5D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5F6-915C-42E4-A9B9-3D8D5699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C380-E500-4D07-AE87-278C141B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BDE8-C1CA-4244-B0C6-F42FF380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D39A-26BD-4E5D-BA26-4C89A181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72D5-3167-4DCE-B003-F33E43C2A690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F83A-E2D9-4DA4-BD8B-9F2FD8498190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éparez une feuille de répon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tez votre n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érotez dix lignes de 1 à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us aurez 40 secondes par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39640" y="162828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BCD est un parallélogramme de centre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954080" y="3716280"/>
          <a:ext cx="621828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4080" y="3716280"/>
                    <a:ext cx="621828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39640" y="162828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BCD est un parallélogramme de centre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954080" y="3716280"/>
          <a:ext cx="621828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4080" y="3716280"/>
                    <a:ext cx="621828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39640" y="162828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497400" y="1484280"/>
          <a:ext cx="361296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7400" y="1484280"/>
                    <a:ext cx="36129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843280" y="2708280"/>
            <a:ext cx="4429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280" y="1268280"/>
            <a:ext cx="66308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lle relation peut-on écri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re les vecteurs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e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3960720" cy="28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2484360" y="2205000"/>
          <a:ext cx="914400" cy="72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2205000"/>
                    <a:ext cx="9144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788000" y="2205000"/>
          <a:ext cx="868320" cy="76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205000"/>
                    <a:ext cx="86832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1268280"/>
            <a:ext cx="66308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lle relation peut-on écri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re les vecteurs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e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3960720" cy="28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484360" y="2276640"/>
          <a:ext cx="914400" cy="72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2276640"/>
                    <a:ext cx="914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572000" y="2276640"/>
          <a:ext cx="912960" cy="76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2276640"/>
                    <a:ext cx="91296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68000" y="137124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lle relation peut-on écri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re les vecteurs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e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771640" y="2276640"/>
          <a:ext cx="91440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276640"/>
                    <a:ext cx="914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148360" y="2276640"/>
          <a:ext cx="91260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2276640"/>
                    <a:ext cx="91260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2195640" y="3213000"/>
            <a:ext cx="54720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68000" y="137124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492360" y="1484280"/>
          <a:ext cx="351972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484280"/>
                    <a:ext cx="35197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268360" y="2781360"/>
            <a:ext cx="547236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68000" y="137124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762280" y="1484280"/>
          <a:ext cx="498168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2280" y="1484280"/>
                    <a:ext cx="49816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268360" y="2781360"/>
            <a:ext cx="547236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39640" y="112500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rimer en fonction des vecteurs      e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4140360" cy="387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5003640" y="1628640"/>
          <a:ext cx="411480" cy="7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1628640"/>
                    <a:ext cx="41148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918040" y="1655640"/>
          <a:ext cx="457200" cy="858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18040" y="1655640"/>
                    <a:ext cx="4572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342120" y="2924280"/>
          <a:ext cx="2103480" cy="85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42120" y="2924280"/>
                    <a:ext cx="21034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236000" y="3789360"/>
            <a:ext cx="10792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ui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489720" y="5013360"/>
          <a:ext cx="2011320" cy="858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89720" y="5013360"/>
                    <a:ext cx="201132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39640" y="112500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primer en fonction des vecteurs      e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4140360" cy="387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5003640" y="1628640"/>
          <a:ext cx="411480" cy="7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1628640"/>
                    <a:ext cx="41148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443640" y="1700280"/>
          <a:ext cx="457200" cy="858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43640" y="1700280"/>
                    <a:ext cx="45720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342120" y="2924280"/>
          <a:ext cx="2103480" cy="85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42120" y="2924280"/>
                    <a:ext cx="21034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7236000" y="3789360"/>
            <a:ext cx="10792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ui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489720" y="5013360"/>
          <a:ext cx="2011320" cy="858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89720" y="5013360"/>
                    <a:ext cx="201132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39640" y="162828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BCD est un parallélogramme de centre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348000" y="3716280"/>
          <a:ext cx="342900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3716280"/>
                    <a:ext cx="3429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17T19:45:11Z</dcterms:modified>
  <cp:revision>33</cp:revision>
  <dc:subject/>
  <dc:title>Donner l'image de -1 par la fonction f définie par </dc:title>
</cp:coreProperties>
</file>