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F11-881A-431B-B660-7DD102C4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138-0DB2-44C0-9F1C-CECBBFD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240-83AE-476F-B2FF-5ACB0644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656-F630-4D54-BA86-692F73FB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1BE-C931-463D-9C9B-182FF31F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612B-01AE-48F4-8878-6BAA4700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3513-ED20-422D-9DAC-C7F5209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0140-5404-499B-93DF-9722BF8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6626-620B-4F1B-B066-49A677A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16D-54EA-47A1-9250-53438776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A43C-16A0-4AE8-B4F1-A7B77B9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6D1-3D14-403F-B0B9-7402B907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52F-4C56-419C-BDE3-41A92E0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779B-93BE-4FAA-B07C-D2C3022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EE78-18AA-43FB-9B5A-B4E661C1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334B-497C-4DD9-BB4C-B529598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BF6-FB51-40A0-BA5F-8EFB7879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72A-46BF-46D9-88ED-6A3F688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DFA-6575-4C3C-A29A-6BBFAC5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DD0-55F3-47F5-9F93-9A4CDA9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85E-77FD-47B1-864B-4A3CDA5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FC8-A198-4288-9D1B-4135C23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9A-D16C-40B1-A03C-26D46734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DA9-4C08-4129-96CE-4556A5B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BAE-3B2E-417C-9B28-9AB5714D1D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3D04-235A-4603-A3EA-5579BC86E4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utomaths N°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disposez d’une minute pa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quez droite ou gauche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 y a 9 questions ( 2 points gratuits, 2 points par réponse just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préciserez le numéro de la question devant chaque ré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479736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37240" y="3357720"/>
                <a:ext cx="4406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velopp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4869000"/>
                <a:ext cx="32893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l’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4724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5640" y="3716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920" y="3357720"/>
                <a:ext cx="4356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76720" y="465300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0920" y="407664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270828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306864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s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9280" y="3716280"/>
                <a:ext cx="4407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92720" y="2924280"/>
                <a:ext cx="2946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78136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21240" y="422100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6920" y="3068640"/>
                <a:ext cx="2946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2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45080" y="378288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64000" y="2421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4T00:02:36Z</dcterms:modified>
  <cp:revision>20</cp:revision>
  <dc:subject/>
  <dc:title>Donner l'image de -1 par la fonction f définie par </dc:title>
</cp:coreProperties>
</file>