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0853-D10D-4646-AF7C-A821B3DA8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78E6-81E7-4C30-AC1A-366ABFF4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1569-B73A-4B8C-AA73-6BB9019E4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AE6B-1A42-47DA-AC6B-68FD25449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DD56-F2A7-444A-B154-A73FEAD5A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90CE-B8D7-46B0-BBD8-3BCC0BE6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1623-2B24-4F9D-A607-300933FC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06A9-41CF-4C1C-8471-9868CD32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B212-C6BA-470A-88F3-C1768B59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24A4-5CC9-41AA-8194-4DCB6CFF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BCB3-37B1-4FF5-9C68-7176C7E4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38EA-311F-4A59-9761-48FF65AA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679F-A522-42CF-A1BE-C4B8EAE7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751AE-3EB0-4740-9A45-77463409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D52E-73BA-4CF6-A7FF-0ED2E8AF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A98E-0C2C-4654-AB06-336FC7CF8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FB37-8E4F-4C83-A4D0-B264E91BD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63B2-6736-444B-B901-3791C392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2763-642B-4FA2-93BE-CAAA7DF4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4FA5-7F32-4450-977F-C5B0BAC4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9DD8-9B27-45D3-B296-1DC1D938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766B-11B2-4FE9-BE04-D5515B90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B0A0-F171-4DAC-9559-708FD25F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3AA3-BFF7-47F4-A1D9-5AF85C33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C8D6-C671-489C-94D6-83DE59F25E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B199-D4E5-4083-AD95-B06DDDE3645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1</a:t>
            </a: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onner l'image de -1 par la fonction f définie pa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onner le(s) antécédents éventuels du réel 1 par f lorsque f est définie par :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900000" y="3068640"/>
          <a:ext cx="3456000" cy="14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3068640"/>
                    <a:ext cx="3456000" cy="14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076720" y="3357720"/>
          <a:ext cx="3884760" cy="72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3357720"/>
                    <a:ext cx="388476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fr-FR" sz="25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2</a:t>
            </a: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25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onner le(s) antécédents éventuels du réel 1 par f lorsque f est définie par :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évelopper l’express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88000" y="1844640"/>
            <a:ext cx="0" cy="424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94200" y="2852640"/>
            <a:ext cx="42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(x – 1)(x + 1) + (x + 2)(x –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24000" y="3284640"/>
          <a:ext cx="3884400" cy="72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284640"/>
                    <a:ext cx="388440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3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évelopper l’express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onner l'image de -1 par la fonction f définie pa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3068640"/>
            <a:ext cx="42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(x – 1)(x + 1) + (x + 2)(x –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59280" y="1989000"/>
            <a:ext cx="0" cy="410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219640" y="2924280"/>
          <a:ext cx="3456000" cy="14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2924280"/>
                    <a:ext cx="3456000" cy="14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Factoriser  l’expressio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Résoudre dans R l'équatio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3320" y="285264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(x – 1)(x + 1) + (x + 2)(x –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16360" y="198900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92720" y="27082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(x+2)² – 1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903240"/>
            <a:ext cx="63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4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5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Factorise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onner l'image de -1 par la fonction f définie pa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00000" y="292428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9x² – (x + 1)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56000" y="1844640"/>
            <a:ext cx="0" cy="43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76720" y="2781360"/>
            <a:ext cx="33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(x) = (x-1)² - x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33240" y="2303640"/>
            <a:ext cx="3562200" cy="36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Résoudre dans R l'équatio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Factoriser  l’expressio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328464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(x+2)² – 1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90000" y="623880"/>
            <a:ext cx="597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6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00720" y="198900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82960" y="25653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(x – 1)(x + 1) + (x + 2)(x –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7</a:t>
            </a:r>
            <a:br>
              <a:rPr sz="40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onner l'image de -1 par la fonction f définie pa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Factoriser  l’express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5640" y="3213000"/>
            <a:ext cx="33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(x) = (x-1)² - x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32360" y="1844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92720" y="249228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9x² – (x + 1)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35622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onner le (les) antécédent(s) de 3 par la fonction f définie par</a:t>
            </a:r>
            <a:br>
              <a:rPr sz="2100"/>
            </a:b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onner le (les) antécédent(s) de 0 par la fonction f définie par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50360" y="839880"/>
            <a:ext cx="59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826920" y="3500280"/>
                <a:ext cx="19051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4284720" y="1844640"/>
            <a:ext cx="0" cy="424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356000" y="4076640"/>
          <a:ext cx="457992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4076640"/>
                    <a:ext cx="45799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onner le (les) antécédent(s) de 0 par la fonction f définie par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onner le (les) antécédent(s) de 3 par la fonction f définie par</a:t>
            </a:r>
            <a:br>
              <a:rPr sz="2100"/>
            </a:b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79280" y="3500280"/>
          <a:ext cx="457992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500280"/>
                    <a:ext cx="45799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5003640" y="184464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50360" y="912960"/>
            <a:ext cx="59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5580000" y="3068640"/>
                <a:ext cx="190512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5-19T23:26:19Z</dcterms:modified>
  <cp:revision>16</cp:revision>
  <dc:subject/>
  <dc:title>Donner l'image de -1 par la fonction f définie par </dc:title>
</cp:coreProperties>
</file>