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290CC-FFBA-4CF0-9B12-150FF3C0A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A4038-6FA4-43D8-B0B9-34F181214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C6825-A6C0-40CA-9362-4FE2AD86F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B7331-A6AB-4A70-9690-DBDB00486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042920" y="259920"/>
            <a:ext cx="777240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EEC68-A437-49C2-BC36-B8766E543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6CB22-BD2B-4085-BC70-DB98E550B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6EFFE-144F-4FBC-83EE-8C3D4C072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40D35-DC6A-4A8F-8EF0-54B0D03EB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042920" y="259920"/>
            <a:ext cx="777240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A575B-D1EB-4D64-ADE9-5CCD6E0FB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B46D0-5C11-4EB0-BF4F-AF52E373B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3D867-CF81-4866-A842-229236360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21461-D598-4570-8CA9-4A537E408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25716-D5BD-4116-9176-D49EB66F9BD2}" type="slidenum">
              <a:rPr b="0" lang="fr-F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620640"/>
            <a:ext cx="9009000" cy="1052640"/>
            <a:chOff x="0" y="62064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728640"/>
              <a:ext cx="711360" cy="474840"/>
              <a:chOff x="290520" y="72864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72864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72864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1150920"/>
              <a:ext cx="737640" cy="474840"/>
              <a:chOff x="414360" y="115092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115092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115092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107784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62064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144288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4572000" y="1700280"/>
            <a:ext cx="0" cy="4608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M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éparez une feuille de répons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ttez votre nom et en dessous DROITE ou GAUCHE suivant votre position à la tabl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l y a  10 questions 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ous aurez   30    secondes par questio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5940360" y="40464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 indent="-1028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Question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 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537840" y="1971720"/>
            <a:ext cx="3827880" cy="1556280"/>
            <a:chOff x="537840" y="1971720"/>
            <a:chExt cx="3827880" cy="1556280"/>
          </a:xfrm>
        </p:grpSpPr>
        <p:sp>
          <p:nvSpPr>
            <p:cNvPr id="199" name=""/>
            <p:cNvSpPr/>
            <p:nvPr/>
          </p:nvSpPr>
          <p:spPr>
            <a:xfrm>
              <a:off x="537840" y="1971720"/>
              <a:ext cx="382788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On donne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  </a:t>
              </a: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u ( 5 ; -2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Calculer     u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411280" y="3141720"/>
              <a:ext cx="0" cy="35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484360" y="3141720"/>
              <a:ext cx="0" cy="35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916360" y="3141720"/>
              <a:ext cx="0" cy="35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987640" y="3141720"/>
              <a:ext cx="0" cy="35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484360" y="2133720"/>
              <a:ext cx="21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627280" y="3068640"/>
              <a:ext cx="21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6" name=""/>
          <p:cNvSpPr/>
          <p:nvPr/>
        </p:nvSpPr>
        <p:spPr>
          <a:xfrm>
            <a:off x="4916880" y="1919160"/>
            <a:ext cx="40881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On donn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(2;3) e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B(5 ; 6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lors : 5AB ( ….;….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732720" y="5229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0000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10" name=""/>
          <p:cNvSpPr/>
          <p:nvPr/>
        </p:nvSpPr>
        <p:spPr>
          <a:xfrm>
            <a:off x="5940360" y="40464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 indent="-1028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Question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 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878000" y="2060640"/>
            <a:ext cx="3827880" cy="1556280"/>
            <a:chOff x="4878000" y="2060640"/>
            <a:chExt cx="3827880" cy="1556280"/>
          </a:xfrm>
        </p:grpSpPr>
        <p:sp>
          <p:nvSpPr>
            <p:cNvPr id="212" name=""/>
            <p:cNvSpPr/>
            <p:nvPr/>
          </p:nvSpPr>
          <p:spPr>
            <a:xfrm>
              <a:off x="4878000" y="2060640"/>
              <a:ext cx="382788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On donne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  </a:t>
              </a: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u ( 5 ; -2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Calculer     u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751440" y="3230640"/>
              <a:ext cx="0" cy="35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824520" y="3230640"/>
              <a:ext cx="0" cy="35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256520" y="3230640"/>
              <a:ext cx="0" cy="35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327800" y="3230640"/>
              <a:ext cx="0" cy="35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824520" y="2222640"/>
              <a:ext cx="21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967440" y="3157560"/>
              <a:ext cx="21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9" name=""/>
          <p:cNvSpPr/>
          <p:nvPr/>
        </p:nvSpPr>
        <p:spPr>
          <a:xfrm>
            <a:off x="250920" y="1989000"/>
            <a:ext cx="42418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On donn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(2;3) e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B(5 ; 6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lors : 5AB ( ….;….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050920" y="53006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0000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4000"/>
            </a:b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6012000" y="47628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 indent="-1028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Question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335880" y="1827360"/>
            <a:ext cx="4237560" cy="4237560"/>
            <a:chOff x="335880" y="1827360"/>
            <a:chExt cx="4237560" cy="4237560"/>
          </a:xfrm>
        </p:grpSpPr>
        <p:sp>
          <p:nvSpPr>
            <p:cNvPr id="105" name=""/>
            <p:cNvSpPr/>
            <p:nvPr/>
          </p:nvSpPr>
          <p:spPr>
            <a:xfrm>
              <a:off x="447840" y="1827360"/>
              <a:ext cx="4125600" cy="20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A a pour coordonnée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(x ; y )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dans le repère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6" name=""/>
                <p:cNvSpPr txBox="1"/>
                <p:nvPr/>
              </p:nvSpPr>
              <p:spPr>
                <a:xfrm>
                  <a:off x="826920" y="3573360"/>
                  <a:ext cx="1816200" cy="635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r>
                        <m:t xml:space="preserve">O</m:t>
                      </m:r>
                      <m:r>
                        <m:t xml:space="preserve">,</m:t>
                      </m:r>
                      <m:r>
                        <m:t xml:space="preserve">i</m:t>
                      </m:r>
                      <m:r>
                        <m:t xml:space="preserve">,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j</m:t>
                          </m:r>
                        </m:e>
                      </m:acc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07" name=""/>
            <p:cNvSpPr/>
            <p:nvPr/>
          </p:nvSpPr>
          <p:spPr>
            <a:xfrm>
              <a:off x="335880" y="4508640"/>
              <a:ext cx="364644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Cela signifie que :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…</a:t>
              </a: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.= …………………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5272920" y="1700280"/>
            <a:ext cx="2885760" cy="4480920"/>
            <a:chOff x="5272920" y="1700280"/>
            <a:chExt cx="2885760" cy="4480920"/>
          </a:xfrm>
        </p:grpSpPr>
        <p:sp>
          <p:nvSpPr>
            <p:cNvPr id="109" name=""/>
            <p:cNvSpPr/>
            <p:nvPr/>
          </p:nvSpPr>
          <p:spPr>
            <a:xfrm>
              <a:off x="5272920" y="1700280"/>
              <a:ext cx="2885760" cy="448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Soit A(1 ; 3) et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B( 5 ; 4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Alors :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AB  (……;…….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383080" y="459756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advTm="30000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4000"/>
            </a:b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15" name=""/>
          <p:cNvSpPr/>
          <p:nvPr/>
        </p:nvSpPr>
        <p:spPr>
          <a:xfrm>
            <a:off x="5940360" y="40464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 indent="-1028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Question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468360" y="1844640"/>
            <a:ext cx="3619440" cy="3506040"/>
            <a:chOff x="468360" y="1844640"/>
            <a:chExt cx="3619440" cy="3506040"/>
          </a:xfrm>
        </p:grpSpPr>
        <p:sp>
          <p:nvSpPr>
            <p:cNvPr id="117" name=""/>
            <p:cNvSpPr/>
            <p:nvPr/>
          </p:nvSpPr>
          <p:spPr>
            <a:xfrm>
              <a:off x="468360" y="1844640"/>
              <a:ext cx="3619440" cy="350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Soit u( x, y ) et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v (x’, y’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Alors :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u+v ( ….., ……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539640" y="1916280"/>
              <a:ext cx="1008000" cy="2952720"/>
              <a:chOff x="539640" y="1916280"/>
              <a:chExt cx="1008000" cy="2952720"/>
            </a:xfrm>
          </p:grpSpPr>
          <p:sp>
            <p:nvSpPr>
              <p:cNvPr id="119" name=""/>
              <p:cNvSpPr/>
              <p:nvPr/>
            </p:nvSpPr>
            <p:spPr>
              <a:xfrm>
                <a:off x="1403280" y="1916280"/>
                <a:ext cx="144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611280" y="2924280"/>
                <a:ext cx="144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539640" y="4869000"/>
                <a:ext cx="144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1116000" y="4869000"/>
                <a:ext cx="144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3" name=""/>
          <p:cNvGrpSpPr/>
          <p:nvPr/>
        </p:nvGrpSpPr>
        <p:grpSpPr>
          <a:xfrm>
            <a:off x="5076720" y="1916280"/>
            <a:ext cx="3619440" cy="3506040"/>
            <a:chOff x="5076720" y="1916280"/>
            <a:chExt cx="3619440" cy="3506040"/>
          </a:xfrm>
        </p:grpSpPr>
        <p:sp>
          <p:nvSpPr>
            <p:cNvPr id="124" name=""/>
            <p:cNvSpPr/>
            <p:nvPr/>
          </p:nvSpPr>
          <p:spPr>
            <a:xfrm>
              <a:off x="5076720" y="1916280"/>
              <a:ext cx="3619440" cy="350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Soit u( 3, 5) et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v (-1 , 2 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Alors :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u- v ( …..;……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5" name=""/>
            <p:cNvGrpSpPr/>
            <p:nvPr/>
          </p:nvGrpSpPr>
          <p:grpSpPr>
            <a:xfrm>
              <a:off x="5148000" y="1987920"/>
              <a:ext cx="1008000" cy="2952720"/>
              <a:chOff x="5148000" y="1987920"/>
              <a:chExt cx="1008000" cy="2952720"/>
            </a:xfrm>
          </p:grpSpPr>
          <p:sp>
            <p:nvSpPr>
              <p:cNvPr id="126" name=""/>
              <p:cNvSpPr/>
              <p:nvPr/>
            </p:nvSpPr>
            <p:spPr>
              <a:xfrm>
                <a:off x="6011640" y="1987920"/>
                <a:ext cx="144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5219640" y="2995920"/>
                <a:ext cx="144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5148000" y="4940640"/>
                <a:ext cx="144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724360" y="4940640"/>
                <a:ext cx="144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 advTm="30000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4000"/>
            </a:b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34" name=""/>
          <p:cNvSpPr/>
          <p:nvPr/>
        </p:nvSpPr>
        <p:spPr>
          <a:xfrm>
            <a:off x="5940360" y="40464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 indent="-1028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Question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5003640" y="2060640"/>
            <a:ext cx="3619440" cy="3506040"/>
            <a:chOff x="5003640" y="2060640"/>
            <a:chExt cx="3619440" cy="3506040"/>
          </a:xfrm>
        </p:grpSpPr>
        <p:sp>
          <p:nvSpPr>
            <p:cNvPr id="136" name=""/>
            <p:cNvSpPr/>
            <p:nvPr/>
          </p:nvSpPr>
          <p:spPr>
            <a:xfrm>
              <a:off x="5003640" y="2060640"/>
              <a:ext cx="3619440" cy="350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Soit u( x, y ) et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v (x’, y’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Alors :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u+v ( ….. , ……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7" name=""/>
            <p:cNvGrpSpPr/>
            <p:nvPr/>
          </p:nvGrpSpPr>
          <p:grpSpPr>
            <a:xfrm>
              <a:off x="5074920" y="2132280"/>
              <a:ext cx="1008000" cy="2952720"/>
              <a:chOff x="5074920" y="2132280"/>
              <a:chExt cx="1008000" cy="2952720"/>
            </a:xfrm>
          </p:grpSpPr>
          <p:sp>
            <p:nvSpPr>
              <p:cNvPr id="138" name=""/>
              <p:cNvSpPr/>
              <p:nvPr/>
            </p:nvSpPr>
            <p:spPr>
              <a:xfrm>
                <a:off x="5938560" y="2132280"/>
                <a:ext cx="144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146560" y="3140280"/>
                <a:ext cx="144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074920" y="5085000"/>
                <a:ext cx="144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651280" y="5085000"/>
                <a:ext cx="144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2" name=""/>
          <p:cNvSpPr/>
          <p:nvPr/>
        </p:nvSpPr>
        <p:spPr>
          <a:xfrm>
            <a:off x="735120" y="175572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324000" y="1844640"/>
            <a:ext cx="3619440" cy="3506040"/>
            <a:chOff x="324000" y="1844640"/>
            <a:chExt cx="3619440" cy="3506040"/>
          </a:xfrm>
        </p:grpSpPr>
        <p:sp>
          <p:nvSpPr>
            <p:cNvPr id="144" name=""/>
            <p:cNvSpPr/>
            <p:nvPr/>
          </p:nvSpPr>
          <p:spPr>
            <a:xfrm>
              <a:off x="324000" y="1844640"/>
              <a:ext cx="3619440" cy="350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Soit u( 3, 5) et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v (-1 , 2 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Alors :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u- v ( …..;……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5" name=""/>
            <p:cNvGrpSpPr/>
            <p:nvPr/>
          </p:nvGrpSpPr>
          <p:grpSpPr>
            <a:xfrm>
              <a:off x="395280" y="1916280"/>
              <a:ext cx="1008000" cy="2952720"/>
              <a:chOff x="395280" y="1916280"/>
              <a:chExt cx="1008000" cy="2952720"/>
            </a:xfrm>
          </p:grpSpPr>
          <p:sp>
            <p:nvSpPr>
              <p:cNvPr id="146" name=""/>
              <p:cNvSpPr/>
              <p:nvPr/>
            </p:nvSpPr>
            <p:spPr>
              <a:xfrm>
                <a:off x="1258920" y="1916280"/>
                <a:ext cx="144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466920" y="2924280"/>
                <a:ext cx="144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395280" y="4869000"/>
                <a:ext cx="144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971640" y="4869000"/>
                <a:ext cx="144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 advTm="30000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4000"/>
            </a:b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54" name=""/>
          <p:cNvSpPr/>
          <p:nvPr/>
        </p:nvSpPr>
        <p:spPr>
          <a:xfrm>
            <a:off x="5940360" y="40464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 indent="-1028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Question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4656960" y="1916280"/>
            <a:ext cx="4237560" cy="4237560"/>
            <a:chOff x="4656960" y="1916280"/>
            <a:chExt cx="4237560" cy="4237560"/>
          </a:xfrm>
        </p:grpSpPr>
        <p:sp>
          <p:nvSpPr>
            <p:cNvPr id="156" name=""/>
            <p:cNvSpPr/>
            <p:nvPr/>
          </p:nvSpPr>
          <p:spPr>
            <a:xfrm>
              <a:off x="4768920" y="1916280"/>
              <a:ext cx="4125600" cy="20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A a pour coordonnée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(x ; y )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dans le repère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7" name=""/>
                <p:cNvSpPr txBox="1"/>
                <p:nvPr/>
              </p:nvSpPr>
              <p:spPr>
                <a:xfrm>
                  <a:off x="5148000" y="3662280"/>
                  <a:ext cx="1816200" cy="635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r>
                        <m:t xml:space="preserve">O</m:t>
                      </m:r>
                      <m:r>
                        <m:t xml:space="preserve">,</m:t>
                      </m:r>
                      <m:r>
                        <m:t xml:space="preserve">i</m:t>
                      </m:r>
                      <m:r>
                        <m:t xml:space="preserve">,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j</m:t>
                          </m:r>
                        </m:e>
                      </m:acc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58" name=""/>
            <p:cNvSpPr/>
            <p:nvPr/>
          </p:nvSpPr>
          <p:spPr>
            <a:xfrm>
              <a:off x="4656960" y="4597560"/>
              <a:ext cx="364644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Cela signifie que :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…</a:t>
              </a: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.= …………………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501120" y="1971720"/>
            <a:ext cx="2885760" cy="4480920"/>
            <a:chOff x="501120" y="1971720"/>
            <a:chExt cx="2885760" cy="4480920"/>
          </a:xfrm>
        </p:grpSpPr>
        <p:sp>
          <p:nvSpPr>
            <p:cNvPr id="160" name=""/>
            <p:cNvSpPr/>
            <p:nvPr/>
          </p:nvSpPr>
          <p:spPr>
            <a:xfrm>
              <a:off x="501120" y="1971720"/>
              <a:ext cx="2885760" cy="448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Soit A(1 ; 3) et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B( 5 ; 4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Alors :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AB  (……;……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11280" y="486900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advTm="30000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65" name=""/>
          <p:cNvSpPr/>
          <p:nvPr/>
        </p:nvSpPr>
        <p:spPr>
          <a:xfrm>
            <a:off x="5940360" y="40464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 indent="-1028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Question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19120" y="1900080"/>
            <a:ext cx="390852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it A(5;6 ) 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(3;2 ) , al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 milieu de [AB]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ur coordonnées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…………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961520" y="1557360"/>
            <a:ext cx="374544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Que signifie que 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vecteur u ait pou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coordonnées l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réels (x ; y ) da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le repère  (O,i ,j) 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588000" y="2637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451640" y="558972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812000" y="558972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0000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74" name=""/>
          <p:cNvSpPr/>
          <p:nvPr/>
        </p:nvSpPr>
        <p:spPr>
          <a:xfrm>
            <a:off x="5940360" y="40464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 indent="-1028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Question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19120" y="1900080"/>
            <a:ext cx="39085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it A(5;6 ) 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(3;2 ) , al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B = ……………….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788000" y="1916280"/>
            <a:ext cx="405108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ent calculer 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rme d’un vecte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quand on conna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s coordonnées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0000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80" name=""/>
          <p:cNvSpPr/>
          <p:nvPr/>
        </p:nvSpPr>
        <p:spPr>
          <a:xfrm>
            <a:off x="5940360" y="40464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 indent="-1028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Question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859280" y="1989000"/>
            <a:ext cx="39085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it A(5;6 ) 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(3;2 ) , al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B = ……………….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76200" y="1827360"/>
            <a:ext cx="40514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ent calculer 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rme d’un vecte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quand on conna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s coordonnées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0000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324000" y="-4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86" name=""/>
          <p:cNvSpPr/>
          <p:nvPr/>
        </p:nvSpPr>
        <p:spPr>
          <a:xfrm>
            <a:off x="5940360" y="40464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 indent="-1028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Question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 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932360" y="1773360"/>
            <a:ext cx="390852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it A(5;6 ) 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(3;2 ) , al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 milieu de [AB]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ur coordonnées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…………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33800" y="1557360"/>
            <a:ext cx="374544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Que signifie que 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vecteur u ait pou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coordonnées l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réels (x ; y ) da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le repère  (O,i ,j)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2124000" y="2565360"/>
            <a:ext cx="1440000" cy="3025800"/>
            <a:chOff x="2124000" y="2565360"/>
            <a:chExt cx="1440000" cy="3025800"/>
          </a:xfrm>
        </p:grpSpPr>
        <p:sp>
          <p:nvSpPr>
            <p:cNvPr id="190" name=""/>
            <p:cNvSpPr/>
            <p:nvPr/>
          </p:nvSpPr>
          <p:spPr>
            <a:xfrm>
              <a:off x="2124000" y="2565360"/>
              <a:ext cx="28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987640" y="559116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348000" y="5591160"/>
              <a:ext cx="21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advTm="30000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5T08:38:38Z</dcterms:created>
  <dc:creator>Admin</dc:creator>
  <dc:description/>
  <dc:language>en-US</dc:language>
  <cp:lastModifiedBy>CLEMENT ODILE</cp:lastModifiedBy>
  <dcterms:modified xsi:type="dcterms:W3CDTF">2008-08-06T08:35:47Z</dcterms:modified>
  <cp:revision>27</cp:revision>
  <dc:subject/>
  <dc:title>Donner l'image de -1 par la fonction f définie par </dc:title>
</cp:coreProperties>
</file>