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419-751A-4250-9564-3F0BDBD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FB-358B-4355-8C7D-EFEF3FE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2D8-7E1F-4172-9C1C-BDBFD08E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1B3-B344-43EB-B97C-545B75F6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326-1CD3-4EFA-8D1A-D325EA65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C62D-EDC2-42D7-B2E0-D0B71B0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B96-496F-423B-90BA-D9769F6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283-45DD-4300-9BFD-80F9A69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8917-C199-4326-ABC0-7F50FC9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B93B-BFD1-4D3E-832E-0AF1FEF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52F5-C90A-426E-85C9-D5E4601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3B0-6067-4520-95E7-F2484CCD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8BC-0B95-4033-B264-7DA0DC2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60C-1799-4F47-A1B7-BDF645E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260-A96D-42D2-8BAC-35F3B77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8B7F-F126-4D4A-AE39-D21C7759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A93A-1421-4CCC-BF31-08083706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46E-3B67-4886-A12C-1830AD52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B75-9F12-4B3F-AD22-40135A6B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A08-028D-4915-933C-17422AF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41C-6BEB-4B2E-B6B4-E35F6A54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22-4C27-4AC8-A355-9E5DEB7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377-8FFE-4FBC-BE20-FBF9736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772-C759-431B-8EA9-AC0942A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D7E-D289-4036-BF5E-61CE3A085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4F7-09EE-4AA0-A428-BD301C9EAE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3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: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un encadrement de A-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9079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l‘inéq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57880" y="2946240"/>
                <a:ext cx="2286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71640" y="328464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un encadrement 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3x + 2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nner un encadrement du réel : -3x+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l‘inéq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80000" y="342900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48:18Z</dcterms:modified>
  <cp:revision>17</cp:revision>
  <dc:subject/>
  <dc:title>Donner l'image de -1 par la fonction f définie par </dc:title>
</cp:coreProperties>
</file>