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554-2888-4F35-8618-194BCFA8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444-158E-4FF1-A0FA-0B13CA9E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D2B-AE1D-4AA1-ACB1-CDF84F5A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9027-8C70-47B8-A537-7957E471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55D6-6347-48AA-B88A-2D0F41A6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8C8E-C4A4-4D7F-8C91-488D88BC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CED2-274B-48DB-94CC-B31232F2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1D2D-A9AD-442D-AE95-B876BC6A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3963-3D1D-43EC-BF0B-29E4C6D5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C078-F86A-482C-8A36-201E77DB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B2F9-CAB0-4380-B7DD-830F1D6C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1A1-173A-4308-AC95-F856F7AF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B2AB-FC0F-4219-867C-8DE72B82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E2BA-90FD-4430-AFB6-0EB2594A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FB70-2744-4EA9-8C29-944478D7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FFC3-F620-44AC-8B97-12E2AE52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3BF3-E413-4B7F-AD7A-C9A809CC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B8D2-0BD9-4A59-AA7D-1CEEE348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BF8D-CC36-4BD9-96FD-48437035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51D-8212-43B8-8D73-54737023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CD9B-3A8F-45EF-A135-A9A3C25D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084-FAB5-42ED-87C8-D6FE91D1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945-29D5-4547-98AF-DD4BE786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5608-0F79-4AF2-A351-AF335154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CC31-CFB0-4B04-8007-804185DE0346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76CB-11FB-4F9D-8A5F-D6BD9D39BA90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4600"/>
            </a:br>
            <a:r>
              <a:rPr b="0" lang="fr-FR" sz="4600" spc="-1" strike="noStrike">
                <a:solidFill>
                  <a:srgbClr val="006633"/>
                </a:solidFill>
                <a:latin typeface="Garamond"/>
              </a:rPr>
              <a:t>Seconde 8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71280" y="2924280"/>
            <a:ext cx="7561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ésolutions d’ é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us disposez de  45 secondes par question. Il y a  9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rème : 2 points gratuits, deux points par réponse exacte, 0,5 point enlevé par réponse fauss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9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x + 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2)(x-2)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1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oudre dans 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7(x-5)= -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3x+5= 3(x-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20500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 X² =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a étant un réel donné et x l’inconn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e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+6 = 3(x+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t-elle de solutions réelles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3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3x+5= 3(x-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oudre dans 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7(x-5)= - 1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4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+6 = 3(x+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    X² =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a étant un réel donné et x l’inconn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e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5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+5 =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1)(x-3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6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² + 1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x + 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7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1)(x-3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+5 =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8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2)(x-2)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² + 1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5-19T22:34:08Z</dcterms:modified>
  <cp:revision>6</cp:revision>
  <dc:subject/>
  <dc:title>CR2</dc:title>
</cp:coreProperties>
</file>