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514-7A8A-4C8F-AE48-A8BB6635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9DE-3DD0-4294-B818-D9EC6EA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B0D-52EF-4EF5-81CA-4AC12BED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DBE-63FD-46D2-8924-5D630FC8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2873-A031-4A4C-81DF-EF69A4EA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EFF-2DF4-4448-8742-3AF48AC3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326F-D04D-4E16-86FC-F3596DD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CDA-015F-4EC5-8DAE-9FAC85E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A6C-70EB-4B45-B25C-81711BF1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6060-7779-425F-AF57-8457372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0B10-9A76-44C4-A97B-750D96E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58E-44CF-4719-9139-1113FF45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6C83-C88F-41B2-B37D-24566F0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CA5-2ADD-4AC5-A4DD-AFE6C9F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2FD-63C5-4573-BF35-0432271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3C33-1272-463B-A80A-CC3E70EE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A06-3667-4D63-BF2B-728B8AF2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912-4CF6-4D87-A4DC-7B39D99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A4D-90E1-4371-8B6B-051D8F12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737-88C2-4EB0-87D1-EE0ADFEE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4A6-5809-48D5-A6B3-98D60F8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021-FAF5-48AC-863A-061082E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975-13A9-403A-B8B4-079B6A2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2D0-58BB-406B-A5B2-EE53C57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CDC-3EDB-4A1E-A273-912666929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EC1-593D-44F5-88FB-F4C4B1AF6214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10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979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-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nombre décima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060640"/>
            <a:ext cx="3673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dé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9796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0606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– 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8-05T00:43:37Z</dcterms:modified>
  <cp:revision>17</cp:revision>
  <dc:subject/>
  <dc:title>Calcul mental 1</dc:title>
</cp:coreProperties>
</file>