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DC3-F8BE-4806-8FEA-9B9CCCF54C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BD02-D84A-4A15-BB2C-D333D9B1A2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16B-4DB7-4119-A790-91D4BB26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7F1-32C1-4BC6-B955-D96221F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F98-5A00-46F2-9550-10458D6E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411-9C36-42A0-B6A9-85E69771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5FB-32C4-474A-BE54-B3C2F858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72E-161F-4986-A7C0-E88452C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447-7138-46AF-87FC-7D01689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A9E-3903-4AA0-910E-1F355AC5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5DD-0831-44D3-8E87-277E1B1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99E-E145-4115-B045-DD569AE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1B8-C6BB-45C3-9832-C491A59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34B-AFA0-43C5-A607-FD75C82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D9B5-7157-4A1E-90BF-EA7CCF9D16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47:56Z</dcterms:modified>
  <cp:revision>42</cp:revision>
  <dc:subject/>
  <dc:title>8 x 4</dc:title>
</cp:coreProperties>
</file>