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A411-6156-48B9-97FF-714044953A7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972B-0EB1-4C1F-9C8E-355FC3D343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5FEE-B4E5-4A9C-A79E-9703CAE81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9F56-9E32-4AEC-AD9E-58CFF259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A8F5-3D0F-4987-9AA6-3D121F609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1084-3C3E-4182-96F3-5BD08264E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48BC-C6A1-4CBF-A2CA-39B0B981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11B3-B692-4201-824A-80993F9B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6C70-3EEB-420D-85B9-07AB0E2D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B7FE-B009-4EC3-9412-5A805D08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EFFD-B3E2-4B18-9127-671699F4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DC25-7EF0-4110-8815-DAC8F9A4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C734-B7B2-4C64-B1D0-13CD098C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37AB-4226-4DAC-89AF-A2C739AB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1980-A950-4221-A3F2-C552A304656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Nombres relat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et opé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addition et soustrac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1069920" y="2357280"/>
                <a:ext cx="70200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1012680" y="2357280"/>
                <a:ext cx="713448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1357200" y="2357280"/>
                <a:ext cx="64454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6"/>
              <p:cNvSpPr txBox="1"/>
              <p:nvPr/>
            </p:nvSpPr>
            <p:spPr>
              <a:xfrm>
                <a:off x="1069920" y="2357280"/>
                <a:ext cx="70200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357200" y="2357280"/>
                <a:ext cx="64454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6"/>
              <p:cNvSpPr txBox="1"/>
              <p:nvPr/>
            </p:nvSpPr>
            <p:spPr>
              <a:xfrm>
                <a:off x="1357200" y="2357280"/>
                <a:ext cx="64454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1012680" y="2357280"/>
                <a:ext cx="713592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1357200" y="2357280"/>
                <a:ext cx="64454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1012680" y="2357280"/>
                <a:ext cx="713448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6"/>
              <p:cNvSpPr txBox="1"/>
              <p:nvPr/>
            </p:nvSpPr>
            <p:spPr>
              <a:xfrm>
                <a:off x="1012680" y="2357280"/>
                <a:ext cx="713592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3-28T12:53:49Z</dcterms:modified>
  <cp:revision>44</cp:revision>
  <dc:subject/>
  <dc:title>8 x 4</dc:title>
</cp:coreProperties>
</file>