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9C3F-B681-4D80-953D-74FCB39EB7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810-6070-41F9-AF93-199F697D51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90E-BF6B-4AD8-8560-D474CC6A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AA8-5960-44D7-80CB-8173CEDD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EB6-16C3-4399-A7AD-7C199480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A9D-A040-4A8D-B1F7-49BB3C02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648-242F-4609-B255-63AAE51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C15-F842-434D-891D-A7F5703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C92-5846-4F88-8DC9-977E17BA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0BB-C63A-4EC2-A85B-B2995E7F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73F-8FC6-4EA8-A3C8-03D287E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72D-3204-4413-9E6B-0CA009F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758-86AD-4806-A22B-01CC376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155-A206-4B78-A208-8E458CA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99EF-3A30-4F8F-B499-6F651A083EE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3143160"/>
            <a:ext cx="85726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tion au calcul litt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éveloppements et fact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408400" y="3227400"/>
                <a:ext cx="4259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92480" y="33433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349360" y="3343320"/>
                <a:ext cx="43736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351160" y="3227400"/>
                <a:ext cx="437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2178000" y="3227400"/>
                <a:ext cx="471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12T21:19:00Z</dcterms:modified>
  <cp:revision>33</cp:revision>
  <dc:subject/>
  <dc:title>8 x 4</dc:title>
</cp:coreProperties>
</file>