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F3DD-1B5C-426E-A902-D29FB21C47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707-B6B7-47E1-B84A-04955E70F9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74D-21CC-4BEA-911C-2291F374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108-7DAF-4822-8D61-33CA63D9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285-1A90-459F-9629-1F46593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DBE-80F0-400F-9E79-E80F63D4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A27-D5B4-4344-857B-0F61813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E7F-DF4B-421B-BB91-C720F8A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6BB-2259-4D60-83A2-202FC2A9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F7F-E813-4B57-920B-8F14E48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EF1-9C02-45F9-81F7-E40C5991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F57-A593-46AC-87A6-D35FEA2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4BF-844E-4499-ABE3-B7CE7A4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3AD-87D8-472D-988A-32F7772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EC3-9CB7-43D2-962E-58D0A02D40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57Z</dcterms:modified>
  <cp:revision>19</cp:revision>
  <dc:subject/>
  <dc:title>8 x 4</dc:title>
</cp:coreProperties>
</file>