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0DB-A377-4117-AF4D-4695A01237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ECF9-B2AD-4066-9FA7-9F9493A09D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815-8E5A-490E-A23E-E653A383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353-3CA2-4F92-9FE4-FDEB3D3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EA1-80D2-4EC9-ADC6-B89F6B37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7B9-A66A-42BD-B62B-B00F389E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F80-273C-4A54-ADAD-0C7C3DBD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219-7394-4832-A15D-DB6C9E8B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0C5-0625-40ED-BCFC-CC87505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AF8-AED4-4F86-B656-39F56C79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47D-38E4-49CB-8347-0B4428D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824-3CD6-4C9D-B566-21D6635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654-9228-41CA-85C8-9D76CD5B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B66-7F60-4A6F-AF84-F10F8D6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FE6C-A7CC-42C4-AB10-F81F9D421D3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3:36Z</dcterms:modified>
  <cp:revision>39</cp:revision>
  <dc:subject/>
  <dc:title>8 x 4</dc:title>
</cp:coreProperties>
</file>