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E6A-A860-45C0-AB51-5AC2599C7E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60A-6B13-451F-8372-B60E413270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2F8-15A0-4CEA-8BCE-63120120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2A0-1A2A-402F-8B3A-36158143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4A8-9900-4284-BBAF-15B6678F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7ED-855F-4735-B40E-C8A4EAFF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51C-C3DC-478D-A902-46B4A735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209-7651-4E8D-ABCB-94FCD35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7B6-439E-4BF5-92B7-9D2B5CF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11C-8797-4E1F-89DB-5A15E8DF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3E6-55B9-408B-9E78-E4015EB1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A4E-620F-44F6-AD0A-FFE818A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4A1-A490-47FC-A411-8AF056C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CF6-913E-4492-89AC-03B1C50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E90F-D853-4A1B-AF8C-5F149D3CA0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4:54Z</dcterms:modified>
  <cp:revision>40</cp:revision>
  <dc:subject/>
  <dc:title>8 x 4</dc:title>
</cp:coreProperties>
</file>