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8AFE-B2B1-44C7-A503-6C76D40CFA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1CA3-A5E5-431A-A019-77F5185D6E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55D-BDCD-4F2D-854A-4D1AEB48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A24-F2FF-4138-A03A-911D86FE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A1E-2278-44C0-A3A2-7F28B228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B1C-4171-42C1-BAAB-791E9449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748-0421-4CEC-BD7C-5C8E290A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57A-9710-491C-9D5A-0133DFEA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6DA-5072-416B-98C0-4AC58CC1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FD8-E9F9-4FDF-BB8F-413C82B1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4A0-0868-4F64-9BC9-3D8ABA3F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D27-C8C4-4A6A-88C7-4731F0A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A15-4798-4CFF-9000-FE9678F0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415-FDF6-45D2-8F60-B13FDB9F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17CC-2A03-47D7-B2BB-6E5BC22B462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les priorités opéra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3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4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2:16Z</dcterms:modified>
  <cp:revision>36</cp:revision>
  <dc:subject/>
  <dc:title>8 x 4</dc:title>
</cp:coreProperties>
</file>