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DD2F-EE95-4C0F-AA7C-57AC604D05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EAE5-3D8D-4D85-9B12-F162613C3E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D7C-7C69-42EE-9DF7-6D444D43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95B-4DD0-4FFF-9667-7AC03338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856-3F09-4F42-B285-825D0D46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DD0-C175-44C9-A2C1-9D4F6A9A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96D-7E27-4600-9DFA-756024EE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9D4-4EB5-4196-9F45-78EDC685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13F-1C45-4025-800B-7E1AA980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BE9-1197-47C8-B8AB-608E487D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07D-0D08-4198-928B-92BEBD1D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B1D-7E30-4A41-AAB0-1C6F8685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C96-CEF8-4196-B1C5-98342B51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AB8-B8F0-4318-ABEB-7C3CB54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E5EC-A695-4462-9D96-7D438A714C7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ngles et vocabu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rcRect l="4388" t="3356" r="5703" b="12559"/>
          <a:stretch/>
        </p:blipFill>
        <p:spPr>
          <a:xfrm>
            <a:off x="642960" y="3143160"/>
            <a:ext cx="4786200" cy="2917800"/>
          </a:xfrm>
          <a:prstGeom prst="rect">
            <a:avLst/>
          </a:prstGeom>
          <a:ln w="0">
            <a:noFill/>
          </a:ln>
        </p:spPr>
      </p:pic>
      <p:cxnSp>
        <p:nvCxnSpPr>
          <p:cNvPr id="88" name="Connecteur droit avec flèche 10"/>
          <p:cNvCxnSpPr/>
          <p:nvPr/>
        </p:nvCxnSpPr>
        <p:spPr>
          <a:xfrm flipH="1" flipV="1">
            <a:off x="1071000" y="3642480"/>
            <a:ext cx="2858040" cy="358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89" name="Connecteur droit avec flèche 12"/>
          <p:cNvCxnSpPr/>
          <p:nvPr/>
        </p:nvCxnSpPr>
        <p:spPr>
          <a:xfrm>
            <a:off x="4070880" y="4142880"/>
            <a:ext cx="429480" cy="1429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6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rcRect l="4388" t="3356" r="5703" b="12559"/>
          <a:stretch/>
        </p:blipFill>
        <p:spPr>
          <a:xfrm>
            <a:off x="642960" y="3143160"/>
            <a:ext cx="4786200" cy="2917800"/>
          </a:xfrm>
          <a:prstGeom prst="rect">
            <a:avLst/>
          </a:prstGeom>
          <a:ln w="0">
            <a:noFill/>
          </a:ln>
        </p:spPr>
      </p:pic>
      <p:cxnSp>
        <p:nvCxnSpPr>
          <p:cNvPr id="58" name="Connecteur droit avec flèche 12"/>
          <p:cNvCxnSpPr/>
          <p:nvPr/>
        </p:nvCxnSpPr>
        <p:spPr>
          <a:xfrm flipH="1" flipV="1">
            <a:off x="1071000" y="3642480"/>
            <a:ext cx="2858040" cy="358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9" name="Connecteur droit avec flèche 13"/>
          <p:cNvCxnSpPr/>
          <p:nvPr/>
        </p:nvCxnSpPr>
        <p:spPr>
          <a:xfrm>
            <a:off x="4070880" y="4142880"/>
            <a:ext cx="429480" cy="1429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rcRect l="7975" t="5841" r="10903" b="8443"/>
          <a:stretch/>
        </p:blipFill>
        <p:spPr>
          <a:xfrm>
            <a:off x="214200" y="2500200"/>
            <a:ext cx="550080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9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rcRect l="7975" t="5841" r="10903" b="8443"/>
          <a:stretch/>
        </p:blipFill>
        <p:spPr>
          <a:xfrm>
            <a:off x="214200" y="2500200"/>
            <a:ext cx="550080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1-18T22:24:53Z</dcterms:modified>
  <cp:revision>41</cp:revision>
  <dc:subject/>
  <dc:title>8 x 4</dc:title>
</cp:coreProperties>
</file>