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370E-A4AE-4455-99B6-A6591F1069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77A-0199-4B34-8274-EBA39AC3A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EBF-3392-450B-AED1-D9E7E9F1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96F-B7EF-41B0-B29C-0892452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BC6-7769-4997-9EE9-31C4E740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062-0BCE-4C71-A2E1-C06E18DF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5F8-4A66-4BE7-838D-230A90C8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6C-E6C7-46EC-BE8A-70D79D5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E33-C08B-4928-B99E-6D865C4B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982-390B-45E0-9DF0-432FE5ED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8A5-B429-4CF5-A619-458D0ACF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599-3210-480F-99E8-B5C65BF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970-9C13-408C-BD8B-B885E00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B65-67D8-48C3-97FE-E28C5A3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562-DE9A-462E-BFC2-6F687C2943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Triangles et droites remarqu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10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4T05:36:28Z</dcterms:modified>
  <cp:revision>30</cp:revision>
  <dc:subject/>
  <dc:title>8 x 4</dc:title>
</cp:coreProperties>
</file>