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D61F-3F82-4A2B-8263-75F178BBCE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F8FF-321D-46AF-9168-62F3A09235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DB0-760E-4B36-9C2F-FDC432CD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0D9-20C4-44EE-92CD-B80D40B3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D49-A218-430E-A6C7-C1616F41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2BE-E0D5-492B-A98E-1E29B74E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6F9-20C3-4768-B48D-9617BE59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601-F3B0-4D42-84B9-B85F5208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E68-FC29-4DF9-BE05-E456AF2E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7F5-4CC1-49B4-8B2E-623A5DCC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4A5-C658-4CC3-A863-8C0B46E1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652-3D8A-4ECF-B1E3-BDEDBE5B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1F4-371C-428C-B2A6-1347443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E96C-9585-40AA-BD68-C0D60B28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8690-57E8-4BBE-9896-319A8D74A01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 ou la différence de deux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sans reten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,24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,79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 1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,6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5,81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3,1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,358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2,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,457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2,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,79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 1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,24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5,81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3,1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,3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6:58:45Z</dcterms:modified>
  <cp:revision>17</cp:revision>
  <dc:subject/>
  <dc:title>8 x 4</dc:title>
</cp:coreProperties>
</file>