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3B18-4C78-49F2-ADFD-B91BDC1A55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8334-95BA-455F-8F6E-D01FBE8770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55A-02AE-4FA9-8ABE-4A3504CF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5A0-5AA4-42E3-A416-7C9BCCE6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2FD-6BE8-4A15-B7B3-A144DBBB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748D-B24D-4A79-B439-3ABBBE35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C45-733A-42E1-ACC6-06E3E2DA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C0E-D06C-4C2C-938E-71795FD7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3B6-A91C-4FAC-B683-F1AE4946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828-4494-4DE2-8547-B2BFCAE1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DFC-7086-4FC6-B0F4-4781A9C4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261-8595-4473-BDAD-D4FFBCF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352-7AB5-43BD-AE07-CAE2BFBF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604-C48B-4243-8FD6-FC5BD924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ACB1-49A9-4298-8395-3A0D1FA03C6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arallélogrammes particu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quadrilatère a ses diagonales perpendiculaires et de même longueur, alors c’est un carré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dont les diagonales sont de même longueur 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losange a ses diagonales de même longueurs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quadrilatère a ses diagonales perpendiculaires et de même longueur, alors c’est un carré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parallélogramme a ses diagonales perpendiculaires, alors c’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losange a ses diagonales de même longueurs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ayant deux côtés consécutifs de même longueur est un losang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parallélogramme a ses diagonales perpendiculaires, alors c’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dont les diagonales sont de même longueur 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ayant deux côtés consécutifs de même longueur est un losang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4-12T09:10:46Z</dcterms:modified>
  <cp:revision>39</cp:revision>
  <dc:subject/>
  <dc:title>8 x 4</dc:title>
</cp:coreProperties>
</file>