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8BA8-6B7B-41DA-B13A-063FFFEE3B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F76-0429-4A3E-A33E-97D01BCCE1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FE8-F110-4590-B91B-3F43BE4E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A6B-F0BD-4F04-9001-92795511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BCD-9D53-4F86-A198-5AF8A067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352-972E-4E9A-8D75-215A6947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21A-DF4E-4DEE-9510-A2030C5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2E7-D257-48E2-9824-5B03D0E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4ED-8165-42A0-98EA-88C94FB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9AB-F7B5-48E3-AE13-B5EECCCC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31B-17AF-4079-B580-725948D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695-F26D-47C5-B31B-085C0F8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8AA-4624-4B62-BA6F-01E6DA5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AC9-9879-495C-AA9F-A891EB9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1B57-773B-46B5-BC98-2F389904B45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’addi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9:01Z</dcterms:modified>
  <cp:revision>23</cp:revision>
  <dc:subject/>
  <dc:title>8 x 4</dc:title>
</cp:coreProperties>
</file>