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324F-843C-4AA2-9BA7-94F91B520A7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FD52-8A9B-4573-8EC7-ED8057B7AAD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5246-BE66-4B5F-9C73-ED30B6E1E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6E12-11A8-4EA5-8B56-6699EFC6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B2D8-C7BA-48EE-8671-C44D7CDF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6070-538B-4C83-9CFA-C6A46EF7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74DF-C1B5-488D-B857-66AC9AE7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C7C0-6381-4F9E-8364-F0373F80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9DDE-4396-4102-84D0-3AD7AEF6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F74C-FD9B-4F1D-A944-78247EA8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471C-0FFE-4709-BAA9-52DFA0C5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1A89-EBA7-4B6F-9F0C-6B25C701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B343-EE23-49D6-BA56-B3012DA4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EEE6-AA44-49D6-878A-DA3AD242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5BEE-8C5D-4A59-8FAB-5D14597D66F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200" spc="-1" strike="noStrike">
                <a:solidFill>
                  <a:srgbClr val="ff0000"/>
                </a:solidFill>
                <a:latin typeface="Arial"/>
              </a:rPr>
              <a:t>Nombres relatifs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omparaison et repé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99680" y="1285920"/>
            <a:ext cx="82868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les sont les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ordonnées du point C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268" name="Text Box 150"/>
            <p:cNvSpPr/>
            <p:nvPr/>
          </p:nvSpPr>
          <p:spPr>
            <a:xfrm>
              <a:off x="6000480" y="4786200"/>
              <a:ext cx="48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Group 154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sp>
            <p:nvSpPr>
              <p:cNvPr id="270" name="Text Box 155"/>
              <p:cNvSpPr/>
              <p:nvPr/>
            </p:nvSpPr>
            <p:spPr>
              <a:xfrm>
                <a:off x="4171320" y="4017600"/>
                <a:ext cx="36072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Group 156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272" name="Text Box 157"/>
                <p:cNvSpPr/>
                <p:nvPr/>
              </p:nvSpPr>
              <p:spPr>
                <a:xfrm>
                  <a:off x="3810960" y="5460480"/>
                  <a:ext cx="7214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ahoma"/>
                    </a:rPr>
                    <a:t>(-2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3" name="Group 158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274" name="Text Box 159"/>
                  <p:cNvSpPr/>
                  <p:nvPr/>
                </p:nvSpPr>
                <p:spPr>
                  <a:xfrm>
                    <a:off x="3810960" y="473904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1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5" name="Group 160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276" name="Text Box 161"/>
                    <p:cNvSpPr/>
                    <p:nvPr/>
                  </p:nvSpPr>
                  <p:spPr>
                    <a:xfrm>
                      <a:off x="3810960" y="2935800"/>
                      <a:ext cx="721440" cy="360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7" name="Group 162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278" name="Text Box 163"/>
                      <p:cNvSpPr/>
                      <p:nvPr/>
                    </p:nvSpPr>
                    <p:spPr>
                      <a:xfrm>
                        <a:off x="3810960" y="2214720"/>
                        <a:ext cx="721440" cy="360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2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79" name="Group 164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280" name="Text Box 165"/>
                        <p:cNvSpPr/>
                        <p:nvPr/>
                      </p:nvSpPr>
                      <p:spPr>
                        <a:xfrm>
                          <a:off x="7057080" y="4017600"/>
                          <a:ext cx="721440" cy="360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4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81" name="Group 166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282" name="Text Box 167"/>
                          <p:cNvSpPr/>
                          <p:nvPr/>
                        </p:nvSpPr>
                        <p:spPr>
                          <a:xfrm>
                            <a:off x="6336000" y="4017600"/>
                            <a:ext cx="72108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3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83" name="Group 168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284" name="Text Box 169"/>
                            <p:cNvSpPr/>
                            <p:nvPr/>
                          </p:nvSpPr>
                          <p:spPr>
                            <a:xfrm>
                              <a:off x="5614560" y="4017600"/>
                              <a:ext cx="72144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2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285" name="Group 170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286" name="Text Box 171"/>
                              <p:cNvSpPr/>
                              <p:nvPr/>
                            </p:nvSpPr>
                            <p:spPr>
                              <a:xfrm>
                                <a:off x="489312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1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287" name="Group 172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288" name="Text Box 173"/>
                                <p:cNvSpPr/>
                                <p:nvPr/>
                              </p:nvSpPr>
                              <p:spPr>
                                <a:xfrm>
                                  <a:off x="3450240" y="4017600"/>
                                  <a:ext cx="72108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-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289" name="Group 174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290" name="Text Box 175"/>
                                  <p:cNvSpPr/>
                                  <p:nvPr/>
                                </p:nvSpPr>
                                <p:spPr>
                                  <a:xfrm>
                                    <a:off x="2728800" y="4017600"/>
                                    <a:ext cx="72144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2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291" name="Group 176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292" name="Text Box 17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28592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4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293" name="Group 178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294" name="Text Box 17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00736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3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295" name="Group 180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296" name="Line 181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01760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316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tailEnd len="med" type="arrow" w="med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97" name="Line 182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25750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98" name="Line 183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329652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99" name="Line 184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73904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00" name="Line 185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54604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301" name="Group 186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646640" y="2214720"/>
                                          <a:ext cx="5771160" cy="3606480"/>
                                          <a:chOff x="1646640" y="2214720"/>
                                          <a:chExt cx="5771160" cy="3606480"/>
                                        </a:xfrm>
                                      </p:grpSpPr>
                                      <p:sp>
                                        <p:nvSpPr>
                                          <p:cNvPr id="302" name="Line 187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45320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head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03" name="Line 188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6466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04" name="Line 189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236808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05" name="Line 190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0891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06" name="Line 19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8106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07" name="Line 19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25312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08" name="Line 19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9745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09" name="Line 19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66963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10" name="Line 19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74178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  <p:sp>
        <p:nvSpPr>
          <p:cNvPr id="311" name="Connecteur droit 98"/>
          <p:cNvSpPr/>
          <p:nvPr/>
        </p:nvSpPr>
        <p:spPr>
          <a:xfrm>
            <a:off x="6500880" y="5286240"/>
            <a:ext cx="357120" cy="357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Connecteur droit 101"/>
          <p:cNvSpPr/>
          <p:nvPr/>
        </p:nvSpPr>
        <p:spPr>
          <a:xfrm flipH="1">
            <a:off x="6500880" y="5286240"/>
            <a:ext cx="357120" cy="357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8760" y="1428840"/>
            <a:ext cx="82864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 est l’ordonnée du point E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316" name="Text Box 150"/>
            <p:cNvSpPr/>
            <p:nvPr/>
          </p:nvSpPr>
          <p:spPr>
            <a:xfrm>
              <a:off x="2357640" y="2571480"/>
              <a:ext cx="48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Group 154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sp>
            <p:nvSpPr>
              <p:cNvPr id="318" name="Text Box 155"/>
              <p:cNvSpPr/>
              <p:nvPr/>
            </p:nvSpPr>
            <p:spPr>
              <a:xfrm>
                <a:off x="4171320" y="4017600"/>
                <a:ext cx="36072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9" name="Group 156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320" name="Text Box 157"/>
                <p:cNvSpPr/>
                <p:nvPr/>
              </p:nvSpPr>
              <p:spPr>
                <a:xfrm>
                  <a:off x="3810960" y="5460480"/>
                  <a:ext cx="7214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ahoma"/>
                    </a:rPr>
                    <a:t>(-2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1" name="Group 158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322" name="Text Box 159"/>
                  <p:cNvSpPr/>
                  <p:nvPr/>
                </p:nvSpPr>
                <p:spPr>
                  <a:xfrm>
                    <a:off x="3810960" y="473904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1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23" name="Group 160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324" name="Text Box 161"/>
                    <p:cNvSpPr/>
                    <p:nvPr/>
                  </p:nvSpPr>
                  <p:spPr>
                    <a:xfrm>
                      <a:off x="3810960" y="2935800"/>
                      <a:ext cx="721440" cy="360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25" name="Group 162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326" name="Text Box 163"/>
                      <p:cNvSpPr/>
                      <p:nvPr/>
                    </p:nvSpPr>
                    <p:spPr>
                      <a:xfrm>
                        <a:off x="3810960" y="2214720"/>
                        <a:ext cx="721440" cy="360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2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27" name="Group 164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328" name="Text Box 165"/>
                        <p:cNvSpPr/>
                        <p:nvPr/>
                      </p:nvSpPr>
                      <p:spPr>
                        <a:xfrm>
                          <a:off x="7057080" y="4017600"/>
                          <a:ext cx="721440" cy="360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4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29" name="Group 166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330" name="Text Box 167"/>
                          <p:cNvSpPr/>
                          <p:nvPr/>
                        </p:nvSpPr>
                        <p:spPr>
                          <a:xfrm>
                            <a:off x="6336000" y="4017600"/>
                            <a:ext cx="72108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3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331" name="Group 168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332" name="Text Box 169"/>
                            <p:cNvSpPr/>
                            <p:nvPr/>
                          </p:nvSpPr>
                          <p:spPr>
                            <a:xfrm>
                              <a:off x="5614560" y="4017600"/>
                              <a:ext cx="72144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2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333" name="Group 170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334" name="Text Box 171"/>
                              <p:cNvSpPr/>
                              <p:nvPr/>
                            </p:nvSpPr>
                            <p:spPr>
                              <a:xfrm>
                                <a:off x="489312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1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335" name="Group 172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336" name="Text Box 173"/>
                                <p:cNvSpPr/>
                                <p:nvPr/>
                              </p:nvSpPr>
                              <p:spPr>
                                <a:xfrm>
                                  <a:off x="3450240" y="4017600"/>
                                  <a:ext cx="72108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-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337" name="Group 174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338" name="Text Box 175"/>
                                  <p:cNvSpPr/>
                                  <p:nvPr/>
                                </p:nvSpPr>
                                <p:spPr>
                                  <a:xfrm>
                                    <a:off x="2728800" y="4017600"/>
                                    <a:ext cx="72144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2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339" name="Group 176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340" name="Text Box 17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28592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4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341" name="Group 178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342" name="Text Box 17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00736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3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343" name="Group 180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344" name="Line 181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01760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316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tailEnd len="med" type="arrow" w="med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45" name="Line 182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25750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46" name="Line 183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329652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47" name="Line 184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73904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48" name="Line 185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54604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349" name="Group 186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646640" y="2214720"/>
                                          <a:ext cx="5771160" cy="3606480"/>
                                          <a:chOff x="1646640" y="2214720"/>
                                          <a:chExt cx="5771160" cy="3606480"/>
                                        </a:xfrm>
                                      </p:grpSpPr>
                                      <p:sp>
                                        <p:nvSpPr>
                                          <p:cNvPr id="350" name="Line 187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45320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head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51" name="Line 188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6466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52" name="Line 189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236808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53" name="Line 190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0891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54" name="Line 19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8106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55" name="Line 19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25312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56" name="Line 19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9745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57" name="Line 19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66963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58" name="Line 19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74178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  <p:sp>
        <p:nvSpPr>
          <p:cNvPr id="359" name="Connecteur droit 52"/>
          <p:cNvSpPr/>
          <p:nvPr/>
        </p:nvSpPr>
        <p:spPr>
          <a:xfrm>
            <a:off x="2928960" y="2428920"/>
            <a:ext cx="35712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Connecteur droit 53"/>
          <p:cNvSpPr/>
          <p:nvPr/>
        </p:nvSpPr>
        <p:spPr>
          <a:xfrm flipH="1">
            <a:off x="2928960" y="2428920"/>
            <a:ext cx="35712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mparer les deux nombres suivants à l’aide de 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6"/>
              <p:cNvSpPr txBox="1"/>
              <p:nvPr/>
            </p:nvSpPr>
            <p:spPr>
              <a:xfrm>
                <a:off x="428760" y="3357720"/>
                <a:ext cx="3001680" cy="15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8"/>
              <p:cNvSpPr txBox="1"/>
              <p:nvPr/>
            </p:nvSpPr>
            <p:spPr>
              <a:xfrm>
                <a:off x="5929200" y="3357720"/>
                <a:ext cx="2428920" cy="15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,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ZoneTexte 8"/>
          <p:cNvSpPr/>
          <p:nvPr/>
        </p:nvSpPr>
        <p:spPr>
          <a:xfrm>
            <a:off x="4357800" y="350028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9680" y="1285920"/>
            <a:ext cx="82868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les sont les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ordonnées du point F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59" name="Text Box 150"/>
            <p:cNvSpPr/>
            <p:nvPr/>
          </p:nvSpPr>
          <p:spPr>
            <a:xfrm>
              <a:off x="6000480" y="4786200"/>
              <a:ext cx="48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154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sp>
            <p:nvSpPr>
              <p:cNvPr id="61" name="Text Box 155"/>
              <p:cNvSpPr/>
              <p:nvPr/>
            </p:nvSpPr>
            <p:spPr>
              <a:xfrm>
                <a:off x="4171320" y="4017600"/>
                <a:ext cx="36072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" name="Group 156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63" name="Text Box 157"/>
                <p:cNvSpPr/>
                <p:nvPr/>
              </p:nvSpPr>
              <p:spPr>
                <a:xfrm>
                  <a:off x="3810960" y="5460480"/>
                  <a:ext cx="7214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ahoma"/>
                    </a:rPr>
                    <a:t>(-2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" name="Group 158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65" name="Text Box 159"/>
                  <p:cNvSpPr/>
                  <p:nvPr/>
                </p:nvSpPr>
                <p:spPr>
                  <a:xfrm>
                    <a:off x="3810960" y="473904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1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6" name="Group 160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67" name="Text Box 161"/>
                    <p:cNvSpPr/>
                    <p:nvPr/>
                  </p:nvSpPr>
                  <p:spPr>
                    <a:xfrm>
                      <a:off x="3810960" y="2935800"/>
                      <a:ext cx="721440" cy="360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8" name="Group 162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69" name="Text Box 163"/>
                      <p:cNvSpPr/>
                      <p:nvPr/>
                    </p:nvSpPr>
                    <p:spPr>
                      <a:xfrm>
                        <a:off x="3810960" y="2214720"/>
                        <a:ext cx="721440" cy="360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2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0" name="Group 164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71" name="Text Box 165"/>
                        <p:cNvSpPr/>
                        <p:nvPr/>
                      </p:nvSpPr>
                      <p:spPr>
                        <a:xfrm>
                          <a:off x="7057080" y="4017600"/>
                          <a:ext cx="721440" cy="360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4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72" name="Group 166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73" name="Text Box 167"/>
                          <p:cNvSpPr/>
                          <p:nvPr/>
                        </p:nvSpPr>
                        <p:spPr>
                          <a:xfrm>
                            <a:off x="6336000" y="4017600"/>
                            <a:ext cx="72108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3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74" name="Group 168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75" name="Text Box 169"/>
                            <p:cNvSpPr/>
                            <p:nvPr/>
                          </p:nvSpPr>
                          <p:spPr>
                            <a:xfrm>
                              <a:off x="5614560" y="4017600"/>
                              <a:ext cx="72144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2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76" name="Group 170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77" name="Text Box 171"/>
                              <p:cNvSpPr/>
                              <p:nvPr/>
                            </p:nvSpPr>
                            <p:spPr>
                              <a:xfrm>
                                <a:off x="489312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1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78" name="Group 172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79" name="Text Box 173"/>
                                <p:cNvSpPr/>
                                <p:nvPr/>
                              </p:nvSpPr>
                              <p:spPr>
                                <a:xfrm>
                                  <a:off x="3450240" y="4017600"/>
                                  <a:ext cx="72108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-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80" name="Group 174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81" name="Text Box 175"/>
                                  <p:cNvSpPr/>
                                  <p:nvPr/>
                                </p:nvSpPr>
                                <p:spPr>
                                  <a:xfrm>
                                    <a:off x="2728800" y="4017600"/>
                                    <a:ext cx="72144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2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82" name="Group 176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83" name="Text Box 17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28592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4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84" name="Group 178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85" name="Text Box 17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00736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3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86" name="Group 180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87" name="Line 181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01760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316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tailEnd len="med" type="arrow" w="med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88" name="Line 182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25750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89" name="Line 183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329652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90" name="Line 184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73904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91" name="Line 185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54604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92" name="Group 186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646640" y="2214720"/>
                                          <a:ext cx="5771160" cy="3606480"/>
                                          <a:chOff x="1646640" y="2214720"/>
                                          <a:chExt cx="5771160" cy="3606480"/>
                                        </a:xfrm>
                                      </p:grpSpPr>
                                      <p:sp>
                                        <p:nvSpPr>
                                          <p:cNvPr id="93" name="Line 187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45320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head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94" name="Line 188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6466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95" name="Line 189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236808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96" name="Line 190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0891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97" name="Line 19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8106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98" name="Line 19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25312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99" name="Line 19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9745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00" name="Line 19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66963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01" name="Line 19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74178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  <p:sp>
        <p:nvSpPr>
          <p:cNvPr id="102" name="Connecteur droit 52"/>
          <p:cNvSpPr/>
          <p:nvPr/>
        </p:nvSpPr>
        <p:spPr>
          <a:xfrm>
            <a:off x="6500880" y="5286240"/>
            <a:ext cx="357120" cy="357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onnecteur droit 53"/>
          <p:cNvSpPr/>
          <p:nvPr/>
        </p:nvSpPr>
        <p:spPr>
          <a:xfrm flipH="1">
            <a:off x="6500880" y="5286240"/>
            <a:ext cx="357120" cy="357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35812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ans la liste de nombres suivante,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quel est le plus petit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mbre relatif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6"/>
              <p:cNvSpPr txBox="1"/>
              <p:nvPr/>
            </p:nvSpPr>
            <p:spPr>
              <a:xfrm>
                <a:off x="642960" y="2786040"/>
                <a:ext cx="242892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,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8"/>
              <p:cNvSpPr txBox="1"/>
              <p:nvPr/>
            </p:nvSpPr>
            <p:spPr>
              <a:xfrm>
                <a:off x="3143160" y="3643200"/>
                <a:ext cx="242892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,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9"/>
              <p:cNvSpPr txBox="1"/>
              <p:nvPr/>
            </p:nvSpPr>
            <p:spPr>
              <a:xfrm>
                <a:off x="5516640" y="4714920"/>
                <a:ext cx="296856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mparer les deux nombres suivants à l’aide de 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6"/>
              <p:cNvSpPr txBox="1"/>
              <p:nvPr/>
            </p:nvSpPr>
            <p:spPr>
              <a:xfrm>
                <a:off x="380880" y="3357720"/>
                <a:ext cx="3097440" cy="15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8"/>
              <p:cNvSpPr txBox="1"/>
              <p:nvPr/>
            </p:nvSpPr>
            <p:spPr>
              <a:xfrm>
                <a:off x="5883120" y="3357720"/>
                <a:ext cx="2522520" cy="15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,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ZoneTexte 8"/>
          <p:cNvSpPr/>
          <p:nvPr/>
        </p:nvSpPr>
        <p:spPr>
          <a:xfrm>
            <a:off x="4357800" y="350028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428840"/>
            <a:ext cx="82864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 est l’abscisse du point A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117" name="Text Box 150"/>
            <p:cNvSpPr/>
            <p:nvPr/>
          </p:nvSpPr>
          <p:spPr>
            <a:xfrm>
              <a:off x="6151680" y="2623320"/>
              <a:ext cx="48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151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cxnSp>
            <p:nvCxnSpPr>
              <p:cNvPr id="119" name="AutoShape 152"/>
              <p:cNvCxnSpPr/>
              <p:nvPr/>
            </p:nvCxnSpPr>
            <p:spPr>
              <a:xfrm>
                <a:off x="5793480" y="3106800"/>
                <a:ext cx="356040" cy="356040"/>
              </a:xfrm>
              <a:prstGeom prst="straightConnector1">
                <a:avLst/>
              </a:prstGeom>
              <a:ln w="31680">
                <a:solidFill>
                  <a:srgbClr val="000000"/>
                </a:solidFill>
                <a:miter/>
              </a:ln>
            </p:spPr>
          </p:cxnSp>
          <p:cxnSp>
            <p:nvCxnSpPr>
              <p:cNvPr id="120" name="AutoShape 153"/>
              <p:cNvCxnSpPr/>
              <p:nvPr/>
            </p:nvCxnSpPr>
            <p:spPr>
              <a:xfrm flipH="1">
                <a:off x="5793120" y="3106800"/>
                <a:ext cx="356040" cy="356040"/>
              </a:xfrm>
              <a:prstGeom prst="straightConnector1">
                <a:avLst/>
              </a:prstGeom>
              <a:ln w="31680">
                <a:solidFill>
                  <a:srgbClr val="000000"/>
                </a:solidFill>
                <a:miter/>
              </a:ln>
            </p:spPr>
          </p:cxnSp>
          <p:grpSp>
            <p:nvGrpSpPr>
              <p:cNvPr id="121" name="Group 154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122" name="Text Box 155"/>
                <p:cNvSpPr/>
                <p:nvPr/>
              </p:nvSpPr>
              <p:spPr>
                <a:xfrm>
                  <a:off x="4171320" y="4017600"/>
                  <a:ext cx="360720" cy="36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alibri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" name="Group 156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124" name="Text Box 157"/>
                  <p:cNvSpPr/>
                  <p:nvPr/>
                </p:nvSpPr>
                <p:spPr>
                  <a:xfrm>
                    <a:off x="3810960" y="546048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2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5" name="Group 158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126" name="Text Box 159"/>
                    <p:cNvSpPr/>
                    <p:nvPr/>
                  </p:nvSpPr>
                  <p:spPr>
                    <a:xfrm>
                      <a:off x="3810960" y="4739040"/>
                      <a:ext cx="721440" cy="360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7" name="Group 160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128" name="Text Box 161"/>
                      <p:cNvSpPr/>
                      <p:nvPr/>
                    </p:nvSpPr>
                    <p:spPr>
                      <a:xfrm>
                        <a:off x="3810960" y="2935800"/>
                        <a:ext cx="721440" cy="360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1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9" name="Group 162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130" name="Text Box 163"/>
                        <p:cNvSpPr/>
                        <p:nvPr/>
                      </p:nvSpPr>
                      <p:spPr>
                        <a:xfrm>
                          <a:off x="3810960" y="2214720"/>
                          <a:ext cx="721440" cy="360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2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31" name="Group 164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132" name="Text Box 165"/>
                          <p:cNvSpPr/>
                          <p:nvPr/>
                        </p:nvSpPr>
                        <p:spPr>
                          <a:xfrm>
                            <a:off x="7057080" y="4017600"/>
                            <a:ext cx="72144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4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33" name="Group 166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134" name="Text Box 167"/>
                            <p:cNvSpPr/>
                            <p:nvPr/>
                          </p:nvSpPr>
                          <p:spPr>
                            <a:xfrm>
                              <a:off x="6336000" y="4017600"/>
                              <a:ext cx="72108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3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135" name="Group 168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136" name="Text Box 169"/>
                              <p:cNvSpPr/>
                              <p:nvPr/>
                            </p:nvSpPr>
                            <p:spPr>
                              <a:xfrm>
                                <a:off x="561456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2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137" name="Group 170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138" name="Text Box 171"/>
                                <p:cNvSpPr/>
                                <p:nvPr/>
                              </p:nvSpPr>
                              <p:spPr>
                                <a:xfrm>
                                  <a:off x="4893120" y="4017600"/>
                                  <a:ext cx="72144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+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139" name="Group 172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140" name="Text Box 173"/>
                                  <p:cNvSpPr/>
                                  <p:nvPr/>
                                </p:nvSpPr>
                                <p:spPr>
                                  <a:xfrm>
                                    <a:off x="3450240" y="4017600"/>
                                    <a:ext cx="72108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1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141" name="Group 174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142" name="Text Box 175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2880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2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143" name="Group 176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144" name="Text Box 177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28592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4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145" name="Group 178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146" name="Text Box 179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2007360" y="4017600"/>
                                          <a:ext cx="721440" cy="36072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0" rIns="0" tIns="0" bIns="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spcAft>
                                              <a:spcPts val="1001"/>
                                            </a:spcAft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r>
                                            <a:rPr b="0" lang="fr-FR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ahoma"/>
                                            </a:rPr>
                                            <a:t>(-3)</a:t>
                                          </a: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147" name="Group 180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285920" y="2214720"/>
                                          <a:ext cx="6492960" cy="3606480"/>
                                          <a:chOff x="1285920" y="2214720"/>
                                          <a:chExt cx="6492960" cy="3606480"/>
                                        </a:xfrm>
                                      </p:grpSpPr>
                                      <p:sp>
                                        <p:nvSpPr>
                                          <p:cNvPr id="148" name="Line 18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401760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tail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49" name="Line 18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257508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50" name="Line 18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329652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51" name="Line 18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473904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52" name="Line 18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546048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grpSp>
                                        <p:nvGrpSpPr>
                                          <p:cNvPr id="153" name="Group 186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1646640" y="2214720"/>
                                            <a:ext cx="5771160" cy="3606480"/>
                                            <a:chOff x="1646640" y="2214720"/>
                                            <a:chExt cx="5771160" cy="3606480"/>
                                          </a:xfrm>
                                        </p:grpSpPr>
                                        <p:sp>
                                          <p:nvSpPr>
                                            <p:cNvPr id="154" name="Line 187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453204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316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  <a:headEnd len="med" type="arrow" w="med"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55" name="Line 188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164664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56" name="Line 189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236808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57" name="Line 190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30891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58" name="Line 191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381060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59" name="Line 192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525312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60" name="Line 193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59745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61" name="Line 194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66963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62" name="Line 195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741780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35812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ans la liste de nombres suivante,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quel est le plus petit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mbre relatif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6"/>
              <p:cNvSpPr txBox="1"/>
              <p:nvPr/>
            </p:nvSpPr>
            <p:spPr>
              <a:xfrm>
                <a:off x="687240" y="2786040"/>
                <a:ext cx="233856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,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3143160" y="3643200"/>
                <a:ext cx="242892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,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0"/>
              <p:cNvSpPr txBox="1"/>
              <p:nvPr/>
            </p:nvSpPr>
            <p:spPr>
              <a:xfrm>
                <a:off x="5560920" y="4714920"/>
                <a:ext cx="287820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1428840"/>
            <a:ext cx="82864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 est l’ordonnée du point B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171" name="Text Box 150"/>
            <p:cNvSpPr/>
            <p:nvPr/>
          </p:nvSpPr>
          <p:spPr>
            <a:xfrm>
              <a:off x="2357640" y="2571480"/>
              <a:ext cx="48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154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sp>
            <p:nvSpPr>
              <p:cNvPr id="173" name="Text Box 155"/>
              <p:cNvSpPr/>
              <p:nvPr/>
            </p:nvSpPr>
            <p:spPr>
              <a:xfrm>
                <a:off x="4171320" y="4017600"/>
                <a:ext cx="36072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Group 156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175" name="Text Box 157"/>
                <p:cNvSpPr/>
                <p:nvPr/>
              </p:nvSpPr>
              <p:spPr>
                <a:xfrm>
                  <a:off x="3810960" y="5460480"/>
                  <a:ext cx="7214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ahoma"/>
                    </a:rPr>
                    <a:t>(-2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6" name="Group 158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177" name="Text Box 159"/>
                  <p:cNvSpPr/>
                  <p:nvPr/>
                </p:nvSpPr>
                <p:spPr>
                  <a:xfrm>
                    <a:off x="3810960" y="473904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1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8" name="Group 160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179" name="Text Box 161"/>
                    <p:cNvSpPr/>
                    <p:nvPr/>
                  </p:nvSpPr>
                  <p:spPr>
                    <a:xfrm>
                      <a:off x="3810960" y="2935800"/>
                      <a:ext cx="721440" cy="360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80" name="Group 162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181" name="Text Box 163"/>
                      <p:cNvSpPr/>
                      <p:nvPr/>
                    </p:nvSpPr>
                    <p:spPr>
                      <a:xfrm>
                        <a:off x="3810960" y="2214720"/>
                        <a:ext cx="721440" cy="360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2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82" name="Group 164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183" name="Text Box 165"/>
                        <p:cNvSpPr/>
                        <p:nvPr/>
                      </p:nvSpPr>
                      <p:spPr>
                        <a:xfrm>
                          <a:off x="7057080" y="4017600"/>
                          <a:ext cx="721440" cy="360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4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84" name="Group 166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185" name="Text Box 167"/>
                          <p:cNvSpPr/>
                          <p:nvPr/>
                        </p:nvSpPr>
                        <p:spPr>
                          <a:xfrm>
                            <a:off x="6336000" y="4017600"/>
                            <a:ext cx="72108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3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86" name="Group 168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187" name="Text Box 169"/>
                            <p:cNvSpPr/>
                            <p:nvPr/>
                          </p:nvSpPr>
                          <p:spPr>
                            <a:xfrm>
                              <a:off x="5614560" y="4017600"/>
                              <a:ext cx="72144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2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188" name="Group 170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189" name="Text Box 171"/>
                              <p:cNvSpPr/>
                              <p:nvPr/>
                            </p:nvSpPr>
                            <p:spPr>
                              <a:xfrm>
                                <a:off x="489312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1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190" name="Group 172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191" name="Text Box 173"/>
                                <p:cNvSpPr/>
                                <p:nvPr/>
                              </p:nvSpPr>
                              <p:spPr>
                                <a:xfrm>
                                  <a:off x="3450240" y="4017600"/>
                                  <a:ext cx="72108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-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192" name="Group 174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193" name="Text Box 175"/>
                                  <p:cNvSpPr/>
                                  <p:nvPr/>
                                </p:nvSpPr>
                                <p:spPr>
                                  <a:xfrm>
                                    <a:off x="2728800" y="4017600"/>
                                    <a:ext cx="72144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2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194" name="Group 176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195" name="Text Box 17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28592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4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196" name="Group 178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197" name="Text Box 17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00736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3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198" name="Group 180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199" name="Line 181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01760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316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tailEnd len="med" type="arrow" w="med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00" name="Line 182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25750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01" name="Line 183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329652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02" name="Line 184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73904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03" name="Line 185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54604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204" name="Group 186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646640" y="2214720"/>
                                          <a:ext cx="5771160" cy="3606480"/>
                                          <a:chOff x="1646640" y="2214720"/>
                                          <a:chExt cx="5771160" cy="3606480"/>
                                        </a:xfrm>
                                      </p:grpSpPr>
                                      <p:sp>
                                        <p:nvSpPr>
                                          <p:cNvPr id="205" name="Line 187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45320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head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06" name="Line 188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6466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07" name="Line 189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236808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08" name="Line 190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0891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09" name="Line 19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8106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10" name="Line 19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25312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11" name="Line 19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9745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12" name="Line 19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66963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13" name="Line 19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74178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  <p:sp>
        <p:nvSpPr>
          <p:cNvPr id="214" name="Connecteur droit 57"/>
          <p:cNvSpPr/>
          <p:nvPr/>
        </p:nvSpPr>
        <p:spPr>
          <a:xfrm>
            <a:off x="2928960" y="2428920"/>
            <a:ext cx="35712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Connecteur droit 59"/>
          <p:cNvSpPr/>
          <p:nvPr/>
        </p:nvSpPr>
        <p:spPr>
          <a:xfrm flipH="1">
            <a:off x="2928960" y="2428920"/>
            <a:ext cx="35712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1428840"/>
            <a:ext cx="82864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 est l’abscisse du point D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219" name="Text Box 150"/>
            <p:cNvSpPr/>
            <p:nvPr/>
          </p:nvSpPr>
          <p:spPr>
            <a:xfrm>
              <a:off x="6151680" y="2623320"/>
              <a:ext cx="48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151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cxnSp>
            <p:nvCxnSpPr>
              <p:cNvPr id="221" name="AutoShape 152"/>
              <p:cNvCxnSpPr/>
              <p:nvPr/>
            </p:nvCxnSpPr>
            <p:spPr>
              <a:xfrm>
                <a:off x="5793480" y="3106800"/>
                <a:ext cx="356040" cy="356040"/>
              </a:xfrm>
              <a:prstGeom prst="straightConnector1">
                <a:avLst/>
              </a:prstGeom>
              <a:ln w="31680">
                <a:solidFill>
                  <a:srgbClr val="000000"/>
                </a:solidFill>
                <a:miter/>
              </a:ln>
            </p:spPr>
          </p:cxnSp>
          <p:cxnSp>
            <p:nvCxnSpPr>
              <p:cNvPr id="222" name="AutoShape 153"/>
              <p:cNvCxnSpPr/>
              <p:nvPr/>
            </p:nvCxnSpPr>
            <p:spPr>
              <a:xfrm flipH="1">
                <a:off x="5793120" y="3106800"/>
                <a:ext cx="356040" cy="356040"/>
              </a:xfrm>
              <a:prstGeom prst="straightConnector1">
                <a:avLst/>
              </a:prstGeom>
              <a:ln w="31680">
                <a:solidFill>
                  <a:srgbClr val="000000"/>
                </a:solidFill>
                <a:miter/>
              </a:ln>
            </p:spPr>
          </p:cxnSp>
          <p:grpSp>
            <p:nvGrpSpPr>
              <p:cNvPr id="223" name="Group 154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224" name="Text Box 155"/>
                <p:cNvSpPr/>
                <p:nvPr/>
              </p:nvSpPr>
              <p:spPr>
                <a:xfrm>
                  <a:off x="4171320" y="4017600"/>
                  <a:ext cx="360720" cy="36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alibri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5" name="Group 156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226" name="Text Box 157"/>
                  <p:cNvSpPr/>
                  <p:nvPr/>
                </p:nvSpPr>
                <p:spPr>
                  <a:xfrm>
                    <a:off x="3810960" y="546048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2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7" name="Group 158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228" name="Text Box 159"/>
                    <p:cNvSpPr/>
                    <p:nvPr/>
                  </p:nvSpPr>
                  <p:spPr>
                    <a:xfrm>
                      <a:off x="3810960" y="4739040"/>
                      <a:ext cx="721440" cy="360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29" name="Group 160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230" name="Text Box 161"/>
                      <p:cNvSpPr/>
                      <p:nvPr/>
                    </p:nvSpPr>
                    <p:spPr>
                      <a:xfrm>
                        <a:off x="3810960" y="2935800"/>
                        <a:ext cx="721440" cy="360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1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31" name="Group 162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232" name="Text Box 163"/>
                        <p:cNvSpPr/>
                        <p:nvPr/>
                      </p:nvSpPr>
                      <p:spPr>
                        <a:xfrm>
                          <a:off x="3810960" y="2214720"/>
                          <a:ext cx="721440" cy="360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2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33" name="Group 164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234" name="Text Box 165"/>
                          <p:cNvSpPr/>
                          <p:nvPr/>
                        </p:nvSpPr>
                        <p:spPr>
                          <a:xfrm>
                            <a:off x="7057080" y="4017600"/>
                            <a:ext cx="72144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4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35" name="Group 166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236" name="Text Box 167"/>
                            <p:cNvSpPr/>
                            <p:nvPr/>
                          </p:nvSpPr>
                          <p:spPr>
                            <a:xfrm>
                              <a:off x="6336000" y="4017600"/>
                              <a:ext cx="72108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3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237" name="Group 168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238" name="Text Box 169"/>
                              <p:cNvSpPr/>
                              <p:nvPr/>
                            </p:nvSpPr>
                            <p:spPr>
                              <a:xfrm>
                                <a:off x="561456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2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239" name="Group 170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240" name="Text Box 171"/>
                                <p:cNvSpPr/>
                                <p:nvPr/>
                              </p:nvSpPr>
                              <p:spPr>
                                <a:xfrm>
                                  <a:off x="4893120" y="4017600"/>
                                  <a:ext cx="72144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+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241" name="Group 172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242" name="Text Box 173"/>
                                  <p:cNvSpPr/>
                                  <p:nvPr/>
                                </p:nvSpPr>
                                <p:spPr>
                                  <a:xfrm>
                                    <a:off x="3450240" y="4017600"/>
                                    <a:ext cx="72108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1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243" name="Group 174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244" name="Text Box 175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2880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2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245" name="Group 176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246" name="Text Box 177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28592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4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247" name="Group 178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248" name="Text Box 179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2007360" y="4017600"/>
                                          <a:ext cx="721440" cy="36072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0" rIns="0" tIns="0" bIns="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spcAft>
                                              <a:spcPts val="1001"/>
                                            </a:spcAft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r>
                                            <a:rPr b="0" lang="fr-FR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ahoma"/>
                                            </a:rPr>
                                            <a:t>(-3)</a:t>
                                          </a: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249" name="Group 180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285920" y="2214720"/>
                                          <a:ext cx="6492960" cy="3606480"/>
                                          <a:chOff x="1285920" y="2214720"/>
                                          <a:chExt cx="6492960" cy="3606480"/>
                                        </a:xfrm>
                                      </p:grpSpPr>
                                      <p:sp>
                                        <p:nvSpPr>
                                          <p:cNvPr id="250" name="Line 18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401760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tail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51" name="Line 18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257508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52" name="Line 18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329652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53" name="Line 18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473904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54" name="Line 18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546048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grpSp>
                                        <p:nvGrpSpPr>
                                          <p:cNvPr id="255" name="Group 186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1646640" y="2214720"/>
                                            <a:ext cx="5771160" cy="3606480"/>
                                            <a:chOff x="1646640" y="2214720"/>
                                            <a:chExt cx="5771160" cy="3606480"/>
                                          </a:xfrm>
                                        </p:grpSpPr>
                                        <p:sp>
                                          <p:nvSpPr>
                                            <p:cNvPr id="256" name="Line 187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453204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316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  <a:headEnd len="med" type="arrow" w="med"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257" name="Line 188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164664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258" name="Line 189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236808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259" name="Line 190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30891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260" name="Line 191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381060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261" name="Line 192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525312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262" name="Line 193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59745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263" name="Line 194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66963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264" name="Line 195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741780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1-19T22:20:33Z</dcterms:modified>
  <cp:revision>43</cp:revision>
  <dc:subject/>
  <dc:title>8 x 4</dc:title>
</cp:coreProperties>
</file>