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9601-8CA8-44CF-8823-FF6003036BD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2503-BC70-4162-A64C-5F7D68DFBFF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0BC5-7566-40FB-AA94-5AFC1525D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7630-739F-4F17-92CE-60E7197B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8C62-2C90-4364-9EBA-299B940F2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8580-952D-45A9-843B-0715899D7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EFC0-2052-4377-89A9-7195CE89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5332-3063-4FF4-ACC7-2AABD1DC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B77F-BD72-4E9C-ADF3-72608BF6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6B06-84C1-4E87-A971-BADD6623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AC77-D97D-409E-AEAB-8E23744F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ECA4-75B3-4E7B-831B-2F82E93B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F1C7-9AE3-497B-9D16-FFD8AD7F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0A1A-B19B-4A1E-9162-8D69C654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4BAC-6347-4D37-B9A7-7A7AFBC70D5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Multiplier par 9 et par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65</a:t>
            </a:r>
            <a:r>
              <a:rPr b="0" i="1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i="1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i="1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i="1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84</a:t>
            </a:r>
            <a:r>
              <a:rPr b="0" i="1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i="1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i="1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i="1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i="1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i="1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7:03:00Z</dcterms:modified>
  <cp:revision>16</cp:revision>
  <dc:subject/>
  <dc:title>8 x 4</dc:title>
</cp:coreProperties>
</file>