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6479-C5C8-469B-8A4B-7D345E274C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7D35-FE57-4E39-A104-85821C4DDF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E83-641A-409A-96D4-3C59766C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67F-9079-4F75-B1E1-4109C459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908-7E83-4591-AB84-4F5F6DAC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E261-6451-4F99-816B-8F3AB6CE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242-5CF6-4511-A9E9-9150E3A0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72F6-E75C-4DDF-AC69-7D1A05E9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C30-3993-4257-8D72-5B4161FE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BDF3-BE47-409B-9E0F-79815E92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717-9578-4B67-89CC-E3D0E2D3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95F-6E56-45B6-A7E6-31FB0B15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5703-3551-4EE1-BBF3-CCBF310E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7980-14B3-4072-86B8-E6E2E0A6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3190-485C-4628-81AA-E980A597D30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Simplifications de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avec les tab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05T17:03:16Z</dcterms:modified>
  <cp:revision>20</cp:revision>
  <dc:subject/>
  <dc:title>8 x 4</dc:title>
</cp:coreProperties>
</file>