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4C5-D0FF-4A33-B528-E134032C35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05BD-C9C4-44D2-A501-985EA57C21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FDD3-6209-48CA-AB6F-3EDB586DD3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98F5-6186-4B78-87E9-C37798C952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2FC8-A5FA-4290-A742-EA4AC382CC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BE02-D5D2-49B8-BA79-9D1FDBA638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0C10-D685-44F7-973E-9C84045D48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8F3-43E0-4A0C-88E4-79776C9D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7AC-1753-4BD8-8B01-2EF0CBC8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774-AFE7-46C1-928D-DD0CC86D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B97-D04C-4049-9018-7BC7C5B1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0E0-9A97-4603-A83B-76154514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F32-B0A7-4FE7-9FF1-A30F0092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5BC-C75D-48E7-A433-A58C2C7D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D02-AE45-43A8-840C-89C99658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22D-A0E4-4649-9031-E4E1311A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763-0913-4A84-A55E-A591DABC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DE5-4F03-4CC6-AF7A-5E9B5A35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07D-82FF-464B-B7FD-E9350C17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6341-927F-45D1-BDFE-91C2451526B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42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1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priorités de calc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triangles et droites remarqu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3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fractions (simplifications comparai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71440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roduit de 20 par la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ifférence de 5 et 3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9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3,15 × 101 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6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01,5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8,1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 3 et du produit 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e 2 par 5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7"/>
          <p:cNvSpPr/>
          <p:nvPr/>
        </p:nvSpPr>
        <p:spPr>
          <a:xfrm>
            <a:off x="857160" y="2857680"/>
            <a:ext cx="45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3,8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8,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508120" y="1000080"/>
                <a:ext cx="5540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1357200" y="4643280"/>
                <a:ext cx="801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</m:num>
                      <m:den>
                        <m:r>
                          <m:t xml:space="preserve">0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13,7 × 62,5 + 13,7 × 37,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1,32 × 18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 21,32 × 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50 – [3 × (4 + 5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12-07T20:04:08Z</dcterms:modified>
  <cp:revision>49</cp:revision>
  <dc:subject/>
  <dc:title>8 x 4</dc:title>
</cp:coreProperties>
</file>