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ADC2-A7E0-4316-B7A2-3D30216B72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B44-55B9-4ABD-B4AD-1C8FEE9E4D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735-BF05-440E-BB53-10752BB8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544-9171-44AA-AE38-A47E174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8A7-6532-4EDD-87EE-6390607A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361-768B-4B8E-A29D-BAED4D8A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349-04C4-42A5-A3E9-31E2D09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5C6-34A2-429B-B5A7-E1E915F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167-3F18-4959-8B72-7C4B962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E75-27A9-4809-8C2B-424A7FAA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6AF-FF44-40A4-BB99-4DBBB26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7C1-96DE-4EBB-93CA-1B2DB6D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54D-D72F-4DCE-8FE7-83A8FA7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732-AB61-4345-8077-7FA8968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7B31-4117-431E-94E0-CB06F9F87C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a soustrac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0:25Z</dcterms:modified>
  <cp:revision>25</cp:revision>
  <dc:subject/>
  <dc:title>8 x 4</dc:title>
</cp:coreProperties>
</file>