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9E27-EA3D-44D4-98DE-D3942B04AA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D3D-ED2F-472F-AC22-75FFB56225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4F4-9CDF-4B75-A61F-2C4D472C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A85-E5BD-4CD0-8E7A-36681641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BC5-8A01-4A01-8117-5DE11EF9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982-BCD0-472B-B6EF-913B7E24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332-1F68-464B-BC38-A024F5F7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436-0816-43F8-8673-42A30196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D61-F22C-4211-A120-26B46BBF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773-5580-4F4C-BB36-7E5430C8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E42-AE95-4D93-94CB-2ED415E2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D7C-6098-453A-ABFE-308F5BF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727-3A61-4128-932D-B39E32E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123-C060-4EEE-A49A-046F5F9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E683-BC08-4B63-A8FC-AE19C615574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87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5:36Z</dcterms:modified>
  <cp:revision>23</cp:revision>
  <dc:subject/>
  <dc:title>8 x 4</dc:title>
</cp:coreProperties>
</file>