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159C-D4B4-4CAA-9497-EDF8B419DF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41A3-8C4A-474E-8F39-70F93E6563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0F0E-2646-4313-9AAD-8DA7114AD5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1BD6-09E4-4F9B-9E74-B2172585A7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E108-EECD-488D-873B-B8F10BD82E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6CED-E335-474C-A93C-A7923B9DEF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4CD4-3DE8-468B-AB91-2C06A0E870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800-D733-4998-A37A-55A6A473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FBB-DBF5-43AB-98A0-5C91B269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013-48BC-481B-9A50-4E991427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586-92F2-4B1D-9845-6A9E6A31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C06-3F3A-4747-AB6D-488F01D4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EA2-0AD9-46FA-A28D-D31277BF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A11-9FD7-4923-B5EC-7C81B7BB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E0A-D15A-4CA6-A066-CE9FDB1D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16B-3C14-42FA-A59C-B4C1778A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EBE-765F-437A-9E47-24645A24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71A-86D6-43A9-B6F1-B44CD203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903-FC23-43DE-97EB-BB310FEC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36BE-B56D-47AE-AB3B-08DC730C9D5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Révis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5880" y="342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1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priorités de calc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2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triangles et droites remarqu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3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fractions (simplifications comparai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3,8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2714400"/>
            <a:ext cx="8572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3 + 4 × 7 – 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87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2 × (14 </a:t>
            </a: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 4 × 3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 produit de 20 par la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ifférence de 5 et 3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9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0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Pour tracer le cercle circonscrit à un triangle, il faut construir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3,15 × 101 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6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01,5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8,1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’orthocentre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5543640" y="2428920"/>
                <a:ext cx="12682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e centre de gravité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a somme de 3 et du produit 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e 2 par 5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7"/>
          <p:cNvSpPr/>
          <p:nvPr/>
        </p:nvSpPr>
        <p:spPr>
          <a:xfrm>
            <a:off x="857160" y="2857680"/>
            <a:ext cx="450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3,8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8,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2508120" y="1000080"/>
                <a:ext cx="5540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3"/>
              <p:cNvSpPr txBox="1"/>
              <p:nvPr/>
            </p:nvSpPr>
            <p:spPr>
              <a:xfrm>
                <a:off x="1357200" y="4643280"/>
                <a:ext cx="8017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3</m:t>
                        </m:r>
                      </m:num>
                      <m:den>
                        <m:r>
                          <m:t xml:space="preserve">0,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13,7 × 62,5 + 13,7 × 37,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21,32 × 18 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 21,32 × 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8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,7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50920" y="333360"/>
            <a:ext cx="43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50 – [3 × (4 + 5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12-07T20:05:47Z</dcterms:modified>
  <cp:revision>51</cp:revision>
  <dc:subject/>
  <dc:title>8 x 4</dc:title>
</cp:coreProperties>
</file>