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ABE-4C52-4C2C-8725-2574646126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C186-93BB-4B78-95C0-88EC2A107A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A30-F3CB-420A-8FB1-181E6BB7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BCB-F95C-49BE-B8F0-672F448A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02E-DFB1-4645-92C7-1726ED33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821-C0FC-463A-834A-D6493D3E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2E9-9955-4ACC-9F41-C84ED58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F40-77AD-47C9-96EB-35AA23AD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468-2DEB-49B6-BE29-7A226F6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FFE-FD66-4EB5-A9F8-53705F6A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FB3-0980-47D4-A881-5F85810B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252-BEC3-45F9-A320-09B4B8E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264-7F97-408A-AEED-B2504D2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A84-53A3-430B-B930-B84102C7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F5E1-8B5D-4307-8EC3-5E6A64ECD5A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Organiser astucieusement une somm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28564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1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35728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2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43 + 85 + 17 + 7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8429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63 + 85 + 17 + 5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2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3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24Z</dcterms:modified>
  <cp:revision>23</cp:revision>
  <dc:subject/>
  <dc:title>8 x 4</dc:title>
</cp:coreProperties>
</file>