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5210-B88E-4C17-AE94-9A40702565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5EDD-2E90-47BF-951A-0985ACC088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FED-00AA-452A-86BB-3A714E12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C77-21A6-41AE-99AC-CD40758D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B932-B0EB-4A9D-BE74-A206962B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585-1111-4DB5-8B3E-1B001719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7B0-E2C7-4A1E-B123-832C11C2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D16-3DF8-4202-B119-F9B01E5A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230-43D5-4189-96F8-2B57032D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33F-E961-4B9E-9236-0A7F7D10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D0D-DCB9-49EA-AC79-22FBAD29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954-BCC4-46BB-A248-92038625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EEC-7B59-43BF-98E4-B0FE7DD7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D15-A392-4F17-A768-49B3328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93E8-005E-4614-8509-CDE21E7D22B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Quotients ég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7:08Z</dcterms:modified>
  <cp:revision>28</cp:revision>
  <dc:subject/>
  <dc:title>8 x 4</dc:title>
</cp:coreProperties>
</file>