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B74-5232-447E-B388-9C2F55A9A6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998C-5BBE-4760-8DD3-D59A5F009C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660-1C12-4720-821D-CE76D65F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0A5-012D-45CE-BF2F-FEA9A86F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A1B-0A5A-4F7D-B092-6999F125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CF0-99C6-4751-8170-802A7BED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CB4-0F4B-4C0D-97CB-6E859AFE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6ED-76B5-4DB7-AD80-B03F988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C80-C7DF-41CE-8FC1-E001E4B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659-DB2F-43DE-A759-08392AD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10B-43B6-48CB-ADC2-E79DDE0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5AC-6260-45E2-9AAC-260F1143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76B-4F4D-4056-B2AE-5BC513D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310-C162-4A26-99E4-E2A59A05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126-0BB2-41AF-90D9-970582FA23F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4:28Z</dcterms:modified>
  <cp:revision>45</cp:revision>
  <dc:subject/>
  <dc:title>8 x 4</dc:title>
</cp:coreProperties>
</file>