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88B6-70E2-47FF-8B28-CA918367E4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3A91-F436-462E-9871-254946CAAC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542-FAC7-4CF8-A25E-7F059034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6CE-9802-49B4-A0E9-2AE0DC9B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296-6728-4326-88E2-046D91A7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155-9769-4B64-81D9-575ADD84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7EE-2F5C-46F6-80BC-354B861C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54A-25DC-48FA-993D-7A5F6540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DEA-4FB4-4BDA-99FA-888B726A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DFA-6FAE-4BCB-858C-F6561333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430-8A30-454F-A911-18E4CF4D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384-B02E-442F-B7E8-139A8124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189-9019-4E34-8F18-15D4B637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901-DCEB-4A67-A996-F38E58C3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5C63-0C82-42BC-A464-4C0D7C44955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1900080" y="1714680"/>
                <a:ext cx="18450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60920" y="1714680"/>
                <a:ext cx="12686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900080" y="1714680"/>
                <a:ext cx="18450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60920" y="1714680"/>
                <a:ext cx="12686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11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50404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6:23Z</dcterms:modified>
  <cp:revision>42</cp:revision>
  <dc:subject/>
  <dc:title>8 x 4</dc:title>
</cp:coreProperties>
</file>