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D4B8D-10D7-49CA-A1AD-B4F1198A313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A3652-8318-46DB-B1A9-AF82F8F4778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6DFF-A73C-4F60-B240-0C446F124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4B29-C656-495F-87E3-6A5E00FE1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5951-37EE-4753-A6F7-B7F9C05E6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A865-68E9-46C4-93C7-3AEEA9B43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53D8-36AA-4917-9335-5FE231393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736D-06C6-48B1-AE30-6B65F24CF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A6CC-73EF-414D-A36D-586106FCF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0F36-ED16-4A81-A0B6-791D35FF8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4C88-BFF2-45D9-A072-EB8B9D6E4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411D-F392-4CEC-9E45-021636F21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FC29-FC60-4E7B-954F-350EC8E2B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56EA-2A73-4EC7-9F05-DCE4470A9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3E1C7-6FEA-4E87-A6C9-4ADE7A10A95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Calcul menta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85716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Comparaison de f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(compléter par &lt; ou &gt;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2868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rouver le symbole manquant 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&lt; ou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6"/>
              <p:cNvSpPr txBox="1"/>
              <p:nvPr/>
            </p:nvSpPr>
            <p:spPr>
              <a:xfrm>
                <a:off x="1843200" y="2428920"/>
                <a:ext cx="195552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ct 8"/>
              <p:cNvSpPr txBox="1"/>
              <p:nvPr/>
            </p:nvSpPr>
            <p:spPr>
              <a:xfrm>
                <a:off x="5313240" y="2428920"/>
                <a:ext cx="172908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2868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rouver le symbole manquant 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&lt; ou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6"/>
              <p:cNvSpPr txBox="1"/>
              <p:nvPr/>
            </p:nvSpPr>
            <p:spPr>
              <a:xfrm>
                <a:off x="1843200" y="2428920"/>
                <a:ext cx="195552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8"/>
              <p:cNvSpPr txBox="1"/>
              <p:nvPr/>
            </p:nvSpPr>
            <p:spPr>
              <a:xfrm>
                <a:off x="5313240" y="2428920"/>
                <a:ext cx="172908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0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2868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rouver le symbole manquant 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&lt; ou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Object 6"/>
              <p:cNvSpPr txBox="1"/>
              <p:nvPr/>
            </p:nvSpPr>
            <p:spPr>
              <a:xfrm>
                <a:off x="1785960" y="242892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7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Object 8"/>
              <p:cNvSpPr txBox="1"/>
              <p:nvPr/>
            </p:nvSpPr>
            <p:spPr>
              <a:xfrm>
                <a:off x="5199120" y="2428920"/>
                <a:ext cx="195876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2868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rouver le symbole manquant 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&lt; ou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6"/>
              <p:cNvSpPr txBox="1"/>
              <p:nvPr/>
            </p:nvSpPr>
            <p:spPr>
              <a:xfrm>
                <a:off x="1843200" y="2428920"/>
                <a:ext cx="195552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Object 8"/>
              <p:cNvSpPr txBox="1"/>
              <p:nvPr/>
            </p:nvSpPr>
            <p:spPr>
              <a:xfrm>
                <a:off x="5199120" y="2428920"/>
                <a:ext cx="195876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2868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rouver le symbole manquant 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&lt; ou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6"/>
              <p:cNvSpPr txBox="1"/>
              <p:nvPr/>
            </p:nvSpPr>
            <p:spPr>
              <a:xfrm>
                <a:off x="1785960" y="242892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8"/>
              <p:cNvSpPr txBox="1"/>
              <p:nvPr/>
            </p:nvSpPr>
            <p:spPr>
              <a:xfrm>
                <a:off x="5141880" y="2428920"/>
                <a:ext cx="207324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2868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rouver le symbole manquant 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&lt; ou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6"/>
              <p:cNvSpPr txBox="1"/>
              <p:nvPr/>
            </p:nvSpPr>
            <p:spPr>
              <a:xfrm>
                <a:off x="1843200" y="2428920"/>
                <a:ext cx="195552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8"/>
              <p:cNvSpPr txBox="1"/>
              <p:nvPr/>
            </p:nvSpPr>
            <p:spPr>
              <a:xfrm>
                <a:off x="5199120" y="2428920"/>
                <a:ext cx="195876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2868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rouver le symbole manquant 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&lt; ou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6"/>
              <p:cNvSpPr txBox="1"/>
              <p:nvPr/>
            </p:nvSpPr>
            <p:spPr>
              <a:xfrm>
                <a:off x="2130480" y="2428920"/>
                <a:ext cx="138096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8"/>
              <p:cNvSpPr txBox="1"/>
              <p:nvPr/>
            </p:nvSpPr>
            <p:spPr>
              <a:xfrm>
                <a:off x="5141880" y="2428920"/>
                <a:ext cx="207504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2868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rouver le symbole manquant 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&lt; ou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6"/>
              <p:cNvSpPr txBox="1"/>
              <p:nvPr/>
            </p:nvSpPr>
            <p:spPr>
              <a:xfrm>
                <a:off x="2189160" y="2428920"/>
                <a:ext cx="12654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Object 8"/>
              <p:cNvSpPr txBox="1"/>
              <p:nvPr/>
            </p:nvSpPr>
            <p:spPr>
              <a:xfrm>
                <a:off x="5199120" y="2428920"/>
                <a:ext cx="195876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0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2868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rouver le symbole manquant 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&lt; ou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6"/>
              <p:cNvSpPr txBox="1"/>
              <p:nvPr/>
            </p:nvSpPr>
            <p:spPr>
              <a:xfrm>
                <a:off x="1785960" y="242892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8"/>
              <p:cNvSpPr txBox="1"/>
              <p:nvPr/>
            </p:nvSpPr>
            <p:spPr>
              <a:xfrm>
                <a:off x="5141880" y="2428920"/>
                <a:ext cx="207324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5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2868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rouver le symbole manquant 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&lt; ou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6"/>
              <p:cNvSpPr txBox="1"/>
              <p:nvPr/>
            </p:nvSpPr>
            <p:spPr>
              <a:xfrm>
                <a:off x="1843200" y="2428920"/>
                <a:ext cx="195552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Object 8"/>
              <p:cNvSpPr txBox="1"/>
              <p:nvPr/>
            </p:nvSpPr>
            <p:spPr>
              <a:xfrm>
                <a:off x="5141880" y="2428920"/>
                <a:ext cx="207324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0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8-09-11T17:10:57Z</dcterms:modified>
  <cp:revision>36</cp:revision>
  <dc:subject/>
  <dc:title>8 x 4</dc:title>
</cp:coreProperties>
</file>