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AC5F-5413-4040-9C8F-C153D35F79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1433-6203-4697-85DE-662A496103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FED-0F82-4097-88F6-ED80CD1A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F3F-DDE7-4CED-9AC0-1190739D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A95-0463-412E-ABCA-DC075E28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78E-94B2-4E0C-AAAF-B5BBE615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C04-7DBE-4AD1-A027-BA1944E6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93E-17A2-4781-9E82-3B9CEAD7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1DC-C299-42A1-A1BC-B0AE2743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C22-3918-4BE6-AD9F-3D2140EE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8B1-022B-4575-BB22-7EB75ECC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6A7-ADE3-4127-A63C-1A336696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A4A-5CDE-46CF-A74A-1F57983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290-DC53-43A4-A530-FC0A129E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B8EB-889B-4D0D-9D5E-CCA0C2CCDA2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 les priorités opératoires (sans parenthè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25 × 4 – 45 – 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25 × 4 – 45 – 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1:45Z</dcterms:modified>
  <cp:revision>30</cp:revision>
  <dc:subject/>
  <dc:title>8 x 4</dc:title>
</cp:coreProperties>
</file>