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669F-5DFF-4F07-972A-F247AA35F4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77E-3721-4456-ACEA-10F8E5120C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A7A-BAC9-4C66-8DB7-698649C7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0E2-1C3B-49E8-9226-018509F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67F-B855-401F-AE5B-FF4F2C2F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DA7-4F07-4821-BDE9-02538A80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E6B-FB55-4B72-BDD7-8FCD329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786-A183-4CAE-A52A-A66A917B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4A8-50A9-4EFA-B0CE-1EC84201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E17-B260-43C2-9926-47C478C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CCB-83BA-4802-B6C3-838988F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65C-4C0E-4535-821A-A16292D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D70-10C9-46E9-B0FC-A6AEC69B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F67-AFD2-432A-8136-D0FE315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91A-ED17-4403-BDDD-91D5506F41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évisions de 6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2 :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 x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6 x 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56 + 5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 x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7,7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6 × 8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58 x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,2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49:30Z</dcterms:modified>
  <cp:revision>14</cp:revision>
  <dc:subject/>
  <dc:title>8 x 4</dc:title>
</cp:coreProperties>
</file>