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F3DE-DC19-4E02-AD7F-0560D5C2D2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B60C-29A4-4D7C-B0D0-16C00F8378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23BC-FD8E-4AE1-8E65-96E1514D83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AE6B-52EA-40E2-B899-85ECA7D3CB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8A7-A738-4C99-A455-23AE756886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A7BA-7E87-44AC-857F-F8234B4EA1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BF2D-3CC6-4FA9-9919-99F2ECC824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18E-D7D6-463C-842A-AC09AB62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B2B-8227-4FFE-B8E8-77329E0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0E8-09F0-4FF6-A1E4-ACD6C1CD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33E-519A-4060-BE79-71557274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123-A067-4366-BA26-76559C07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DCF-4133-4362-BDC7-9F5FCA8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704-1E7C-4C69-9B78-152BD352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252-9AA7-46A2-859D-C7C82AA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5A4-9017-421A-80F1-BE02FF5A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5EF-2A13-4F93-8ED3-39B7A37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098-3045-4F9B-ADFD-D6E4180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AA0-070B-4CEA-AFBA-A21F8FC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1950-CA65-4E7D-882B-695CE532BA6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2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n 51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285920" y="2571840"/>
                <a:ext cx="64450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928880" y="1928880"/>
                <a:ext cx="1841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532480" y="19288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ZoneTexte 8"/>
          <p:cNvSpPr/>
          <p:nvPr/>
        </p:nvSpPr>
        <p:spPr>
          <a:xfrm>
            <a:off x="4172040" y="3214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928800" y="2571840"/>
                <a:ext cx="71355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bscis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34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36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38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39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41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43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45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47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8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49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0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51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2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53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4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55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56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57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58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59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60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61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62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63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64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65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6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7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8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9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70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71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2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3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4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5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6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7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8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9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1357200" y="257184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357200" y="271476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rdonn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30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32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34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36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38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40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1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42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43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44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5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46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7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48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9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50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1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52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3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54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56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7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58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9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0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1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2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63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64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5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6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7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8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9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0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1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2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73" name="Connecteur droit 96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cteur droit 97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071720" y="2643120"/>
                <a:ext cx="7019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nombre 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est-il solution de l’équation suivan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42960" y="3000240"/>
                <a:ext cx="77151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9288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9288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2148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1714680" y="2071800"/>
                <a:ext cx="540828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4172040" cy="3646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357120" y="10000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hoisis la bonne répon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érimètre de cette figure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071960" y="2357280"/>
            <a:ext cx="5072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7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5 +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ordonn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9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0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0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0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0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0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1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1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1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1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1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1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1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1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1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2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2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2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2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2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2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2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3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3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3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4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41" name="Connecteur droit 4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necteur droit 49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solution de l’é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1643040" y="2000160"/>
                <a:ext cx="557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6"/>
              <p:cNvSpPr txBox="1"/>
              <p:nvPr/>
            </p:nvSpPr>
            <p:spPr>
              <a:xfrm>
                <a:off x="357120" y="2357280"/>
                <a:ext cx="83520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657440" y="2071800"/>
                <a:ext cx="552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ég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928880" y="2071800"/>
                <a:ext cx="53848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vraie qu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et   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668160" y="2473200"/>
                <a:ext cx="78249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571680" y="150012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2292480" y="31291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71680" y="135720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235240" y="287028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s mesures de deux angles complémentaires est égale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1143000" y="285768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90°?       ou       180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5-28T20:47:44Z</dcterms:modified>
  <cp:revision>77</cp:revision>
  <dc:subject/>
  <dc:title>8 x 4</dc:title>
</cp:coreProperties>
</file>