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D2A1-B44E-4EF2-A2E2-4C981652C3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A163-4FBB-42F0-A836-024864A284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351-2354-41B2-A47C-748E9872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DFB-B76A-4A0B-9934-CC06095C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745-194A-42C4-A679-FBEB9D80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DDF-EEE0-4657-8C51-B4F88918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EE7-6937-415C-940A-FEDB7F1A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B69-65B1-49B2-889D-22701D46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7CF-8A18-4D16-8F13-E9CD61B6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FCE-4BCF-48C5-AA95-B5B9BD29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175-71C7-400C-8614-5E170F8A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C51-AD39-4A7D-9108-1E315FD6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629-2537-4AD3-94A5-3853FBF8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671-C74A-4FA0-AF1C-432FB5DB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9D34-8E8C-48D4-AC7E-25851A81FEE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 les priorités opératoires (avec parenthè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3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4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8 × (5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8 × (5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[4 × (8 – 5)] × 2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[3 × (9 – 5)] × 2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56:07Z</dcterms:modified>
  <cp:revision>32</cp:revision>
  <dc:subject/>
  <dc:title>8 x 4</dc:title>
</cp:coreProperties>
</file>