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14E83-4DB4-43E1-8F0F-34BFED2D453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EBBAF-2CC8-4624-A325-3F2C90671C3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3E43-58CC-4997-9BD6-0C9C0EE4F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5EF4-43B1-41D4-85C4-DF4E7507E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2CE3-E5B6-454A-9232-524017ED6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2874-B2A6-4A86-A0B6-29335A566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6FF0-9471-47EB-A208-FCD6F0683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532F-0A10-4D2B-8D1D-4DFC59A35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CEAB-A768-4E41-A7F6-8954F5B69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CA9E-A8E1-4304-A338-243988FD0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2722-FC6E-489C-8D13-F0E266732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67AC-9F7A-473A-99F4-CF0649FDD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F231-F42E-4DF2-9B4D-8EA829F37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0067-35D4-473A-8372-3E9C48AC4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12F2A-52F4-4E8F-8B60-92724EE9292F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1571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800" spc="-1" strike="noStrike">
                <a:solidFill>
                  <a:srgbClr val="ff0000"/>
                </a:solidFill>
                <a:latin typeface="Arial"/>
              </a:rPr>
              <a:t>Calcul mental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857160" y="35002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Nombres relatif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et opér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Object 6"/>
              <p:cNvSpPr txBox="1"/>
              <p:nvPr/>
            </p:nvSpPr>
            <p:spPr>
              <a:xfrm>
                <a:off x="2278080" y="2473200"/>
                <a:ext cx="4603680" cy="162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Object 6"/>
              <p:cNvSpPr txBox="1"/>
              <p:nvPr/>
            </p:nvSpPr>
            <p:spPr>
              <a:xfrm>
                <a:off x="1127160" y="2357280"/>
                <a:ext cx="6904080" cy="186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3429000" y="1714680"/>
            <a:ext cx="345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ff0000"/>
                </a:solidFill>
                <a:latin typeface="Arial"/>
              </a:rPr>
              <a:t>FI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"/>
          <p:cNvSpPr/>
          <p:nvPr/>
        </p:nvSpPr>
        <p:spPr>
          <a:xfrm>
            <a:off x="2500200" y="3643200"/>
            <a:ext cx="471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Posez les sty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Object 6"/>
              <p:cNvSpPr txBox="1"/>
              <p:nvPr/>
            </p:nvSpPr>
            <p:spPr>
              <a:xfrm>
                <a:off x="3141720" y="2473200"/>
                <a:ext cx="2876400" cy="162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−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Object 6"/>
              <p:cNvSpPr txBox="1"/>
              <p:nvPr/>
            </p:nvSpPr>
            <p:spPr>
              <a:xfrm>
                <a:off x="2278080" y="2473200"/>
                <a:ext cx="4603680" cy="162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Object 6"/>
              <p:cNvSpPr txBox="1"/>
              <p:nvPr/>
            </p:nvSpPr>
            <p:spPr>
              <a:xfrm>
                <a:off x="2278080" y="2357280"/>
                <a:ext cx="4603680" cy="186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Object 6"/>
              <p:cNvSpPr txBox="1"/>
              <p:nvPr/>
            </p:nvSpPr>
            <p:spPr>
              <a:xfrm>
                <a:off x="3141720" y="2473200"/>
                <a:ext cx="2876400" cy="162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−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Object 6"/>
              <p:cNvSpPr txBox="1"/>
              <p:nvPr/>
            </p:nvSpPr>
            <p:spPr>
              <a:xfrm>
                <a:off x="2624040" y="2473200"/>
                <a:ext cx="3911760" cy="162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−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2278080" y="2357280"/>
                <a:ext cx="4603680" cy="186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Object 6"/>
              <p:cNvSpPr txBox="1"/>
              <p:nvPr/>
            </p:nvSpPr>
            <p:spPr>
              <a:xfrm>
                <a:off x="1127160" y="2357280"/>
                <a:ext cx="6904080" cy="186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Object 6"/>
              <p:cNvSpPr txBox="1"/>
              <p:nvPr/>
            </p:nvSpPr>
            <p:spPr>
              <a:xfrm>
                <a:off x="2624040" y="2473200"/>
                <a:ext cx="3911760" cy="162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−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9T21:06:10Z</dcterms:created>
  <dc:creator>bayle</dc:creator>
  <dc:description/>
  <dc:language>en-US</dc:language>
  <cp:lastModifiedBy>Raphaël</cp:lastModifiedBy>
  <dcterms:modified xsi:type="dcterms:W3CDTF">2009-03-28T13:04:31Z</dcterms:modified>
  <cp:revision>44</cp:revision>
  <dc:subject/>
  <dc:title>8 x 4</dc:title>
</cp:coreProperties>
</file>