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B1F4-99D5-4AEE-900E-5DF001E101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8D5C-17A1-4E5D-BA97-206900C367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A62-37E1-4808-86CC-00F6BE83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CC9-45B5-479F-97DB-7C89823D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28C-F460-4303-B273-D0636DC2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377-5D82-4904-A465-1DBA2578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BB7-454B-43C4-AED7-C5FD8A4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B94-D55B-4EA8-BCFE-EEC5E793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83A-620A-44CD-97D8-8ED8DB4A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D76-DCFB-4725-ABD4-0548AD7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265-8E01-419A-9E1F-3744CCA0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BCA-DF98-42A9-AF36-9FCB1658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3A4-5FCA-4DBA-9E63-5F85DD9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162-BEC8-45BF-A73D-11815850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571C-C9B2-4A77-87FD-64F13AC5CD7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,87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8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98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8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,237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8T08:39:42Z</dcterms:modified>
  <cp:revision>24</cp:revision>
  <dc:subject/>
  <dc:title>8 x 4</dc:title>
</cp:coreProperties>
</file>