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4FAC-E88A-4B71-80D7-87A44C7C25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7BCF-A05C-4DB0-8EE8-47AC630833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29C-13D0-4F56-A990-31E23FEF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8F26-DA8B-4677-BAC4-965E75C9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F36-F53E-4B05-BA19-0B0441DA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2CD-DF97-4349-A47A-FB781217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DDE-01FA-4133-BF61-7791893E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8D8-3F08-46FC-AA62-AE560B64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E96-5E8F-4835-B1D1-AC6FEED6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E035-894B-4545-9B47-524FB8B5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477-098C-4D8F-A5A1-39E042AC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D95B-A22C-4D57-A700-C5889883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EAD-AD3E-4FF6-A752-6D612760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80B-19F4-483F-A8A5-AE2A3364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6A5D-7FA6-4812-BA58-B86236D3495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ngles dans un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rcRect l="0" t="10385" r="3849" b="11771"/>
          <a:stretch/>
        </p:blipFill>
        <p:spPr>
          <a:xfrm>
            <a:off x="857160" y="2214720"/>
            <a:ext cx="4357800" cy="373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Object 6"/>
              <p:cNvSpPr txBox="1"/>
              <p:nvPr/>
            </p:nvSpPr>
            <p:spPr>
              <a:xfrm>
                <a:off x="5929200" y="2617920"/>
                <a:ext cx="257184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5900760" y="2643120"/>
                <a:ext cx="2628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9" name="Picture 8" descr=""/>
          <p:cNvPicPr/>
          <p:nvPr/>
        </p:nvPicPr>
        <p:blipFill>
          <a:blip r:embed="rId1"/>
          <a:srcRect l="2176" t="6733" r="6252" b="10184"/>
          <a:stretch/>
        </p:blipFill>
        <p:spPr>
          <a:xfrm>
            <a:off x="785880" y="2071800"/>
            <a:ext cx="478620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5958000" y="2643120"/>
                <a:ext cx="25146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" name="Picture 7" descr=""/>
          <p:cNvPicPr/>
          <p:nvPr/>
        </p:nvPicPr>
        <p:blipFill>
          <a:blip r:embed="rId1"/>
          <a:srcRect l="1778" t="7734" r="7362" b="7208"/>
          <a:stretch/>
        </p:blipFill>
        <p:spPr>
          <a:xfrm>
            <a:off x="357120" y="2714760"/>
            <a:ext cx="6458040" cy="32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rcRect l="3498" t="5175" r="5370" b="6895"/>
          <a:stretch/>
        </p:blipFill>
        <p:spPr>
          <a:xfrm>
            <a:off x="928800" y="2214720"/>
            <a:ext cx="3643200" cy="40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5986440" y="2643120"/>
                <a:ext cx="245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5900760" y="2643120"/>
                <a:ext cx="2628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Picture 8" descr=""/>
          <p:cNvPicPr/>
          <p:nvPr/>
        </p:nvPicPr>
        <p:blipFill>
          <a:blip r:embed="rId1"/>
          <a:srcRect l="2176" t="6733" r="6252" b="10184"/>
          <a:stretch/>
        </p:blipFill>
        <p:spPr>
          <a:xfrm>
            <a:off x="785880" y="2071800"/>
            <a:ext cx="478620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rcRect l="0" t="12706" r="0" b="11019"/>
          <a:stretch/>
        </p:blipFill>
        <p:spPr>
          <a:xfrm>
            <a:off x="357120" y="2643120"/>
            <a:ext cx="7264440" cy="27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5843520" y="2643120"/>
                <a:ext cx="27432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rcRect l="3498" t="5175" r="5370" b="6895"/>
          <a:stretch/>
        </p:blipFill>
        <p:spPr>
          <a:xfrm>
            <a:off x="928800" y="2214720"/>
            <a:ext cx="3643200" cy="40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5986440" y="2643120"/>
                <a:ext cx="245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rcRect l="0" t="10385" r="3849" b="11771"/>
          <a:stretch/>
        </p:blipFill>
        <p:spPr>
          <a:xfrm>
            <a:off x="857160" y="2214720"/>
            <a:ext cx="4357800" cy="373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5929200" y="2585880"/>
                <a:ext cx="2571840" cy="10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rcRect l="0" t="12706" r="0" b="11019"/>
          <a:stretch/>
        </p:blipFill>
        <p:spPr>
          <a:xfrm>
            <a:off x="357120" y="2643120"/>
            <a:ext cx="7264440" cy="27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5843520" y="2643120"/>
                <a:ext cx="27432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5958000" y="2643120"/>
                <a:ext cx="25146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1" name="Picture 7" descr=""/>
          <p:cNvPicPr/>
          <p:nvPr/>
        </p:nvPicPr>
        <p:blipFill>
          <a:blip r:embed="rId1"/>
          <a:srcRect l="1778" t="7734" r="7362" b="7208"/>
          <a:stretch/>
        </p:blipFill>
        <p:spPr>
          <a:xfrm>
            <a:off x="357120" y="2714760"/>
            <a:ext cx="6458040" cy="321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10-01-21T14:49:46Z</dcterms:modified>
  <cp:revision>36</cp:revision>
  <dc:subject/>
  <dc:title>8 x 4</dc:title>
</cp:coreProperties>
</file>