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8983-DFBC-41CF-A34E-2D48B4AE67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EC92-3BAA-481A-917D-1C506701D4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C38E-3C9B-419C-BB0E-11732424F4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6CC4-51CE-4EFC-8534-59F80042D8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B3CC-344C-4179-B7B5-A6946DB555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4020-7F7E-42B6-B9D1-719F6966CD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0AC0-10C8-432A-AFD3-5D100455B8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4EA-501A-415E-8D6B-29E9BE96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DFF8-E8B0-4E3A-BD4E-A51C0DE7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9BF-7BCB-45F9-9818-08BF78AB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175-8A74-45AA-BA38-CD99FC9A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95F2-5229-4222-90D0-24071E82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A26-2535-46CB-8B2F-EB77CA2F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BD5B-A18B-4430-BFC5-86904BBE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743C-B82E-4C0D-B74E-2A11C911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476-1274-4723-B55E-EFB36A9D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4084-051C-42F3-A1FA-A47D547D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4EC-1825-4444-9574-F3B3D8FA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AFFD-0A9E-46B7-B36E-4C8D7867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ECD8-1147-413E-871B-FA145B1F479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Révisi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85880" y="3214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en 51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1285920" y="2571840"/>
                <a:ext cx="64450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90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rcRect l="3498" t="5175" r="5370" b="6895"/>
          <a:stretch/>
        </p:blipFill>
        <p:spPr>
          <a:xfrm>
            <a:off x="928800" y="2214720"/>
            <a:ext cx="3643200" cy="40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5986440" y="2643120"/>
                <a:ext cx="245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103" name="ZoneTexte 6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1928880" y="1928880"/>
                <a:ext cx="1841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5532480" y="1928880"/>
                <a:ext cx="1382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ZoneTexte 8"/>
          <p:cNvSpPr/>
          <p:nvPr/>
        </p:nvSpPr>
        <p:spPr>
          <a:xfrm>
            <a:off x="4172040" y="321480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rcRect l="5557" t="7051" r="6943" b="8307"/>
          <a:stretch/>
        </p:blipFill>
        <p:spPr>
          <a:xfrm>
            <a:off x="285840" y="3000240"/>
            <a:ext cx="550044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68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2 × (14 </a:t>
            </a: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 4 × 3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8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2313" t="20834" r="10097" b="10709"/>
          <a:stretch/>
        </p:blipFill>
        <p:spPr>
          <a:xfrm>
            <a:off x="357120" y="3000240"/>
            <a:ext cx="5478480" cy="26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28573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928800" y="2571840"/>
                <a:ext cx="713556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absciss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du point A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134" name="Text Box 150"/>
            <p:cNvSpPr/>
            <p:nvPr/>
          </p:nvSpPr>
          <p:spPr>
            <a:xfrm>
              <a:off x="6151680" y="2623320"/>
              <a:ext cx="48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151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cxnSp>
            <p:nvCxnSpPr>
              <p:cNvPr id="136" name="AutoShape 152"/>
              <p:cNvCxnSpPr/>
              <p:nvPr/>
            </p:nvCxnSpPr>
            <p:spPr>
              <a:xfrm>
                <a:off x="579348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cxnSp>
            <p:nvCxnSpPr>
              <p:cNvPr id="137" name="AutoShape 153"/>
              <p:cNvCxnSpPr/>
              <p:nvPr/>
            </p:nvCxnSpPr>
            <p:spPr>
              <a:xfrm flipH="1">
                <a:off x="579312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grpSp>
            <p:nvGrpSpPr>
              <p:cNvPr id="138" name="Group 154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139" name="Text Box 155"/>
                <p:cNvSpPr/>
                <p:nvPr/>
              </p:nvSpPr>
              <p:spPr>
                <a:xfrm>
                  <a:off x="4171320" y="4017600"/>
                  <a:ext cx="36072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alibri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" name="Group 156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141" name="Text Box 157"/>
                  <p:cNvSpPr/>
                  <p:nvPr/>
                </p:nvSpPr>
                <p:spPr>
                  <a:xfrm>
                    <a:off x="3810960" y="546048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2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2" name="Group 158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143" name="Text Box 159"/>
                    <p:cNvSpPr/>
                    <p:nvPr/>
                  </p:nvSpPr>
                  <p:spPr>
                    <a:xfrm>
                      <a:off x="3810960" y="4739040"/>
                      <a:ext cx="721440" cy="36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4" name="Group 160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145" name="Text Box 161"/>
                      <p:cNvSpPr/>
                      <p:nvPr/>
                    </p:nvSpPr>
                    <p:spPr>
                      <a:xfrm>
                        <a:off x="3810960" y="2935800"/>
                        <a:ext cx="721440" cy="36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1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46" name="Group 162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147" name="Text Box 163"/>
                        <p:cNvSpPr/>
                        <p:nvPr/>
                      </p:nvSpPr>
                      <p:spPr>
                        <a:xfrm>
                          <a:off x="3810960" y="2214720"/>
                          <a:ext cx="721440" cy="360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2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48" name="Group 164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149" name="Text Box 165"/>
                          <p:cNvSpPr/>
                          <p:nvPr/>
                        </p:nvSpPr>
                        <p:spPr>
                          <a:xfrm>
                            <a:off x="7057080" y="4017600"/>
                            <a:ext cx="72144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4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50" name="Group 166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151" name="Text Box 167"/>
                            <p:cNvSpPr/>
                            <p:nvPr/>
                          </p:nvSpPr>
                          <p:spPr>
                            <a:xfrm>
                              <a:off x="6336000" y="4017600"/>
                              <a:ext cx="72108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3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52" name="Group 168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153" name="Text Box 169"/>
                              <p:cNvSpPr/>
                              <p:nvPr/>
                            </p:nvSpPr>
                            <p:spPr>
                              <a:xfrm>
                                <a:off x="561456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2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54" name="Group 170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155" name="Text Box 171"/>
                                <p:cNvSpPr/>
                                <p:nvPr/>
                              </p:nvSpPr>
                              <p:spPr>
                                <a:xfrm>
                                  <a:off x="4893120" y="4017600"/>
                                  <a:ext cx="72144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+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56" name="Group 172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157" name="Text Box 173"/>
                                  <p:cNvSpPr/>
                                  <p:nvPr/>
                                </p:nvSpPr>
                                <p:spPr>
                                  <a:xfrm>
                                    <a:off x="3450240" y="4017600"/>
                                    <a:ext cx="72108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1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58" name="Group 17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159" name="Text Box 17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880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2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160" name="Group 17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161" name="Text Box 177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28592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4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162" name="Group 178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163" name="Text Box 179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007360" y="4017600"/>
                                          <a:ext cx="721440" cy="36072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0" rIns="0" tIns="0" bIns="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spcAft>
                                              <a:spcPts val="1001"/>
                                            </a:spcAft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r>
                                            <a:rPr b="0" lang="fr-FR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ahoma"/>
                                            </a:rPr>
                                            <a:t>(-3)</a:t>
                                          </a: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164" name="Group 180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285920" y="2214720"/>
                                          <a:ext cx="6492960" cy="3606480"/>
                                          <a:chOff x="1285920" y="2214720"/>
                                          <a:chExt cx="6492960" cy="3606480"/>
                                        </a:xfrm>
                                      </p:grpSpPr>
                                      <p:sp>
                                        <p:nvSpPr>
                                          <p:cNvPr id="165" name="Line 18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01760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66" name="Line 18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25750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67" name="Line 18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329652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68" name="Line 18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73904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69" name="Line 18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54604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170" name="Group 186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646640" y="2214720"/>
                                            <a:ext cx="5771160" cy="3606480"/>
                                            <a:chOff x="1646640" y="2214720"/>
                                            <a:chExt cx="5771160" cy="3606480"/>
                                          </a:xfrm>
                                        </p:grpSpPr>
                                        <p:sp>
                                          <p:nvSpPr>
                                            <p:cNvPr id="171" name="Line 187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45320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316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  <a:headEnd len="med" type="arrow" w="med"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2" name="Line 188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6466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3" name="Line 189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236808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4" name="Line 190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0891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5" name="Line 191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8106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6" name="Line 192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25312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7" name="Line 19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9745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8" name="Line 194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6963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9" name="Line 195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4178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6"/>
              <p:cNvSpPr txBox="1"/>
              <p:nvPr/>
            </p:nvSpPr>
            <p:spPr>
              <a:xfrm>
                <a:off x="1357200" y="2571840"/>
                <a:ext cx="644364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Pour tracer le cercle circonscrit à un triangle, il faut construir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mparer les deux nombres suivants à l’aide de 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6"/>
              <p:cNvSpPr txBox="1"/>
              <p:nvPr/>
            </p:nvSpPr>
            <p:spPr>
              <a:xfrm>
                <a:off x="428760" y="3357720"/>
                <a:ext cx="3001680" cy="15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5929200" y="3357720"/>
                <a:ext cx="242892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,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ZoneTexte 8"/>
          <p:cNvSpPr/>
          <p:nvPr/>
        </p:nvSpPr>
        <p:spPr>
          <a:xfrm>
            <a:off x="4357800" y="350028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’orthocentre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6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8"/>
              <p:cNvSpPr txBox="1"/>
              <p:nvPr/>
            </p:nvSpPr>
            <p:spPr>
              <a:xfrm>
                <a:off x="5543640" y="2428920"/>
                <a:ext cx="12682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e centre de gravité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6"/>
              <p:cNvSpPr txBox="1"/>
              <p:nvPr/>
            </p:nvSpPr>
            <p:spPr>
              <a:xfrm>
                <a:off x="1357200" y="2714760"/>
                <a:ext cx="644364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ordonné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du point B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230" name="Text Box 150"/>
            <p:cNvSpPr/>
            <p:nvPr/>
          </p:nvSpPr>
          <p:spPr>
            <a:xfrm>
              <a:off x="2357640" y="257148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232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234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236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7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238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39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240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1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242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43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244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45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246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47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248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49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250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51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252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53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254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55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256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57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258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59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60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61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62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263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264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5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6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7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8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9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70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71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72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273" name="Connecteur droit 96"/>
          <p:cNvSpPr/>
          <p:nvPr/>
        </p:nvSpPr>
        <p:spPr>
          <a:xfrm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onnecteur droit 97"/>
          <p:cNvSpPr/>
          <p:nvPr/>
        </p:nvSpPr>
        <p:spPr>
          <a:xfrm flipH="1"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a liste de nombres suivante,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quel est le plus petit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mbre relatif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6"/>
              <p:cNvSpPr txBox="1"/>
              <p:nvPr/>
            </p:nvSpPr>
            <p:spPr>
              <a:xfrm>
                <a:off x="642960" y="2786040"/>
                <a:ext cx="242892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8"/>
              <p:cNvSpPr txBox="1"/>
              <p:nvPr/>
            </p:nvSpPr>
            <p:spPr>
              <a:xfrm>
                <a:off x="3143160" y="3643200"/>
                <a:ext cx="242892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9"/>
              <p:cNvSpPr txBox="1"/>
              <p:nvPr/>
            </p:nvSpPr>
            <p:spPr>
              <a:xfrm>
                <a:off x="5516640" y="4714920"/>
                <a:ext cx="29685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losange a ses diagonales de même longueurs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6"/>
              <p:cNvSpPr txBox="1"/>
              <p:nvPr/>
            </p:nvSpPr>
            <p:spPr>
              <a:xfrm>
                <a:off x="1071720" y="2643120"/>
                <a:ext cx="701964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nombre  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est-il solution de l’équation suivan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5"/>
              <p:cNvSpPr txBox="1"/>
              <p:nvPr/>
            </p:nvSpPr>
            <p:spPr>
              <a:xfrm>
                <a:off x="642960" y="3000240"/>
                <a:ext cx="771516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130480" y="19288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5504040" y="19288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ZoneTexte 8"/>
          <p:cNvSpPr/>
          <p:nvPr/>
        </p:nvSpPr>
        <p:spPr>
          <a:xfrm>
            <a:off x="4143240" y="321480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357120" y="1214280"/>
            <a:ext cx="8429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6"/>
              <p:cNvSpPr txBox="1"/>
              <p:nvPr/>
            </p:nvSpPr>
            <p:spPr>
              <a:xfrm>
                <a:off x="1714680" y="2071800"/>
                <a:ext cx="540828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642960" y="2428920"/>
            <a:ext cx="4172040" cy="364644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2"/>
          <p:cNvSpPr/>
          <p:nvPr/>
        </p:nvSpPr>
        <p:spPr>
          <a:xfrm>
            <a:off x="357120" y="1000080"/>
            <a:ext cx="8429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Choisis la bonne répons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 périmètre de cette figure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4071960" y="2357280"/>
            <a:ext cx="5072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27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25 + 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+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9680" y="1285920"/>
            <a:ext cx="8286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les sont les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ordonnée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du point C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298" name="Text Box 150"/>
            <p:cNvSpPr/>
            <p:nvPr/>
          </p:nvSpPr>
          <p:spPr>
            <a:xfrm>
              <a:off x="6000480" y="478620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300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302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3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304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5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306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7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308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09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310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1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312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313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314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315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316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17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318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319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320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321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322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323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324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325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326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27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28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29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30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331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332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3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4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5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6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7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8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9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40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341" name="Connecteur droit 48"/>
          <p:cNvSpPr/>
          <p:nvPr/>
        </p:nvSpPr>
        <p:spPr>
          <a:xfrm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onnecteur droit 49"/>
          <p:cNvSpPr/>
          <p:nvPr/>
        </p:nvSpPr>
        <p:spPr>
          <a:xfrm flipH="1"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solution de l’é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5"/>
              <p:cNvSpPr txBox="1"/>
              <p:nvPr/>
            </p:nvSpPr>
            <p:spPr>
              <a:xfrm>
                <a:off x="1643040" y="2000160"/>
                <a:ext cx="557532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Rectangle 2"/>
          <p:cNvSpPr/>
          <p:nvPr/>
        </p:nvSpPr>
        <p:spPr>
          <a:xfrm>
            <a:off x="57168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st-elle 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ou 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2278080" y="2473200"/>
                <a:ext cx="460368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parallélogramme a ses diagonales perpendiculaires, alors c’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6"/>
              <p:cNvSpPr txBox="1"/>
              <p:nvPr/>
            </p:nvSpPr>
            <p:spPr>
              <a:xfrm>
                <a:off x="357120" y="2357280"/>
                <a:ext cx="8352000" cy="16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357120" y="1214280"/>
            <a:ext cx="8429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1657440" y="2071800"/>
                <a:ext cx="5522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6"/>
              <p:cNvSpPr txBox="1"/>
              <p:nvPr/>
            </p:nvSpPr>
            <p:spPr>
              <a:xfrm>
                <a:off x="3141720" y="2473200"/>
                <a:ext cx="28764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’ég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1928880" y="2071800"/>
                <a:ext cx="538488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Rectangle 2"/>
          <p:cNvSpPr/>
          <p:nvPr/>
        </p:nvSpPr>
        <p:spPr>
          <a:xfrm>
            <a:off x="57168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st-elle vraie qu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et     </a:t>
            </a: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5958000" y="2643120"/>
                <a:ext cx="25146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8" name="Picture 7" descr=""/>
          <p:cNvPicPr/>
          <p:nvPr/>
        </p:nvPicPr>
        <p:blipFill>
          <a:blip r:embed="rId1"/>
          <a:srcRect l="1778" t="7734" r="7362" b="7208"/>
          <a:stretch/>
        </p:blipFill>
        <p:spPr>
          <a:xfrm>
            <a:off x="357120" y="2714760"/>
            <a:ext cx="6458040" cy="32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6"/>
              <p:cNvSpPr txBox="1"/>
              <p:nvPr/>
            </p:nvSpPr>
            <p:spPr>
              <a:xfrm>
                <a:off x="668160" y="2473200"/>
                <a:ext cx="782496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571680" y="1500120"/>
            <a:ext cx="81435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somm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2292480" y="3129120"/>
                <a:ext cx="448920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571680" y="1357200"/>
            <a:ext cx="81435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2235240" y="2870280"/>
                <a:ext cx="46036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50920" y="333360"/>
            <a:ext cx="43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a somme des mesures de deux angles complémentaires est égale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7"/>
          <p:cNvSpPr/>
          <p:nvPr/>
        </p:nvSpPr>
        <p:spPr>
          <a:xfrm>
            <a:off x="1143000" y="2857680"/>
            <a:ext cx="692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90°?       ou       180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rcRect l="9292" t="3991" r="11065" b="6253"/>
          <a:stretch/>
        </p:blipFill>
        <p:spPr>
          <a:xfrm>
            <a:off x="357120" y="2768760"/>
            <a:ext cx="5143680" cy="3857400"/>
          </a:xfrm>
          <a:prstGeom prst="rect">
            <a:avLst/>
          </a:prstGeom>
          <a:ln w="0">
            <a:noFill/>
          </a:ln>
        </p:spPr>
      </p:pic>
      <p:sp>
        <p:nvSpPr>
          <p:cNvPr id="83" name="ZoneTexte 6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5-28T20:47:44Z</dcterms:modified>
  <cp:revision>77</cp:revision>
  <dc:subject/>
  <dc:title>8 x 4</dc:title>
</cp:coreProperties>
</file>