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992-7609-4E21-BB4A-F55D5E48B7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8A9-A6B5-4E22-899F-B52DBEDDE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AA9-9317-4EEF-A94D-0A33DA67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206-A45A-412F-8FC3-8A80F48A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F18-4E15-41C1-AF84-5B4770FF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1CC-19BA-4FA4-8EF5-36D60DB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BB-70E5-4448-84E4-CB5EDE0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190-BA3F-4B68-BA5F-DB40EBF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999-9343-42D2-A607-E0FCD3B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B82-E2D3-424A-A3D2-402D0CF5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946-D5EB-4812-9EBA-7C638D83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876-4267-4280-BEB2-550D0C7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08C-D895-4134-BB7C-CEBEBD4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FD4-2247-403F-880E-A39E11A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A23-953B-4A90-86E5-E58E4F82C8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3:04:31Z</dcterms:modified>
  <cp:revision>44</cp:revision>
  <dc:subject/>
  <dc:title>8 x 4</dc:title>
</cp:coreProperties>
</file>