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6729-BF53-41F1-A948-8C25FA0B6D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924-B117-4646-B2F7-3C1CA35C6F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3CD-689A-415A-AEEA-3E28E42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7CE-1F56-4679-90A5-7395733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BAF-A0B7-4E63-B582-880DE42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A6A-671E-4A0A-BF2D-15241E0D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4A2-4F63-4694-B19B-B4C96F03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B4D-89DD-42D7-B15B-BEC6C11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BF7-2C1D-4162-8CEF-E069431E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20E-01E8-4F31-90DA-6AF93650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021-4E17-450A-8E96-DB9235B8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1A2-FCE8-4455-A032-C47432F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7A6-7791-49DE-A8CB-1705AC1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127-A115-4DCB-B8B9-D9B8DFF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C05-0353-4845-A2B8-A223BBB4DA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11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6:23Z</dcterms:modified>
  <cp:revision>42</cp:revision>
  <dc:subject/>
  <dc:title>8 x 4</dc:title>
</cp:coreProperties>
</file>