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06FE-A657-47D7-9CA5-9B9E7F137F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9493-2EC0-436F-86E0-90B22AFFF2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4D8-9118-4D72-B616-0FC3925F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C0F-5392-4E44-991F-5A85D353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98E-3C6A-4827-93C5-CF1D521F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FE1-39BA-415C-BFE0-957D550C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64D-DCAD-4C32-BEA4-33A17BA6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D5E-0838-41E2-9655-BA1B8F7E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9C9-523D-4062-8CE9-0A8C4403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C59-943E-453C-B4DC-1194CED2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3B2-29FE-4423-875A-02CA1DF7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FB4-6510-4998-A6C9-DA53A66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944-5A9C-4B4B-8CED-D92038D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953-D4E4-488C-AB18-C19A9BD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A039-B8EE-45C1-B183-1552A86010F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2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et repé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6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7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7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7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7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7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8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8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8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8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8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8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8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8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8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9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9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9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9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9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9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9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0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0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0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1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11" name="Connecteur droit 9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necteur droit 101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E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316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18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20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22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3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24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5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26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7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28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9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30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31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32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33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34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5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36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37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38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39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40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41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42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43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44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5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6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7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8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49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50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1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2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3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4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5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6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7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8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59" name="Connecteur droit 52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onnecteur droit 53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F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59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61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63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65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67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69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71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2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73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74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75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76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77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8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79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0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81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82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83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84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85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86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87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8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9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0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1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92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93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4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5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7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8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9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0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1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102" name="Connecteur droit 52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necteur droit 53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380880" y="3357720"/>
                <a:ext cx="30974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883120" y="3357720"/>
                <a:ext cx="25225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17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19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21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22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24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26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28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30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32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33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34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35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36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37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38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39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40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41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42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43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44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5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46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47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48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49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0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1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2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53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54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5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6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7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8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9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0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1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2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687240" y="2786040"/>
                <a:ext cx="233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5560920" y="4714920"/>
                <a:ext cx="287820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71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173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75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77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79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0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81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2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83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4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85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86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87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8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89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90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91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92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93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94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95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96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97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98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99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0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1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2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3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04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05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6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7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8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9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0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1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2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3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14" name="Connecteur droit 57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necteur droit 59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D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19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221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222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223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24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26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7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28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9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30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1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32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33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34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35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36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37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38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39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40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1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42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43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44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45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46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47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48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49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250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1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2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3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4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5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256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7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8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9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0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1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2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3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4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9T22:20:33Z</dcterms:modified>
  <cp:revision>43</cp:revision>
  <dc:subject/>
  <dc:title>8 x 4</dc:title>
</cp:coreProperties>
</file>