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E2D7-B570-408B-98BB-80D1F7D179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1223-D69F-4457-89B0-12BC3ABF64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94C-933E-479C-B51E-D9FA3C40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208-46A9-428B-AAFF-F1A4AD52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205-344B-4E41-8FFB-6DFDBCDD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A83-928B-455E-8BB5-9EBE84BE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CB4-0A9D-4F61-B3E3-57FDC8F1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E781-57C6-40E7-9ED7-27E28194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033F-C5C6-472B-BD08-6339D465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D0F-85FC-4A0F-91B4-40511729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934-7195-4D24-B9F9-1390E9FB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044B-E2DE-45E8-805A-5587619D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116-D9E5-4CC7-BBB5-BCB72A6E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05D-C9D8-46A6-8235-8EF61CEB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2267-FEA7-47A0-8F7E-AED3020E73C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en respectant les priorités opératoires (sans parenthè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25 × 4 – 45 – 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25 × 4 – 45 – 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3 + 4 × 7 – 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4 + 4 × 7 –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1:45Z</dcterms:modified>
  <cp:revision>30</cp:revision>
  <dc:subject/>
  <dc:title>8 x 4</dc:title>
</cp:coreProperties>
</file>