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36CB2-2181-41BB-B328-E8D19734A45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D6E45-54DD-4D9F-9A53-2FE7CA54BB7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B9D1F-EFA4-400D-90F6-C45E10887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F75B2-4CE7-4DB8-AED8-AF1754DA4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F5631-3813-4107-8F73-8E4943282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E6486-2923-406F-A265-991B9E101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76E35-1440-4714-9CE1-A1CB55B13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09BF3-F820-4E84-8C5F-DC9A2C19E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BD517-0C08-46AD-8512-111AB52D8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C015D-F79B-493E-A455-7D047EE98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02260-ADBF-4CE5-8365-F38715AB7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42AB3-5FF5-4FD6-9657-036C9F440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73871-166C-4B31-8F8A-73BFA5476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184E8-CA4D-4FD8-B45C-59379612A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68B5F-AE28-4BBC-B26D-79D2025DED9E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1571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800" spc="-1" strike="noStrike">
                <a:solidFill>
                  <a:srgbClr val="ff0000"/>
                </a:solidFill>
                <a:latin typeface="Arial"/>
              </a:rPr>
              <a:t>Calcul mental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857160" y="314316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Arial"/>
              </a:rPr>
              <a:t>Simplifications de fr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Arial"/>
              </a:rPr>
              <a:t>(avec les tabl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85880" y="107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Simplifier</a:t>
            </a: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 la fraction 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Object 4"/>
              <p:cNvSpPr txBox="1"/>
              <p:nvPr/>
            </p:nvSpPr>
            <p:spPr>
              <a:xfrm>
                <a:off x="3557520" y="2357280"/>
                <a:ext cx="195588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8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85880" y="107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Simplifier</a:t>
            </a: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 la fraction 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Object 4"/>
              <p:cNvSpPr txBox="1"/>
              <p:nvPr/>
            </p:nvSpPr>
            <p:spPr>
              <a:xfrm>
                <a:off x="3500280" y="2357280"/>
                <a:ext cx="207180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2"/>
          <p:cNvSpPr/>
          <p:nvPr/>
        </p:nvSpPr>
        <p:spPr>
          <a:xfrm>
            <a:off x="3429000" y="1714680"/>
            <a:ext cx="345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ff0000"/>
                </a:solidFill>
                <a:latin typeface="Arial"/>
              </a:rPr>
              <a:t>FIN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2"/>
          <p:cNvSpPr/>
          <p:nvPr/>
        </p:nvSpPr>
        <p:spPr>
          <a:xfrm>
            <a:off x="2500200" y="3643200"/>
            <a:ext cx="4714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Arial"/>
              </a:rPr>
              <a:t>Posez les sty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85880" y="107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Simplifier</a:t>
            </a: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 la fraction 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Object 6"/>
              <p:cNvSpPr txBox="1"/>
              <p:nvPr/>
            </p:nvSpPr>
            <p:spPr>
              <a:xfrm>
                <a:off x="3500280" y="2357280"/>
                <a:ext cx="207180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85880" y="107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Simplifier</a:t>
            </a: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 la fraction 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Object 4"/>
              <p:cNvSpPr txBox="1"/>
              <p:nvPr/>
            </p:nvSpPr>
            <p:spPr>
              <a:xfrm>
                <a:off x="3557520" y="2357280"/>
                <a:ext cx="195588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8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85880" y="107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Simplifier</a:t>
            </a: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 la fraction 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4"/>
              <p:cNvSpPr txBox="1"/>
              <p:nvPr/>
            </p:nvSpPr>
            <p:spPr>
              <a:xfrm>
                <a:off x="3500280" y="2357280"/>
                <a:ext cx="207180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85880" y="107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Simplifier</a:t>
            </a: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 la fraction 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Object 4"/>
              <p:cNvSpPr txBox="1"/>
              <p:nvPr/>
            </p:nvSpPr>
            <p:spPr>
              <a:xfrm>
                <a:off x="3557520" y="2357280"/>
                <a:ext cx="195588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6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85880" y="107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Simplifier</a:t>
            </a: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 la fraction 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" name="Object 4"/>
              <p:cNvSpPr txBox="1"/>
              <p:nvPr/>
            </p:nvSpPr>
            <p:spPr>
              <a:xfrm>
                <a:off x="3500280" y="2357280"/>
                <a:ext cx="207180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85880" y="107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Simplifier</a:t>
            </a: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 la fraction 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Object 4"/>
              <p:cNvSpPr txBox="1"/>
              <p:nvPr/>
            </p:nvSpPr>
            <p:spPr>
              <a:xfrm>
                <a:off x="3500280" y="2357280"/>
                <a:ext cx="207180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85880" y="107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Simplifier</a:t>
            </a: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 la fraction 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Object 4"/>
              <p:cNvSpPr txBox="1"/>
              <p:nvPr/>
            </p:nvSpPr>
            <p:spPr>
              <a:xfrm>
                <a:off x="3557520" y="2357280"/>
                <a:ext cx="195588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85880" y="107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Simplifier</a:t>
            </a: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 la fraction 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" name="Object 4"/>
              <p:cNvSpPr txBox="1"/>
              <p:nvPr/>
            </p:nvSpPr>
            <p:spPr>
              <a:xfrm>
                <a:off x="3500280" y="2357280"/>
                <a:ext cx="207180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9T21:06:10Z</dcterms:created>
  <dc:creator>bayle</dc:creator>
  <dc:description/>
  <dc:language>en-US</dc:language>
  <cp:lastModifiedBy>Raphaël</cp:lastModifiedBy>
  <dcterms:modified xsi:type="dcterms:W3CDTF">2008-10-05T17:02:57Z</dcterms:modified>
  <cp:revision>19</cp:revision>
  <dc:subject/>
  <dc:title>8 x 4</dc:title>
</cp:coreProperties>
</file>