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E7A-7B99-49D5-955D-8FEAB6C576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A3EF-79BC-4CC1-820D-8DB032CA93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BC2-585D-48A9-A56F-79108BA8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085-0A11-44B1-A280-6D9A1460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4A6-7DFB-4FA5-842A-252C5E8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70F-2922-4337-9EA4-2EF9187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66D-B088-4645-B1CB-3632101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BF5-7666-4A8D-B12E-97FB5D51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456-9811-4DB2-BBA9-2FF70CF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6B0-86C0-4CCB-BEC2-C7A11D3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876-F5AA-4573-8671-BF2B93B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C4A-D651-4B64-8179-5685857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BDA-9823-42A2-A137-E848075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5D-8834-4302-9DEA-9EA4518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3BC-3C2D-451F-AEDD-625D375C44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Quotients ég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7:08Z</dcterms:modified>
  <cp:revision>28</cp:revision>
  <dc:subject/>
  <dc:title>8 x 4</dc:title>
</cp:coreProperties>
</file>