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B52F-3077-4E68-8B79-FC293ADD992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A0D0-11A3-4DB6-A772-741807CAF8E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BCE8-99B6-4C87-AFF6-24CFACAA3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C326-2C93-43EE-B7DB-6467F09E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DC3C-EBA3-46B8-B7FA-6D957FB3A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5ACA-3C62-4A40-9CEA-4D8740CD8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5E6E-EB30-4421-839F-4762A260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A2F0-5C7A-420B-87F1-FF75632D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E9C9-F4DE-461E-835D-6889D591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4843-F90A-476C-ABD4-8D189B2D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A54B-2F52-4801-BBE9-FDB6B638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F4A4-7A5B-4F75-9727-6B081C7B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8949-5546-4E63-8D21-3552CB87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7A1F-2C6A-4B34-97FA-CDBD387A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B974-F7C4-4994-B3DB-D6EF2B6634E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500040" y="3143160"/>
            <a:ext cx="82868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Arrond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(à l’unité, au 10</a:t>
            </a:r>
            <a:r>
              <a:rPr b="0" lang="fr-FR" sz="4400" spc="-1" strike="noStrike" baseline="30000">
                <a:solidFill>
                  <a:srgbClr val="ff0000"/>
                </a:solidFill>
                <a:latin typeface="Arial"/>
              </a:rPr>
              <a:t>ème</a:t>
            </a: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, au 100</a:t>
            </a:r>
            <a:r>
              <a:rPr b="0" lang="fr-FR" sz="4400" spc="-1" strike="noStrike" baseline="30000">
                <a:solidFill>
                  <a:srgbClr val="ff0000"/>
                </a:solidFill>
                <a:latin typeface="Arial"/>
              </a:rPr>
              <a:t>ème</a:t>
            </a: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…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3,872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dix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25,7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dix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35,71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dix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4,872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dix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13,8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à l’unité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27,138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285840" y="1714680"/>
            <a:ext cx="87152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cent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9,6428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14200" y="1714680"/>
            <a:ext cx="87868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cent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8,7329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214200" y="1714680"/>
            <a:ext cx="8715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cent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17,138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14200" y="1714680"/>
            <a:ext cx="8715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cent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12,82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à l’unité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09-11T17:05:36Z</dcterms:modified>
  <cp:revision>23</cp:revision>
  <dc:subject/>
  <dc:title>8 x 4</dc:title>
</cp:coreProperties>
</file>