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B0F-3241-453C-81B6-50E11F84A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19F1-0F43-495C-B523-BB3881B0D9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81B7-013D-4E77-8CDA-8FE3E742F4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8F9B-49B6-422B-87B6-F8D8F49232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5104-9C46-4C20-95D9-6C6C12CB7A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B4E5-CEC0-4E6A-AF40-2DD99A2C7C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9BD0-A787-4003-AF9E-0F5523D9A4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D34-2231-4533-808C-B87B1662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9D2-2B7C-4841-BFFE-63578304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E7A-EF5F-403C-A749-A3BB35A7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D90-FCF1-4CF6-A61F-15451213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C66-F797-4D9F-8AE1-ED81CC3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FC9-3550-432E-A3C0-B1E70C2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DAD-34E1-4FB9-90C3-847854E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3AD-DACA-4F00-864F-FD5FC8D1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576-6AA9-4CF7-B750-E904418F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DB2-3391-4D0E-8B11-01F40B0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E9F-160E-4B46-8047-D0FD32E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1DE-BB09-4059-94E7-9693258C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791-E918-4C97-96B5-DC9AE00B52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4:08Z</dcterms:modified>
  <cp:revision>49</cp:revision>
  <dc:subject/>
  <dc:title>8 x 4</dc:title>
</cp:coreProperties>
</file>