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18FE-970C-4D3C-8C43-E0CDAAF14C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72C8-2603-48AD-AFD7-2A5069E49C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776-1694-4B64-A02F-4E7DEBFB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E7F-ED04-4D31-8297-15B9F2F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4B8-FB57-4CB3-AFD4-412B431C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0CE-C175-4526-ADD8-2E896B0E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692-4E74-4425-B197-618B01D4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37D-3446-495A-8C32-A0748AED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690-BEB4-4659-9597-DF334B5C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769-99CA-422D-AA79-6287B498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144-35B2-4D6A-B872-ACDA2D2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E8E-E0E0-4D93-A99D-506B78B1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626-0342-4CAD-88F6-0455C61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635-FD0D-42C2-AFEF-6DBA967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B9D4-56E8-40FB-96D3-FDCB61B5B1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dans un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5929200" y="2617920"/>
                <a:ext cx="2571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5929200" y="2585880"/>
                <a:ext cx="2571840" cy="10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10-01-21T14:49:46Z</dcterms:modified>
  <cp:revision>36</cp:revision>
  <dc:subject/>
  <dc:title>8 x 4</dc:title>
</cp:coreProperties>
</file>