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613-C317-45A5-A397-ECC1125DB1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6AE-4E16-41D1-8AFD-DB73824E15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6B1-D969-4A79-8EFB-EFFD67B0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154-0C78-44FC-B685-50C5A54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84F-605C-459A-9F7C-D4FD35F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2F5-0532-48D2-83B6-7949B18B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45A-A616-4EC5-9E4E-6B95E4D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E79-6B16-4D58-A1C8-343AF23A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927-368F-4827-A9A2-3DBEA1A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6CA-C49D-4D2F-B874-E2CE406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A1F-3E0B-4829-BCB5-289D4C1C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0CA-EC4A-440C-856C-FAEACD3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F94-0A48-4CB9-B9EA-B64B64D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B1A-04C8-4AFD-9D4B-0DD24B1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FD75-890B-44D1-B860-967CCF89378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’addi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9:01Z</dcterms:modified>
  <cp:revision>23</cp:revision>
  <dc:subject/>
  <dc:title>8 x 4</dc:title>
</cp:coreProperties>
</file>