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989A-99A0-481E-81A9-85763BFDB3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B3D5-3819-407B-A14A-7D2BF7D135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38E-EEEE-434A-8701-18A0BE2F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79C-6E93-4A9F-A0D9-E3E79695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9A2-EB69-47CF-9C07-8A70A514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3E6-866F-4833-8E04-C4358DB7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819-F9EE-476E-BEFD-8824F42F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028-6407-45FA-B04B-3F874DCF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BD4-963E-4213-930E-EEBD81E7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6EB-A72E-42E6-871F-A4B84F3F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955-9155-4FD1-85BB-84DEC332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485-7A84-45E4-83ED-6777F5F8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56E-B200-4FE0-9438-A750E5E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C09-7D06-45A8-A161-FF3538A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711D-58DF-4A4D-B661-7EF6CEC71D2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4:28Z</dcterms:modified>
  <cp:revision>45</cp:revision>
  <dc:subject/>
  <dc:title>8 x 4</dc:title>
</cp:coreProperties>
</file>