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53E2-5029-47B6-B5F4-DD8CD4DED2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A217-E892-4674-843D-4D06B35369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C50-4A69-4EDF-B0D8-A0AFA65D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200-64B0-4BBF-8544-45ADDD0C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759-33A9-4119-AB75-13DD282D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395-7BBE-445D-9D65-12DDFF1B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3DC-EA56-4E40-A9B1-14D4A6B2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F36-2E87-4376-B5AB-E2BB892A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81CE-01A1-467D-8C4F-296C0F08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F6A-2925-478E-8E65-DA8AEF4F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376-70D5-482C-B33D-03BED335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46A4-BF29-4C80-803F-9BBB1BB8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BBA-AD88-4155-813F-DBEC5D41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A6E-FE5E-412C-B3E7-B6E38900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C226-EFAA-4D8C-8E25-70CC2B91A27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Géométr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Triangles et droites remarqu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6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rcRect l="3352" t="5873" r="3816" b="8872"/>
          <a:stretch/>
        </p:blipFill>
        <p:spPr>
          <a:xfrm>
            <a:off x="571680" y="3214800"/>
            <a:ext cx="5929200" cy="207144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8"/>
          <p:cNvSpPr/>
          <p:nvPr/>
        </p:nvSpPr>
        <p:spPr>
          <a:xfrm>
            <a:off x="5214960" y="46432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  -  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10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8648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3414" t="10628" r="7914" b="11414"/>
          <a:stretch/>
        </p:blipFill>
        <p:spPr>
          <a:xfrm>
            <a:off x="642960" y="3429000"/>
            <a:ext cx="5429160" cy="229716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7"/>
          <p:cNvSpPr/>
          <p:nvPr/>
        </p:nvSpPr>
        <p:spPr>
          <a:xfrm>
            <a:off x="6929280" y="3857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rcRect l="3352" t="5873" r="3816" b="8872"/>
          <a:stretch/>
        </p:blipFill>
        <p:spPr>
          <a:xfrm>
            <a:off x="571680" y="3214800"/>
            <a:ext cx="5929200" cy="207144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6"/>
          <p:cNvSpPr/>
          <p:nvPr/>
        </p:nvSpPr>
        <p:spPr>
          <a:xfrm>
            <a:off x="5214960" y="46432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  -  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8648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rcRect l="3414" t="10628" r="7914" b="11414"/>
          <a:stretch/>
        </p:blipFill>
        <p:spPr>
          <a:xfrm>
            <a:off x="642960" y="3429000"/>
            <a:ext cx="5429160" cy="2297160"/>
          </a:xfrm>
          <a:prstGeom prst="rect">
            <a:avLst/>
          </a:prstGeom>
          <a:ln w="0">
            <a:noFill/>
          </a:ln>
        </p:spPr>
      </p:pic>
      <p:sp>
        <p:nvSpPr>
          <p:cNvPr id="73" name="ZoneTexte 7"/>
          <p:cNvSpPr/>
          <p:nvPr/>
        </p:nvSpPr>
        <p:spPr>
          <a:xfrm>
            <a:off x="6929280" y="3857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14T05:36:28Z</dcterms:modified>
  <cp:revision>30</cp:revision>
  <dc:subject/>
  <dc:title>8 x 4</dc:title>
</cp:coreProperties>
</file>