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82726-2D6D-434B-823A-30DFCBA2247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931A6-885A-4A57-90AE-9F28E4AAAC2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BB0C-F5D9-4365-9129-DF0BC312B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E434-A62C-4D37-A846-6630BCC9E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3D61-8948-4E7D-9D1D-7859B3BA8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80BA-A3D0-4362-ACF0-96F30B682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0118-1AD6-4A48-94D9-AD3196DC2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A000-387A-420B-BC60-8E600765E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2C5D-5491-40AA-BDFF-CE1BE9CF9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46D8-CA8F-4AF0-91F2-0797678C7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C534-85E2-4283-A945-890484431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29E7-2823-4F19-AF95-65BBC686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8A2E-E0EF-4DA6-B82B-A95FA1B4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194C-6BEA-4E21-B1FC-21CF063C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10FF5-B417-4C3F-9B00-B2DB2B9A8B4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357120" y="3143160"/>
            <a:ext cx="857268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Initiation au calcul litté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Développements et factoris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571680" y="1714680"/>
            <a:ext cx="814356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évelopper le produit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6"/>
              <p:cNvSpPr txBox="1"/>
              <p:nvPr/>
            </p:nvSpPr>
            <p:spPr>
              <a:xfrm>
                <a:off x="1143000" y="3227400"/>
                <a:ext cx="6789600" cy="18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571680" y="1714680"/>
            <a:ext cx="814356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évelopper le produit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6"/>
              <p:cNvSpPr txBox="1"/>
              <p:nvPr/>
            </p:nvSpPr>
            <p:spPr>
              <a:xfrm>
                <a:off x="1143000" y="3227400"/>
                <a:ext cx="6789600" cy="18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571680" y="1714680"/>
            <a:ext cx="814356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évelopper le produit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6"/>
              <p:cNvSpPr txBox="1"/>
              <p:nvPr/>
            </p:nvSpPr>
            <p:spPr>
              <a:xfrm>
                <a:off x="2235240" y="3227400"/>
                <a:ext cx="4603680" cy="18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571680" y="1714680"/>
            <a:ext cx="814356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actoriser la différence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6"/>
              <p:cNvSpPr txBox="1"/>
              <p:nvPr/>
            </p:nvSpPr>
            <p:spPr>
              <a:xfrm>
                <a:off x="2408400" y="3227400"/>
                <a:ext cx="4259160" cy="18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571680" y="1714680"/>
            <a:ext cx="814356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actoriser la somme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6"/>
              <p:cNvSpPr txBox="1"/>
              <p:nvPr/>
            </p:nvSpPr>
            <p:spPr>
              <a:xfrm>
                <a:off x="2292480" y="3343320"/>
                <a:ext cx="4489200" cy="16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571680" y="1714680"/>
            <a:ext cx="814356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évelopper le produit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2235240" y="3227400"/>
                <a:ext cx="4603680" cy="18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571680" y="1714680"/>
            <a:ext cx="814356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évelopper le produit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6"/>
              <p:cNvSpPr txBox="1"/>
              <p:nvPr/>
            </p:nvSpPr>
            <p:spPr>
              <a:xfrm>
                <a:off x="2235240" y="3227400"/>
                <a:ext cx="4603680" cy="18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71680" y="1714680"/>
            <a:ext cx="814356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actoriser la somme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6"/>
              <p:cNvSpPr txBox="1"/>
              <p:nvPr/>
            </p:nvSpPr>
            <p:spPr>
              <a:xfrm>
                <a:off x="2349360" y="3343320"/>
                <a:ext cx="4373640" cy="16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571680" y="1714680"/>
            <a:ext cx="814356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actoriser la différence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6"/>
              <p:cNvSpPr txBox="1"/>
              <p:nvPr/>
            </p:nvSpPr>
            <p:spPr>
              <a:xfrm>
                <a:off x="2351160" y="3227400"/>
                <a:ext cx="4373640" cy="18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71680" y="1714680"/>
            <a:ext cx="814356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évelopper le produit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6"/>
              <p:cNvSpPr txBox="1"/>
              <p:nvPr/>
            </p:nvSpPr>
            <p:spPr>
              <a:xfrm>
                <a:off x="2178000" y="3227400"/>
                <a:ext cx="4719600" cy="18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9-03-12T21:19:00Z</dcterms:modified>
  <cp:revision>33</cp:revision>
  <dc:subject/>
  <dc:title>8 x 4</dc:title>
</cp:coreProperties>
</file>