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E48-D2F7-4BEE-8ECC-8F0C50B2A7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1733-4339-4DCF-83D0-1DA5DEB32D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BB44-9D76-4149-9B6C-E0B6F60F00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B511-090D-4532-8D03-D9DCB891AD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B302-F620-424E-9A57-9B6DCB9161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9AAB-78BD-4E21-B862-F7C8391F01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BDBF-E10C-4147-BE1C-460628821D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E7C-05C7-40B3-AD72-D4E0700E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006-49A2-411A-933D-D23456D8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657-656B-46A2-91D4-8D21521B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78E-1114-4023-B56E-64168C97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C3D-C48B-46C5-BE27-0020C1AF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9D8-372B-4DAC-9889-702E7EB2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3F7-3AFB-4C11-895F-565D0123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282-F64B-4693-916D-60CFA6EF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CB8-6367-4233-B5A3-6A832BC0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4A7-BDC8-4123-98FD-E1EA4D6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9CA-FE47-4EF7-8E7E-DEAE6C6F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6F6-F439-4D14-81D4-51CAAF24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8E62-8FBE-4BAE-87F9-6C15E7CF18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5:47Z</dcterms:modified>
  <cp:revision>51</cp:revision>
  <dc:subject/>
  <dc:title>8 x 4</dc:title>
</cp:coreProperties>
</file>