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D81C-17C7-41C4-BA60-B9A6053068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C5DA-7CBA-4CA2-A1BA-337EC869BD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79E-FC83-4246-B79A-78EEB826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134-1E60-4AF1-9379-22EA715B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6FF-587C-45C7-8D51-63DA0B90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B69-2FDE-4414-BA99-F929EFBE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F9F-6856-4CCB-BF0B-007AA996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52F-1B85-45B7-9FF0-E7A564E0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955-1019-4E81-AA6B-7846A69C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669-D2A0-4269-B232-144C1F5F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908-6CBF-47C5-A334-160E9D26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E0F-8697-4509-9A3E-982D6F3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D72-2FBE-4B23-BB54-9EB6560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9FE-C415-47F0-9A8B-B160A7C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DDB5-4CDC-4118-BF67-A51CBC03C56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3:16Z</dcterms:modified>
  <cp:revision>20</cp:revision>
  <dc:subject/>
  <dc:title>8 x 4</dc:title>
</cp:coreProperties>
</file>