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24BB-25F1-4396-9442-18BEE407DE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6D99-4750-47B2-836D-374B63E0B0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3BC-829F-4B3B-924D-C5F232AA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FAC-A09C-4206-A3DA-97B36F30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045-8D09-4480-912B-2F32C130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743-350B-4990-B4D6-BE70DAAC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3FF-74AA-46E0-B0D0-8F15698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B60-1A25-4F8F-B80A-FB19EFAE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1D4-63FA-40A7-8AFE-9093DCA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012-BC1C-4B5E-A45E-4DE72571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A51-10CF-432A-8C67-7A32DD85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D8F-B564-44AD-8AB9-B564097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344-84F2-44FA-BA0B-B6E2B116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EB0-2923-4406-A824-D88D6E95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4EB-826F-4044-9ECF-0D1B6224B67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rganiser astucieusement une somm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1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35728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2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43 + 85 + 17 + 7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8429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63 + 85 + 17 + 5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2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3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24Z</dcterms:modified>
  <cp:revision>23</cp:revision>
  <dc:subject/>
  <dc:title>8 x 4</dc:title>
</cp:coreProperties>
</file>