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3EA-C723-4472-BD32-D14E138CD6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26B-F219-48BB-B8BC-0D586F662B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A7B-A3D5-4E92-95A3-FBFFBDA5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CFE-801F-4615-86A6-68F71B9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B54-4417-4752-B435-6FA9EB47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36E-3CCD-49BE-BE16-E0FA0B15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77F-D6BF-4B45-9E96-ED30DB89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9FA-7C39-4F75-A041-508CF75E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AD0-9437-4BB4-92D2-B924E88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A91-D645-4169-86C5-5D0B058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34F-4678-4838-9DBB-825E4357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F16-A320-4188-B1CC-87AA98F4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669-F19A-4588-8064-4FB7BEF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709-4A39-44A9-90C0-188BDF9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0E45-D0E9-4F41-A98F-9A003DF02A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3:36Z</dcterms:modified>
  <cp:revision>39</cp:revision>
  <dc:subject/>
  <dc:title>8 x 4</dc:title>
</cp:coreProperties>
</file>