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199-F788-4B97-89A7-3CD958B46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6441-3011-4139-88D1-163CC6F842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248-4EA1-48F5-A375-9891E37A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CE6-BBA7-4836-A106-9DFF252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ACC-1E90-4254-9F06-21BEB3DE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150-E6CD-4A57-A5F5-ED66B4D2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C1C-7390-42EC-AA36-872D860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2B1-0177-4CD8-B8B0-7426499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CFE-F14E-4A04-AA0C-CD1D056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B49-414D-410F-BDC1-F42360C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A97-9109-43E1-A937-833FF1E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F2C-A522-4E53-A79A-E6511BB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B6F-23DE-485E-8900-418F4BE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7B6-5BE8-4EAC-AB2E-61A97C5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789-F20B-483E-B895-824FD9BE686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Multiplier par 9 et pa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3:00Z</dcterms:modified>
  <cp:revision>16</cp:revision>
  <dc:subject/>
  <dc:title>8 x 4</dc:title>
</cp:coreProperties>
</file>