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86D4-B041-4E43-A3C9-C82AEDF0F5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8B6A-842F-4693-96EE-950FC13A60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2BE-E0D2-4992-9218-D41F0D07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320-F107-4623-B729-7EB1E4F4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BD7-62AC-42FF-8410-C783302B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6AE-CCAA-4BDE-853C-F9CA224F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E11-3636-4204-8358-DB68777A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F7C-8120-4945-AF48-89D7F463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D09-EEDB-4E36-935F-601C6BA8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75D-2A11-4C92-9EC3-6076F681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B01-F280-4E64-930A-0FD6F18E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D49-6284-4886-8A5F-4D5101DD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9E8-7F1C-40D9-930E-7D6F893A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010-8689-4DAC-BEA5-C1B9461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ACC8-59E9-4630-8A58-C5338AF36F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a soustrac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0:25Z</dcterms:modified>
  <cp:revision>25</cp:revision>
  <dc:subject/>
  <dc:title>8 x 4</dc:title>
</cp:coreProperties>
</file>