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89A7-A137-4F13-B42D-5706CCAC3A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EE33-EA5B-4AC1-BD29-E1773E9E31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94B-9BB1-4664-83A9-FF31848D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75E-C419-4929-B9D5-11AFECCA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C5E-E8AE-4EBD-B1D4-A58B7493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9C5-AB9C-4EFD-B403-8D9112F1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D24-20CB-4EC5-9A6C-71C1823E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A02-496C-4B63-9A91-BA0251F5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733-6867-4D85-A269-D20A3D1A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769-1442-4AE0-9E07-93D0C235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29D-83ED-4A4B-BED5-9DA81B30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560-48AB-4339-9FBD-9F78E7B4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38B-200C-4AB6-8FA2-4BD99C7F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CBE-2080-4D9A-B528-3D6F2E80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D2B4-A814-4DCF-A955-5FEAF74636C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arallélogrammes particu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quadrilatère a ses diagonales perpendiculaires et de même longueur, alors c’est un carré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dont les diagonales sont de même longueur 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losange a ses diagonales de même longueurs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quadrilatère a ses diagonales perpendiculaires et de même longueur, alors c’est un carré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parallélogramme a ses diagonales perpendiculaires, alors c’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losange a ses diagonales de même longueurs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ayant deux côtés consécutifs de même longueur est un losang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parallélogramme a ses diagonales perpendiculaires, alors c’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dont les diagonales sont de même longueur 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ayant deux côtés consécutifs de même longueur est un losang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4-12T09:10:46Z</dcterms:modified>
  <cp:revision>39</cp:revision>
  <dc:subject/>
  <dc:title>8 x 4</dc:title>
</cp:coreProperties>
</file>