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EE4E-5342-4360-846A-8198327234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46B6-7C6D-4ED9-8535-7FF8AE21E2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D8B2-37D7-4F2C-8123-40A1435E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FFF8-6511-459D-BE18-AC67A96F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7C0-F407-4CB3-A8B9-855B4BB0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CAF-19ED-4027-81C2-26B912C3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5781-EBA7-488C-B43F-4820A8D3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8A6-F177-428F-8D67-C8858CD0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9399-DAC5-4557-A5C5-61B9A561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A86-F6A6-424A-AED1-623E1782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77A3-DA2E-4507-9270-5A040BD4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36F0-2E3B-41D8-9807-083798EC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989C-87A1-4AEA-BD8B-7A4FD7CF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C610-8370-47F8-A088-7BF79075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8901-E7BF-42D6-AF2B-684770F31C7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00040" y="3143160"/>
            <a:ext cx="8286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Arron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à l’unité, au 10</a:t>
            </a:r>
            <a:r>
              <a:rPr b="0" lang="fr-FR" sz="44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, au 100</a:t>
            </a:r>
            <a:r>
              <a:rPr b="0" lang="fr-FR" sz="44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…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2,87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5,7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5,8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,98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4,82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7,237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85840" y="1714680"/>
            <a:ext cx="8715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,642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14200" y="1714680"/>
            <a:ext cx="878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,732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9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2,8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18T08:39:42Z</dcterms:modified>
  <cp:revision>24</cp:revision>
  <dc:subject/>
  <dc:title>8 x 4</dc:title>
</cp:coreProperties>
</file>