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72ED-7C2E-4B95-99DB-489BA8568EC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2817-CBF3-47B9-AD3A-7A10EC38EEB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EBD3-C7F7-46D2-9FCD-CB12952A6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30AE-0EDE-40C0-BDCF-EB5874BE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DB78-74D8-442A-929E-BD732C770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352B-03DE-4F11-9575-0AD8BCC3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0158-A1C9-426D-84E9-18BC56C4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9CD4-455A-4EBC-83D0-52FD3589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7E79-F5FC-4FE8-839B-FFE2AADA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7DD8-7455-4576-BD9F-2D1CCEE2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C86E-BC00-477E-8A26-644E0302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38A5-8685-4888-95C2-57F93B9E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BDAC-7CDF-4332-8E93-4FEECC6C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1327-DE71-4AA1-8832-C01FDA76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6559-39EA-4A89-92FA-7481345317C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Géométri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Angles et vocabula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oneTexte 7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1"/>
          <a:srcRect l="4388" t="3356" r="5703" b="12559"/>
          <a:stretch/>
        </p:blipFill>
        <p:spPr>
          <a:xfrm>
            <a:off x="642960" y="3143160"/>
            <a:ext cx="4786200" cy="2917800"/>
          </a:xfrm>
          <a:prstGeom prst="rect">
            <a:avLst/>
          </a:prstGeom>
          <a:ln w="0">
            <a:noFill/>
          </a:ln>
        </p:spPr>
      </p:pic>
      <p:cxnSp>
        <p:nvCxnSpPr>
          <p:cNvPr id="88" name="Connecteur droit avec flèche 10"/>
          <p:cNvCxnSpPr/>
          <p:nvPr/>
        </p:nvCxnSpPr>
        <p:spPr>
          <a:xfrm flipH="1" flipV="1">
            <a:off x="1071000" y="3642480"/>
            <a:ext cx="2858040" cy="3582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89" name="Connecteur droit avec flèche 12"/>
          <p:cNvCxnSpPr/>
          <p:nvPr/>
        </p:nvCxnSpPr>
        <p:spPr>
          <a:xfrm>
            <a:off x="4070880" y="4142880"/>
            <a:ext cx="429480" cy="14295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7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1"/>
          <a:srcRect l="12313" t="20834" r="10097" b="10709"/>
          <a:stretch/>
        </p:blipFill>
        <p:spPr>
          <a:xfrm>
            <a:off x="357120" y="3000240"/>
            <a:ext cx="5478480" cy="26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rcRect l="9292" t="3991" r="11065" b="6253"/>
          <a:stretch/>
        </p:blipFill>
        <p:spPr>
          <a:xfrm>
            <a:off x="357120" y="2768760"/>
            <a:ext cx="5143680" cy="3857400"/>
          </a:xfrm>
          <a:prstGeom prst="rect">
            <a:avLst/>
          </a:prstGeom>
          <a:ln w="0">
            <a:noFill/>
          </a:ln>
        </p:spPr>
      </p:pic>
      <p:sp>
        <p:nvSpPr>
          <p:cNvPr id="53" name="ZoneTexte 6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0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rcRect l="4388" t="3356" r="5703" b="12559"/>
          <a:stretch/>
        </p:blipFill>
        <p:spPr>
          <a:xfrm>
            <a:off x="642960" y="3143160"/>
            <a:ext cx="4786200" cy="2917800"/>
          </a:xfrm>
          <a:prstGeom prst="rect">
            <a:avLst/>
          </a:prstGeom>
          <a:ln w="0">
            <a:noFill/>
          </a:ln>
        </p:spPr>
      </p:pic>
      <p:cxnSp>
        <p:nvCxnSpPr>
          <p:cNvPr id="58" name="Connecteur droit avec flèche 12"/>
          <p:cNvCxnSpPr/>
          <p:nvPr/>
        </p:nvCxnSpPr>
        <p:spPr>
          <a:xfrm flipH="1" flipV="1">
            <a:off x="1071000" y="3642480"/>
            <a:ext cx="2858040" cy="3582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59" name="Connecteur droit avec flèche 13"/>
          <p:cNvCxnSpPr/>
          <p:nvPr/>
        </p:nvCxnSpPr>
        <p:spPr>
          <a:xfrm>
            <a:off x="4070880" y="4142880"/>
            <a:ext cx="429480" cy="14295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8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1"/>
          <a:srcRect l="7975" t="5841" r="10903" b="8443"/>
          <a:stretch/>
        </p:blipFill>
        <p:spPr>
          <a:xfrm>
            <a:off x="214200" y="2500200"/>
            <a:ext cx="5500800" cy="39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rcRect l="9292" t="3991" r="11065" b="6253"/>
          <a:stretch/>
        </p:blipFill>
        <p:spPr>
          <a:xfrm>
            <a:off x="357120" y="2768760"/>
            <a:ext cx="5143680" cy="3857400"/>
          </a:xfrm>
          <a:prstGeom prst="rect">
            <a:avLst/>
          </a:prstGeom>
          <a:ln w="0">
            <a:noFill/>
          </a:ln>
        </p:spPr>
      </p:pic>
      <p:sp>
        <p:nvSpPr>
          <p:cNvPr id="67" name="ZoneTexte 9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ZoneTexte 7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rcRect l="5557" t="7051" r="6943" b="8307"/>
          <a:stretch/>
        </p:blipFill>
        <p:spPr>
          <a:xfrm>
            <a:off x="285840" y="3000240"/>
            <a:ext cx="5500440" cy="31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oneTexte 8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rcRect l="7975" t="5841" r="10903" b="8443"/>
          <a:stretch/>
        </p:blipFill>
        <p:spPr>
          <a:xfrm>
            <a:off x="214200" y="2500200"/>
            <a:ext cx="5500800" cy="39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ZoneTexte 8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rcRect l="12313" t="20834" r="10097" b="10709"/>
          <a:stretch/>
        </p:blipFill>
        <p:spPr>
          <a:xfrm>
            <a:off x="357120" y="3000240"/>
            <a:ext cx="5478480" cy="26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ZoneTexte 7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1"/>
          <a:srcRect l="5557" t="7051" r="6943" b="8307"/>
          <a:stretch/>
        </p:blipFill>
        <p:spPr>
          <a:xfrm>
            <a:off x="285840" y="3000240"/>
            <a:ext cx="5500440" cy="3143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01-18T22:24:53Z</dcterms:modified>
  <cp:revision>41</cp:revision>
  <dc:subject/>
  <dc:title>8 x 4</dc:title>
</cp:coreProperties>
</file>