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89E6-E4BE-4D6E-B550-3F08ADF060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B051-F19B-4678-9184-C0E1357DF1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DBF-310A-4614-A3A1-4FE333B2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B5B-5B06-40A9-95AB-FE59036B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54D-2DBA-4BCC-BF37-135EABDD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CCA-0550-4860-87A4-49D86E73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729-E374-4CF5-86C8-CAD607C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6B3-A4D9-41B9-9969-1C218009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2CC-397B-498F-9031-8A7BAEA6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014-C106-4715-9559-0D569190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64D-77E5-482B-9B73-E39F26D4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D4D-76BD-4452-ADB5-DD20821B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86D-CDF5-4BBF-98C5-29C8BAE5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1E9-98C2-4AAF-931F-CDA6052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6785-6C5C-4601-AC8B-AABDA35F65D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 les priorités opératoires (avec parenthè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3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4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8 × (5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8 × (5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[4 × (8 – 5)] × 2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[3 × (9 – 5)] × 2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56:07Z</dcterms:modified>
  <cp:revision>32</cp:revision>
  <dc:subject/>
  <dc:title>8 x 4</dc:title>
</cp:coreProperties>
</file>