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64D4-FC9E-49BE-AE3D-501C85F445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E034-2073-4FBF-B8B0-0332F42F05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9F9-2BAB-47E2-9945-6B7D426C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A79-D781-43A9-B6EC-B03FF08C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AE7-BFBD-4F09-8912-3B7CF0A6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71B-E9D2-4C4F-96A4-A31AD2FF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40A-2931-4AEF-AE34-5F54D65F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03A-1575-414C-97A7-D1DD803C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E65-2ACE-4203-8D8B-651270FC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C9E-0728-4CB5-84B1-0FA9B21E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CA7-9587-4C24-96D2-8E9220E5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FFBD-F4F5-4CCF-9B7A-AA229CFE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6BD-D717-4BD4-8400-B67006DB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A4A-E00E-4B88-A75B-3E9D38A6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DA72-0664-467E-BFFC-A57E10A1F1E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 ou la différence de deux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sans reten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,24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5,79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 1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,6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5,81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3,1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,358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2,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,457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2,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5,79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 1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,24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5,81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3,1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,3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6:58:45Z</dcterms:modified>
  <cp:revision>17</cp:revision>
  <dc:subject/>
  <dc:title>8 x 4</dc:title>
</cp:coreProperties>
</file>