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844F-95BA-4EA9-B48D-1958B94D1E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F1C4-60D2-4F82-80F8-A95671B6EA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03D-8CFC-4AE9-92B8-76EB95BD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D1C-2650-4BB7-9072-F316BC4F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85D-E3F3-45CA-9614-B9E4AC69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033-6AF5-4BF1-B023-4D83D42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909-2F29-467D-9D83-7D3DE64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3F6-3C37-4BEF-B289-4BA704C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D31-6AC5-40D2-96B6-0A7BF29C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30F-9F92-400E-BB54-46EB6B7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30A-0672-4FC4-BF0E-85A60976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425-6BA5-4073-B0CA-3360A5A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72F-01B7-4191-97D9-9B6444EF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89F-3845-4100-B753-E64EF697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24D-2B15-4301-8B34-AE1426CDA0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 et 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3:49Z</dcterms:modified>
  <cp:revision>44</cp:revision>
  <dc:subject/>
  <dc:title>8 x 4</dc:title>
</cp:coreProperties>
</file>