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295F-AF91-416F-BCFB-CE69F416C4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1593-956B-458D-B77A-8148E124DF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83F-5FCA-445F-9E1E-D75882C5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04A-1DC9-486F-A8F4-669D6640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DAF-AA0A-4CDB-B841-95234692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276-CBB6-4C8D-A6FB-0D54F590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E49-FF68-4905-929A-AA1F594C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FD3-5A55-4304-90A0-EF257464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6BA-FB86-4DAD-98B7-BBFB085D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816-7E47-457F-980F-94574E3C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A68-B781-481D-B66C-8FFD2BE3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6DC-9C97-4C51-B1E5-FFA1703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3C2-7DA9-4FB8-BF39-DC530B9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BD2-77FC-4C77-B50F-4072624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F9B-118C-4F47-B4F3-07EF6FE1CC3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4:54Z</dcterms:modified>
  <cp:revision>40</cp:revision>
  <dc:subject/>
  <dc:title>8 x 4</dc:title>
</cp:coreProperties>
</file>