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514E-75A0-4954-9056-0F56F9A864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35D6-F0E5-4B16-BB03-E454E4D94C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13E-7100-40FC-A6B9-9E21A071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A7D-FF91-4677-B455-837B2706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CF8-0DED-44C7-BEE0-624BFD0E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8E21-71A8-4F5B-B1C8-ACA0E4AE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028E-FE2B-45C3-9F4E-8D7D8536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CF5-9151-4A70-BA51-FA10674D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CA2C-4378-41A2-99C3-3E838E2F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574-6F8E-44CE-9633-56AC9149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F265-DF1C-41BF-ADA6-B6462877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4C5-41C4-446E-8686-CF44D91E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0C9F-89D0-47F3-B81E-C2A6A400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310E-736A-4266-AB8F-E757CA86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AD5F-2855-42AA-A499-F67EEA10930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omparaison de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compléter par &lt; ou &gt;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8"/>
              <p:cNvSpPr txBox="1"/>
              <p:nvPr/>
            </p:nvSpPr>
            <p:spPr>
              <a:xfrm>
                <a:off x="5313240" y="2428920"/>
                <a:ext cx="17290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8"/>
              <p:cNvSpPr txBox="1"/>
              <p:nvPr/>
            </p:nvSpPr>
            <p:spPr>
              <a:xfrm>
                <a:off x="5313240" y="2428920"/>
                <a:ext cx="17290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6"/>
              <p:cNvSpPr txBox="1"/>
              <p:nvPr/>
            </p:nvSpPr>
            <p:spPr>
              <a:xfrm>
                <a:off x="2130480" y="2428920"/>
                <a:ext cx="1380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8"/>
              <p:cNvSpPr txBox="1"/>
              <p:nvPr/>
            </p:nvSpPr>
            <p:spPr>
              <a:xfrm>
                <a:off x="5141880" y="2428920"/>
                <a:ext cx="20750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2189160" y="2428920"/>
                <a:ext cx="12654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10:57Z</dcterms:modified>
  <cp:revision>36</cp:revision>
  <dc:subject/>
  <dc:title>8 x 4</dc:title>
</cp:coreProperties>
</file>