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6F8E-FA39-443E-91F9-A1B6CC87EC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C512-1326-46C2-A7C6-CC16D20A51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3ABF-E0A6-4BE5-A0BF-FD38860A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DCDA-C6AC-497B-97B9-695C443F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7D01-F3D4-4B02-B60C-D42E2772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4EE2-2EC1-425E-A04C-208AF6931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CB18-92E4-4FFE-B46A-6A6FD214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0405-BF3C-4908-98FD-5A7414E6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1CDD-B302-4F3D-B838-F67CFDF7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810E-34EB-4769-82A5-3FF44661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6163-6549-48DB-BEED-E266A2D1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E977-35FF-4CC8-B780-42CFAEB1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3EF1-D4F1-4DDD-87BE-645CAC96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F1E4-11FC-4CA1-8CB2-540FA503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DA15-C3E4-466F-BF5A-0E932A44090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en respect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les priorités opérato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30 – [3 × (4 + 3)]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9 × (3 + 5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4 + 4 × 7 – 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(3 + 4) × (9 – 2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9 × (3 + 5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4 + 4 × 7 – 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(3 + 4) × (9 – 2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40 – [3 × (4 + 3)]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12:16Z</dcterms:modified>
  <cp:revision>36</cp:revision>
  <dc:subject/>
  <dc:title>8 x 4</dc:title>
</cp:coreProperties>
</file>