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CED-FD7E-4620-8E60-872B3B539E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E7EF-9D9B-4388-BAC1-F2DEE92870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1DA-90BB-43E6-8AAD-8268E8D1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42E-7F0F-40C5-A123-FE7DCE8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015-52EB-4A92-AF09-EE8B5BBC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A7D-725C-4276-9995-E3EB98C2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7A0-4C45-4B9A-A083-43FD475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F9F-8E13-4FC1-94F5-827E881C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D35-1F33-46F2-8B96-CF7460A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5E4-15BB-417D-A816-70E91A8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2FE-E610-4A45-B57D-92F2626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83D-25C7-42D8-8035-1462DF8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660-57F9-42AB-852B-82379E2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DF3-7A68-4D06-A820-D98B34F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7226-16A9-4CF1-BEC1-E23E811394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évisions de 6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2 :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 x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6 x 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56 + 5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 x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7,7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6 × 8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58 x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,2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49:30Z</dcterms:modified>
  <cp:revision>14</cp:revision>
  <dc:subject/>
  <dc:title>8 x 4</dc:title>
</cp:coreProperties>
</file>