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DD84-4CBF-427A-B0EE-F22F47B24A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F440-E0FD-4869-A5BB-E86C3E24F9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522-C5D1-46C9-BBD1-6AAB0A5D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F17-1EFA-4BA2-BA46-1C00071B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158-C2B2-4523-812F-9766D349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9CE0-392C-4A80-95C9-42A36D87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2523-687B-4486-BAC6-1E1868AA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8E6-FF39-42A1-ADE9-FEFBA0EB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82D-BCCF-44C7-B83E-245326C6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D48-99D4-47A3-9AFB-E0AA6850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7169-A542-4C99-AA74-B51101D2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A36-0D0D-44E8-859E-A7DD2FEA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EEF-6140-4403-B6B9-30965E55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52B-68E1-4D7D-A590-FB4A7F32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2894-16DE-4613-BBDF-50EB98D6876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et opé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addi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1357200" y="2357280"/>
                <a:ext cx="64436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1357200" y="2357280"/>
                <a:ext cx="64436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28T12:47:56Z</dcterms:modified>
  <cp:revision>42</cp:revision>
  <dc:subject/>
  <dc:title>8 x 4</dc:title>
</cp:coreProperties>
</file>