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CD9A-77D5-4D7C-AF8C-D7BB16589B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5D52-99A9-4256-92B4-2B9497836A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4CDC-B686-433C-B3AA-46350A2A23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B2DE-8411-44A0-B872-E3E2E1A538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35B1-0A4F-43AB-85C4-E2480DEA9D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7913-1654-427E-B3A8-980F9A214E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A2CD-FFB5-4498-AAEB-A60A2E8336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2F10-F2B2-4CC0-A7BE-D4A94BB61D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483A-8DA8-4BF6-A82B-C10A513637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2BBD-8EA3-41F5-B11A-F9598C4ACE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2714-67C9-45CF-A395-524A26BF63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760F-7C42-49C4-997D-B987D127EC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587B-40ED-4DBF-B949-92FEFAB45F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3D65-DE25-4AC2-85A4-76D4E44D21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6EE6-DF4E-4F6B-88FC-870F5DFA7D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046-80AF-4540-A28A-123A8E35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5CD-D73B-4DCC-ABC1-F7292718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5FD-815E-4E29-A5CE-BEF94F98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B4A-8907-4E5D-89C5-C11A6E41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BA8-9F70-44F1-860E-29E56EC7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6F7-354B-44DA-B800-82726592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292-1724-48EA-8BE1-6017CDAD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71A-A1E1-405F-A594-3065BFE7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D4D-EFE8-4AD3-ACA8-E4E5DB5B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CC7-93D8-4C60-811C-CCDF3841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8E2-749B-4DFB-AE5B-9753E3B2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D65-28EE-475F-80D0-940331CA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8681-64CD-463B-BF97-B66AD83BF0B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1840" y="1484280"/>
            <a:ext cx="835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8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73880" cy="224316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1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6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4464000" cy="422424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6"/>
          <p:cNvSpPr/>
          <p:nvPr/>
        </p:nvSpPr>
        <p:spPr>
          <a:xfrm>
            <a:off x="250920" y="479592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ans un triangle, SI un angle inscrit et un angle au centre interceptent le même arc de cercle, ALORS la mesure de l’angle inscrit est égale à la moitié de celle de l’angle au cen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8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988040" cy="414972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6"/>
          <p:cNvSpPr/>
          <p:nvPr/>
        </p:nvSpPr>
        <p:spPr>
          <a:xfrm>
            <a:off x="1483920" y="328464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ZoneTexte 7"/>
          <p:cNvSpPr/>
          <p:nvPr/>
        </p:nvSpPr>
        <p:spPr>
          <a:xfrm>
            <a:off x="3788280" y="5013360"/>
            <a:ext cx="11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ZoneTexte 8"/>
          <p:cNvSpPr/>
          <p:nvPr/>
        </p:nvSpPr>
        <p:spPr>
          <a:xfrm>
            <a:off x="3147120" y="614988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SIN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5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8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201080" cy="4167360"/>
          </a:xfrm>
          <a:prstGeom prst="rect">
            <a:avLst/>
          </a:prstGeom>
          <a:ln w="0">
            <a:noFill/>
          </a:ln>
        </p:spPr>
      </p:pic>
      <p:sp>
        <p:nvSpPr>
          <p:cNvPr id="107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2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095480" y="175104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     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8" descr=""/>
          <p:cNvPicPr/>
          <p:nvPr/>
        </p:nvPicPr>
        <p:blipFill>
          <a:blip r:embed="rId1"/>
          <a:stretch/>
        </p:blipFill>
        <p:spPr>
          <a:xfrm>
            <a:off x="1042920" y="2743200"/>
            <a:ext cx="741672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32"/>
          <p:cNvGraphicFramePr/>
          <p:nvPr/>
        </p:nvGraphicFramePr>
        <p:xfrm>
          <a:off x="3851280" y="2060640"/>
          <a:ext cx="33012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2060640"/>
                    <a:ext cx="3301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3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8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8275320" cy="224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29"/>
          <p:cNvGraphicFramePr/>
          <p:nvPr/>
        </p:nvGraphicFramePr>
        <p:xfrm>
          <a:off x="3800520" y="2060640"/>
          <a:ext cx="43164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0520" y="2060640"/>
                    <a:ext cx="4316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3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6" descr=""/>
          <p:cNvPicPr/>
          <p:nvPr/>
        </p:nvPicPr>
        <p:blipFill>
          <a:blip r:embed="rId1"/>
          <a:stretch/>
        </p:blipFill>
        <p:spPr>
          <a:xfrm>
            <a:off x="2556000" y="2633760"/>
            <a:ext cx="4464000" cy="42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Object 27"/>
          <p:cNvGraphicFramePr/>
          <p:nvPr/>
        </p:nvGraphicFramePr>
        <p:xfrm>
          <a:off x="3780000" y="2060640"/>
          <a:ext cx="9396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2060640"/>
                    <a:ext cx="939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3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8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7988040" cy="414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26"/>
          <p:cNvGraphicFramePr/>
          <p:nvPr/>
        </p:nvGraphicFramePr>
        <p:xfrm>
          <a:off x="3780000" y="2060640"/>
          <a:ext cx="31716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2060640"/>
                    <a:ext cx="3171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3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8" descr=""/>
          <p:cNvPicPr/>
          <p:nvPr/>
        </p:nvPicPr>
        <p:blipFill>
          <a:blip r:embed="rId1"/>
          <a:stretch/>
        </p:blipFill>
        <p:spPr>
          <a:xfrm>
            <a:off x="900000" y="2689200"/>
            <a:ext cx="7201080" cy="416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Object 29"/>
          <p:cNvGraphicFramePr/>
          <p:nvPr/>
        </p:nvGraphicFramePr>
        <p:xfrm>
          <a:off x="3780000" y="1989000"/>
          <a:ext cx="33012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1989000"/>
                    <a:ext cx="330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3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15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15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115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15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8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41672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6"/>
          <p:cNvSpPr/>
          <p:nvPr/>
        </p:nvSpPr>
        <p:spPr>
          <a:xfrm>
            <a:off x="6595560" y="270828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ZoneTexte 7"/>
          <p:cNvSpPr/>
          <p:nvPr/>
        </p:nvSpPr>
        <p:spPr>
          <a:xfrm>
            <a:off x="3211920" y="4941720"/>
            <a:ext cx="11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ZoneTexte 8"/>
          <p:cNvSpPr/>
          <p:nvPr/>
        </p:nvSpPr>
        <p:spPr>
          <a:xfrm>
            <a:off x="3147120" y="614988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SIN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4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3T05:07:49Z</dcterms:modified>
  <cp:revision>25</cp:revision>
  <dc:subject/>
  <dc:title>Diapositive 1</dc:title>
</cp:coreProperties>
</file>