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66F-AC7D-48BE-A486-582B8D7D09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D078-6A5B-4CC3-A2DC-BC9EA44592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6719-00EB-4078-AC50-B8A391B9A3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0C1-AD8E-4F28-B8EE-0D7C927A4F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92B-4B44-41E5-93E4-4DF582308A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4D6E-CB7F-4361-8BDF-7BE5E48623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625-EF54-4C1A-86A0-8A9CAC4908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40B-A43E-494A-8F89-F32559CE44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378B-557F-4693-9164-7A025DB245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D6CA-C023-4ED9-8EFF-9B9EDCBB5B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9E24-08A6-4E40-B66B-05A1F1394B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1EBC-3F8E-4E37-8B00-8452AFB1CD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3807-E52A-4FD8-BDBA-F9FF2E72AA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3746-6C29-4F80-907A-9C6FD34A0E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9C0-7EF9-4F1E-9BFD-CBB6D10FC1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FAC-F785-43A6-A63B-C9C8889C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757-7CC5-4E57-8905-C1ECDE33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DB4-B6B8-4A7A-8613-5E8A15CF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095-5132-447B-9B1D-C3885204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F07-4E96-4768-B680-DC3EACB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819-8FDE-487F-9FC6-633DB4B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032-8DCA-4C85-91EF-123B8B8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220-A732-447F-A522-D25067A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E34-E1EB-48E7-BF74-8AC88892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782-B66C-4F07-A618-99E8C6F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B88-9F88-46EF-81B4-1F2C0638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B13-E5FA-4438-B8EB-31958B5E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50F9-5D95-4857-A00E-B7E35E8000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2920" y="1484280"/>
            <a:ext cx="856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988400" cy="41497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430640" y="551664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106200" y="2276640"/>
            <a:ext cx="9037800" cy="1236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640440" y="47242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E SIMPLE SOUSTRAC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77440" cy="43146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719720" y="580536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327640" cy="41814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2215080" y="5732640"/>
            <a:ext cx="48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486920" cy="35240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H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88040" cy="41497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9" descr=""/>
          <p:cNvPicPr/>
          <p:nvPr/>
        </p:nvPicPr>
        <p:blipFill>
          <a:blip r:embed="rId1"/>
          <a:stretch/>
        </p:blipFill>
        <p:spPr>
          <a:xfrm>
            <a:off x="106200" y="3429000"/>
            <a:ext cx="9037800" cy="12366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611280" y="2543040"/>
            <a:ext cx="7777080" cy="43149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2480" y="1268280"/>
            <a:ext cx="877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calcul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longueur A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2050920" y="2676600"/>
            <a:ext cx="5329440" cy="41814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86920" cy="35240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430640" y="5516640"/>
            <a:ext cx="55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7:12Z</dcterms:modified>
  <cp:revision>28</cp:revision>
  <dc:subject/>
  <dc:title>Diapositive 1</dc:title>
</cp:coreProperties>
</file>