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52F2-4E9E-44B8-B39D-AEFAD55BD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DA12-9A10-4435-832A-4A5DB72E6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334D-9847-491C-A895-8346601E3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8FB0-ADA9-43A3-A63B-B60CFA73E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211C-0E4C-47E7-A0F7-216D6AE6E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8A70-9A21-4D58-A55B-7CDCCD6AF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AD18-9E6A-4BF6-AFCD-5D7BB61BF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0F1B-46E5-468E-ABAC-1FC344433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FCBA-EC2F-49C0-B103-AA32A98A0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7EDD-B530-45E9-B5EE-B76ED864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7B23-A9D6-4C99-AB91-CDCA9070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1761-38F9-42A3-8B41-DE5ACDF8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2013C-6BA9-4B35-B346-8307CEA4E10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1" dur="10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8" dur="10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5" dur="10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155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155" fill="hold"/>
                                        <p:tgtEl>
                                          <p:spTgt spid="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115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115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0" dur="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7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4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1" dur="5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8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476360" y="981000"/>
          <a:ext cx="6095880" cy="1224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haut: SUJET 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1403280" y="3716280"/>
          <a:ext cx="6096240" cy="1368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bas: SUJET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5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2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6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3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" dur="10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" dur="10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" dur="10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0" dur="10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7" dur="10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" dur="10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5-15T06:23:59Z</dcterms:modified>
  <cp:revision>12</cp:revision>
  <dc:subject/>
  <dc:title>Diapositive 1</dc:title>
</cp:coreProperties>
</file>