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6E83-B240-4219-AED4-3D32CAF73E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B5D-4E1A-4743-90D8-7CAF8EA8C4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DA8F-0206-4B84-AEF5-40BC1B87FF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ABB1-996A-486E-9DE1-F093415F7B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61C-DC6B-4920-B9E2-A330BEBFE5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E266-E079-4E9A-BB42-53BBA48274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CE1-1A06-4E0D-90BC-D8EBEA71BA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0C6-8DCC-4CA8-B257-33875E0B83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E55-0C47-4F2E-B35D-E5B55B4EDD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F37D-F32C-49E8-9320-8D702FAFF0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3E0-10B3-4ABA-83E0-ADDF41CBE3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716-BCB9-4074-A8EE-EBD8CBF84E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975-5AAB-4CD1-8B6A-E5312AC937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FDDE-D829-491B-AEE8-F7F599ED9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730F-CC92-42E7-B9E3-EEBD220CC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09F-BDDA-4C27-884B-22289694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B67-A766-4459-B269-9307082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130-0DAB-41A1-8AED-631091B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0BA-86CE-4780-9D5A-2B908C95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3BD-2E6D-46BA-9C83-A93CE28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C16-EDD5-459D-B427-A8E36E77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EF8-93F3-4C2B-98E4-4C6BB28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854-D6C9-4B00-BB61-6CC0B0A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BBF-13F1-4A78-BF9B-9E55E33D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456-2A67-4AE9-9118-23901CF4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F2E-DE54-4BBD-BE3A-470088E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A6E-F034-4D1C-8650-4E2B423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C0D-E5CE-4E7D-AA47-31EBA042B2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7440" y="620640"/>
            <a:ext cx="92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07080" cy="41878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260960" cy="43005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8" descr=""/>
          <p:cNvPicPr/>
          <p:nvPr/>
        </p:nvPicPr>
        <p:blipFill>
          <a:blip r:embed="rId1"/>
          <a:stretch/>
        </p:blipFill>
        <p:spPr>
          <a:xfrm>
            <a:off x="0" y="1268280"/>
            <a:ext cx="9201240" cy="413712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59120" cy="425448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TH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8" descr=""/>
          <p:cNvPicPr/>
          <p:nvPr/>
        </p:nvPicPr>
        <p:blipFill>
          <a:blip r:embed="rId1"/>
          <a:stretch/>
        </p:blipFill>
        <p:spPr>
          <a:xfrm>
            <a:off x="57240" y="2647800"/>
            <a:ext cx="9086760" cy="4210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258920" y="2670120"/>
            <a:ext cx="5708520" cy="41878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9" descr=""/>
          <p:cNvPicPr/>
          <p:nvPr/>
        </p:nvPicPr>
        <p:blipFill>
          <a:blip r:embed="rId1"/>
          <a:stretch/>
        </p:blipFill>
        <p:spPr>
          <a:xfrm>
            <a:off x="2340000" y="2557440"/>
            <a:ext cx="4260960" cy="430056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8" descr=""/>
          <p:cNvPicPr/>
          <p:nvPr/>
        </p:nvPicPr>
        <p:blipFill>
          <a:blip r:embed="rId1"/>
          <a:stretch/>
        </p:blipFill>
        <p:spPr>
          <a:xfrm>
            <a:off x="-57240" y="2722680"/>
            <a:ext cx="9201240" cy="41353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tretch/>
        </p:blipFill>
        <p:spPr>
          <a:xfrm>
            <a:off x="1619280" y="2603520"/>
            <a:ext cx="5559480" cy="425448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4752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8" descr=""/>
          <p:cNvPicPr/>
          <p:nvPr/>
        </p:nvPicPr>
        <p:blipFill>
          <a:blip r:embed="rId1"/>
          <a:stretch/>
        </p:blipFill>
        <p:spPr>
          <a:xfrm>
            <a:off x="57240" y="1341360"/>
            <a:ext cx="9086760" cy="4210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3:17Z</dcterms:modified>
  <cp:revision>26</cp:revision>
  <dc:subject/>
  <dc:title>Diapositive 1</dc:title>
</cp:coreProperties>
</file>