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DC92-73C8-414E-9173-BC51B82D5C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E21C-8C08-46C9-A129-9952FDCDF6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583E-19C5-48B5-8A13-D20DF5C3D0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57BF-89B9-429A-A67F-51428DA22E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056A-4593-4ACA-BC9C-F63F7CB51D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9757-8195-4C41-95A8-3B9DC26212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188F-CE39-49EC-BC3E-302DFA601F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E90C-75B1-484E-813F-8230E69349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0826-D15B-41F0-A44F-D4C02229B7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6E21-D5A6-4D78-847D-CA215B7F9E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481B-E8ED-4112-88D0-85D96F038D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1057-B13F-43C8-8F42-0C26D518C5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E39B-3D79-451E-8E98-FAA7275D4F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3E48-0967-458C-A293-6A33FFDF4B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7564-B3DC-4A87-8869-D1FB5A9BDB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B3E-2162-4FDB-9A25-AF9F05CF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81B-8570-4CD1-93F0-F4D0D533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E56-9B1F-4E9F-A457-4B57B20C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83B-3A10-4F8F-AC66-E662B7CF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E8A-EFC7-46F6-B91D-7CCFC370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33B-BB7B-4E4F-BA6C-BF3506D0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71E-3B12-4F7B-ABC5-7CB03353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54A-2D09-4226-8F4C-DBAA6BCA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16E-FB36-4F50-8586-8153735E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63C-90ED-4DD9-9DA8-27A067E5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5B0-6797-4048-A94A-09DAA478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B33-43A8-4320-B51C-CD0FEAD9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CF0D-B54B-4CE4-842F-21F822A4E95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120" y="1484280"/>
            <a:ext cx="814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095880" cy="421956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501480" y="5661000"/>
            <a:ext cx="77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6" descr=""/>
          <p:cNvPicPr/>
          <p:nvPr/>
        </p:nvPicPr>
        <p:blipFill>
          <a:blip r:embed="rId1"/>
          <a:stretch/>
        </p:blipFill>
        <p:spPr>
          <a:xfrm>
            <a:off x="352440" y="1341360"/>
            <a:ext cx="8791560" cy="40608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501480" y="5661000"/>
            <a:ext cx="77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6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751640" cy="424332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17928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erpendiculair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334280" cy="415296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arallèl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d) et (d’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tretch/>
        </p:blipFill>
        <p:spPr>
          <a:xfrm>
            <a:off x="2050920" y="2629080"/>
            <a:ext cx="3948120" cy="42289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ED) et (BC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1547640" y="2638440"/>
            <a:ext cx="6096240" cy="42195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ED) et (CB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6" descr=""/>
          <p:cNvPicPr/>
          <p:nvPr/>
        </p:nvPicPr>
        <p:blipFill>
          <a:blip r:embed="rId1"/>
          <a:stretch/>
        </p:blipFill>
        <p:spPr>
          <a:xfrm>
            <a:off x="0" y="2797200"/>
            <a:ext cx="8791560" cy="40608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ZP) et (XR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"/>
          <a:stretch/>
        </p:blipFill>
        <p:spPr>
          <a:xfrm>
            <a:off x="2050920" y="2612880"/>
            <a:ext cx="4753080" cy="42451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d’) et (d’’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900000" y="2705040"/>
            <a:ext cx="7334280" cy="41529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2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46320" cy="42292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17928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erpendiculair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3:58Z</dcterms:modified>
  <cp:revision>30</cp:revision>
  <dc:subject/>
  <dc:title>Diapositive 1</dc:title>
</cp:coreProperties>
</file>