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8F1D-C67F-4E61-8F1D-1273D7DAC5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515A-0DED-4578-9276-28B44F91C2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B93C-04C3-41BC-9AF9-EA7B47F917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366A-ECF7-4189-BC2F-D185910457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4330-32F5-48A2-B84A-F8AADF616E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9586-92F9-43BA-BF59-168591C4D6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CE79-E16F-46B0-A561-A2877ACAD1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0CCE-50C0-4F22-A7C5-B71F22860F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C461-66D6-4D2D-AFF0-F1DE914C62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AABF-9DD2-4056-906B-7ED0DAE84C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6233-7BC1-4328-BC7D-F8BD6672C4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6675-C41A-4BCD-B6B8-C7A9756B08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D817-ECBB-4C4B-AD50-1F3617DC23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4EDE-E43B-456D-939A-F220116F26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FDB4-C97C-451D-8446-06145E8A1E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E0E-7684-4DCB-B70D-043B4623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E48-DF3C-492D-B7D0-3F882B1B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761-C81C-4912-B847-C7F0FB35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50E-3C00-43CD-A852-311D0E73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799-E689-4535-80DE-7CE77B21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A6DF-BD02-4501-B056-95DF9208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FF1-CC16-4BFC-838E-AF24D576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6C1-F0C3-4B1D-9A2C-3640332D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27F-6C91-4750-8BC2-BB2882EA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32C-F6E9-45E5-AF47-C5839EED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A9A-882F-4548-AF54-02E095C4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981-8F85-41C3-858D-758F4F7A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3F72-D09A-4572-A7F1-2E98AA135A7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141120" y="1484280"/>
            <a:ext cx="8142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048720" cy="435132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179280" y="5103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erpendiculaires à une même droite, ALORS ces deux droites sont parallèles entre el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9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321156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501480" y="5661000"/>
            <a:ext cx="77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Thalè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8" descr=""/>
          <p:cNvPicPr/>
          <p:nvPr/>
        </p:nvPicPr>
        <p:blipFill>
          <a:blip r:embed="rId1"/>
          <a:stretch/>
        </p:blipFill>
        <p:spPr>
          <a:xfrm>
            <a:off x="2987640" y="1268280"/>
            <a:ext cx="2808360" cy="438156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6"/>
          <p:cNvSpPr/>
          <p:nvPr/>
        </p:nvSpPr>
        <p:spPr>
          <a:xfrm>
            <a:off x="179280" y="5103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erpendiculaires à une même droite, ALORS ces deux droites sont parallèles entre el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8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679560" cy="419580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6"/>
          <p:cNvSpPr/>
          <p:nvPr/>
        </p:nvSpPr>
        <p:spPr>
          <a:xfrm>
            <a:off x="179280" y="5103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erpendiculaires à une même droite, ALORS ces deux droites sont parallèles entre el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095480" y="175104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CB) et (ED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8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57520" cy="429264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3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PZ) et (XR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1476360" y="2506680"/>
            <a:ext cx="6048360" cy="435132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3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DE) et (CB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9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21156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3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PZ) et (XR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8" descr=""/>
          <p:cNvPicPr/>
          <p:nvPr/>
        </p:nvPicPr>
        <p:blipFill>
          <a:blip r:embed="rId1"/>
          <a:stretch/>
        </p:blipFill>
        <p:spPr>
          <a:xfrm>
            <a:off x="3132000" y="2476440"/>
            <a:ext cx="2808360" cy="438156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3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44280" y="1268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les droites (d) et (d’) sont parallè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tretch/>
        </p:blipFill>
        <p:spPr>
          <a:xfrm>
            <a:off x="2195640" y="2664000"/>
            <a:ext cx="3681360" cy="41940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3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15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15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15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15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8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457520" cy="429264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501480" y="5661000"/>
            <a:ext cx="77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Thalè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3T05:05:23Z</dcterms:modified>
  <cp:revision>29</cp:revision>
  <dc:subject/>
  <dc:title>Diapositive 1</dc:title>
</cp:coreProperties>
</file>