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027F-8182-4AB7-9255-54B028133F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EDA-14EB-4EAD-A919-B21F7F3E13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B88-2410-4D00-8C85-C6352027E3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7F05-823B-4A0D-B4AD-A46EEDEF7F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1F85-7EA9-4019-B12D-9957D9852C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060-60FA-4019-AEDA-FAD689076A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19B-5921-4EAA-BE50-85B9D041D4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8515-51DB-4A7C-B31B-68475590E3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A9D2-ABD5-4DD1-8CC5-0BA4CAA89F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47C-A717-4D80-8049-D9C8BBF853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AD6-7463-4E1C-8160-411868663A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08D6-BA4C-41C8-A573-1288077A5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623-AF00-427D-B063-F7CD2C5C2C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2759-AD00-48CB-8A96-77F8401CA4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FCA-F99D-4C8A-A1B4-6AD47C41DF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3C0-9594-4BD8-96DF-B709540F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8A3-5794-4D86-BB87-0AD0770D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829-E085-4F09-8684-6F1A7894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904-531C-4C9D-83F9-1F32A8BB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619-10D4-4912-8F51-41CB10D7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F6A-0725-4B0A-ACB6-5B0DC28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2FC-2E88-48E2-921C-98FADFF6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6BD-359B-4B64-AC31-A850F3E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BC9-69F7-45DA-9A9D-BDEECE0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AEC-478B-4347-901F-046564E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455-1DDA-42C4-9FE7-5527B56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551-9EAA-44FA-A81D-AAC14C13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61B2-D4E4-4E2A-BE96-FDE998412E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2920" y="1484280"/>
            <a:ext cx="85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0" y="1341360"/>
            <a:ext cx="8942400" cy="38545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1920" cy="44341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3715920" y="17002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4723920" y="4365720"/>
            <a:ext cx="11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oneTexte 8"/>
          <p:cNvSpPr/>
          <p:nvPr/>
        </p:nvSpPr>
        <p:spPr>
          <a:xfrm>
            <a:off x="3218760" y="595008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SIN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6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5440" cy="4077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6"/>
          <p:cNvSpPr/>
          <p:nvPr/>
        </p:nvSpPr>
        <p:spPr>
          <a:xfrm>
            <a:off x="475920" y="306864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4363560" y="220500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3057120" y="587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8" descr=""/>
          <p:cNvPicPr/>
          <p:nvPr/>
        </p:nvPicPr>
        <p:blipFill>
          <a:blip r:embed="rId1"/>
          <a:stretch/>
        </p:blipFill>
        <p:spPr>
          <a:xfrm>
            <a:off x="-114480" y="1268280"/>
            <a:ext cx="9258480" cy="321336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2731" r="0" b="0"/>
          <a:stretch/>
        </p:blipFill>
        <p:spPr>
          <a:xfrm>
            <a:off x="826920" y="2562120"/>
            <a:ext cx="7135920" cy="42958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201600" y="3002040"/>
            <a:ext cx="8942400" cy="3855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tretch/>
        </p:blipFill>
        <p:spPr>
          <a:xfrm>
            <a:off x="3500280" y="2422440"/>
            <a:ext cx="5643720" cy="4435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5440" cy="40766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-114480" y="2781360"/>
            <a:ext cx="9258480" cy="32130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rcRect l="0" t="2731" r="0" b="0"/>
          <a:stretch/>
        </p:blipFill>
        <p:spPr>
          <a:xfrm>
            <a:off x="1042920" y="1268280"/>
            <a:ext cx="7135920" cy="42958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5:51Z</dcterms:modified>
  <cp:revision>28</cp:revision>
  <dc:subject/>
  <dc:title>Diapositive 1</dc:title>
</cp:coreProperties>
</file>