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118-0CC3-4FC9-B7E3-C9AC1CF8B6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2DF3-F2E7-4D15-9CFF-C7963FA46A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D3CF-C4A3-4021-BC6B-2FA3509C9D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2D41-51A4-4B46-B2A2-5C55003A02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2647-6393-4161-85D0-3CE836E49F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CC51-A66E-475D-9F6B-7F2EA5D863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5367-0D41-4D85-8A5C-F1C969EA7B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2864-121B-417B-A3C7-158C82691E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3612-BA6D-4630-BEC2-9F8AD5707C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4E2-8947-42CD-B067-CCCD900E26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78E8-79FA-4313-942B-73D7F3A87B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8971-872C-415B-98CD-0CB1EAA05D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AC6C-16CF-4244-ACC0-C6226A2B71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0A27-85ED-4193-8767-329867C026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4B6A-1B00-4C86-81DB-3529075EBD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6F7-44A0-4C43-95FD-BCA2F197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13C-12B3-4E21-8633-CEBB82AE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2F9-A8E5-4729-BD25-B03C744B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8AF-E0C6-443D-B8EC-3816A257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7F2-FF28-4F78-81ED-609EE7EF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B60-7DC7-4365-AD7B-30AC3377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B98-43D0-402E-BEE4-2F04FEC4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35B-1E16-47FF-AFFB-FC751FC8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638-96D9-4F3B-8C14-AA700F8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43D-8887-485A-A683-A1B3500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70B-43BC-40BE-9177-1244825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FD1-CFEC-4A2D-8745-C1DF168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95B-D88F-474F-92D5-A5F69914988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840" y="148428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8" descr=""/>
          <p:cNvPicPr/>
          <p:nvPr/>
        </p:nvPicPr>
        <p:blipFill>
          <a:blip r:embed="rId1"/>
          <a:stretch/>
        </p:blipFill>
        <p:spPr>
          <a:xfrm>
            <a:off x="201600" y="1341360"/>
            <a:ext cx="8942400" cy="385596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6"/>
          <p:cNvSpPr/>
          <p:nvPr/>
        </p:nvSpPr>
        <p:spPr>
          <a:xfrm>
            <a:off x="7387920" y="278136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4579560" y="39337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8"/>
          <p:cNvSpPr/>
          <p:nvPr/>
        </p:nvSpPr>
        <p:spPr>
          <a:xfrm>
            <a:off x="3705480" y="587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ANG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9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471920" cy="408960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250920" y="47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un triangle, SI un angle inscrit et un angle au centre interceptent le même arc de cercle, ALORS la mesure de l’angle inscrit est égale à la moitié de celle de l’angle au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-7200" y="54936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8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3880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6"/>
          <p:cNvSpPr/>
          <p:nvPr/>
        </p:nvSpPr>
        <p:spPr>
          <a:xfrm>
            <a:off x="250920" y="47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ans un triangle, SI un angle inscrit et un angle au centre interceptent le même arc de cercle, ALORS la mesure de l’angle inscrit est égale à la moitié de celle de l’angle au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8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486560" cy="352440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6"/>
          <p:cNvSpPr/>
          <p:nvPr/>
        </p:nvSpPr>
        <p:spPr>
          <a:xfrm>
            <a:off x="258480" y="285264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ZoneTexte 7"/>
          <p:cNvSpPr/>
          <p:nvPr/>
        </p:nvSpPr>
        <p:spPr>
          <a:xfrm>
            <a:off x="4796280" y="39337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ZoneTexte 8"/>
          <p:cNvSpPr/>
          <p:nvPr/>
        </p:nvSpPr>
        <p:spPr>
          <a:xfrm>
            <a:off x="4006440" y="5589720"/>
            <a:ext cx="16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1979640" y="2735280"/>
            <a:ext cx="5710320" cy="41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29"/>
          <p:cNvGraphicFramePr/>
          <p:nvPr/>
        </p:nvGraphicFramePr>
        <p:xfrm>
          <a:off x="3780000" y="1989000"/>
          <a:ext cx="3301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1989000"/>
                    <a:ext cx="330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8" descr=""/>
          <p:cNvPicPr/>
          <p:nvPr/>
        </p:nvPicPr>
        <p:blipFill>
          <a:blip r:embed="rId1"/>
          <a:stretch/>
        </p:blipFill>
        <p:spPr>
          <a:xfrm>
            <a:off x="201600" y="3002040"/>
            <a:ext cx="8942400" cy="385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8"/>
          <p:cNvGraphicFramePr/>
          <p:nvPr/>
        </p:nvGraphicFramePr>
        <p:xfrm>
          <a:off x="3780000" y="2060640"/>
          <a:ext cx="3301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330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9" descr=""/>
          <p:cNvPicPr/>
          <p:nvPr/>
        </p:nvPicPr>
        <p:blipFill>
          <a:blip r:embed="rId1"/>
          <a:stretch/>
        </p:blipFill>
        <p:spPr>
          <a:xfrm>
            <a:off x="2195640" y="2766960"/>
            <a:ext cx="4471920" cy="40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40"/>
          <p:cNvGraphicFramePr/>
          <p:nvPr/>
        </p:nvGraphicFramePr>
        <p:xfrm>
          <a:off x="3708360" y="2060640"/>
          <a:ext cx="82548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2060640"/>
                    <a:ext cx="825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8" descr=""/>
          <p:cNvPicPr/>
          <p:nvPr/>
        </p:nvPicPr>
        <p:blipFill>
          <a:blip r:embed="rId1"/>
          <a:stretch/>
        </p:blipFill>
        <p:spPr>
          <a:xfrm>
            <a:off x="2266920" y="2708280"/>
            <a:ext cx="444024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9"/>
          <p:cNvGraphicFramePr/>
          <p:nvPr/>
        </p:nvGraphicFramePr>
        <p:xfrm>
          <a:off x="3708360" y="2060640"/>
          <a:ext cx="9907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2060640"/>
                    <a:ext cx="990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ZoneTexte 5"/>
          <p:cNvSpPr/>
          <p:nvPr/>
        </p:nvSpPr>
        <p:spPr>
          <a:xfrm>
            <a:off x="43920" y="1413000"/>
            <a:ext cx="91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mesure de l’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8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486920" cy="35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Object 28"/>
          <p:cNvGraphicFramePr/>
          <p:nvPr/>
        </p:nvGraphicFramePr>
        <p:xfrm>
          <a:off x="3780000" y="2060640"/>
          <a:ext cx="33012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060640"/>
                    <a:ext cx="330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710320" cy="412128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13:20Z</dcterms:modified>
  <cp:revision>25</cp:revision>
  <dc:subject/>
  <dc:title>Diapositive 1</dc:title>
</cp:coreProperties>
</file>