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DE7D-39A2-4EF2-ADB1-940F2007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BA7-AB40-4E6C-8EB7-F744CADF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E8B5-2DA9-4AE4-9109-E843826C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325C-7193-420C-A266-7BDBDE75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40CC-D30C-4C1D-A59C-8FCA2F79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8703-4AC4-4FBB-B993-380A9510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B2ED-04D1-4EA1-9B0C-F2AD3B9D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B54C-9622-4349-BA56-1637AAD8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56F0-3623-49A5-8470-4425A778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4050-5910-4C4C-A159-BE62085B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6CB6-B8F5-4937-8D90-2338B2D0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44C-A431-4101-97E4-A79D41FB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775D-F37A-4EAD-91DD-F3BFC298E02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5T06:23:59Z</dcterms:modified>
  <cp:revision>12</cp:revision>
  <dc:subject/>
  <dc:title>Diapositive 1</dc:title>
</cp:coreProperties>
</file>