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390B-F12D-47FD-9DF2-C3F93CF486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9FC0-D298-4AFE-B331-5B820DFCE7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596F-09C5-4920-9EB1-DC3405F98F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0740-55DA-4512-95FA-7529B00964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B429-9E8D-4B44-8843-54CB94D007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AFD0-0DD3-43E2-B487-2FC33CCDF8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06B-768C-4AF0-84C5-DB001CBFB0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409-1940-4AFC-82C9-85CB296CA5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C8CA-C176-4663-8B87-4E14734451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F58-57F7-424B-89CC-CA5126BA60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D61-DBF2-4616-86DE-C2AD190991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942-848A-4989-ADB7-CC8F6B350A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848-440A-42B3-B104-9A39E95486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C81F-4E89-42B7-B5AA-CFA6C83C10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C2C8-8502-432A-B3C2-FA5623AB11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3778-EB4E-4BF7-BDAD-8B11564270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D510-8237-46B1-9555-AD91B49979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715A-B488-4776-A6F3-62175ED2E0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9FAC-E09D-4C35-A40A-77C0788154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4F09-C2ED-4790-B4AF-49468E31F9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073-2D31-4584-8CFA-E97E493467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9768-BAF5-456E-958D-67DBB2A18D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23D9-15F0-4778-89D7-7780613181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5269-43BF-4A41-A331-5AB42833E9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B9C-CDC3-4B50-A523-682B320533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EB1-91E8-4FBD-B132-0E46FB07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DEE-C382-42FB-9176-FF023068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DB7-7237-4D6B-A048-36357B7E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C3F-0C80-456A-B2E6-FB6F038E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2BB-9592-4365-B241-8774A83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52D-1558-401A-9B3F-00F0BD6D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7CB-78B4-4053-BEC4-414E6A9D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04B-CC70-4F46-8E5F-34473784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EED-E67C-41B1-AD57-FB73EA5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E4B-E4C7-4E1C-A539-A6B1729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D56-5FB2-4E94-BC8A-E50AAF9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DFB-2DDE-4584-B85E-F7EF8C4B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7590-67F3-4137-9491-B619303229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50920" y="1484280"/>
            <a:ext cx="89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Activités mentales 3</a:t>
            </a:r>
            <a:r>
              <a:rPr b="1" lang="fr-FR" sz="66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1" lang="fr-FR" sz="6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407320" y="4100400"/>
            <a:ext cx="47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imes New Roman"/>
              </a:rPr>
              <a:t>Prenez un stylo bl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64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16360" cy="492444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4"/>
          <p:cNvSpPr/>
          <p:nvPr/>
        </p:nvSpPr>
        <p:spPr>
          <a:xfrm>
            <a:off x="4341600" y="1916280"/>
            <a:ext cx="481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graphique d’un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onction affin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ire graphiquemen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’image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10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43080" cy="51847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4"/>
          <p:cNvSpPr/>
          <p:nvPr/>
        </p:nvSpPr>
        <p:spPr>
          <a:xfrm>
            <a:off x="4341600" y="1916280"/>
            <a:ext cx="481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Voici la représenta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graphique d’un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fonction affin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ire graphiquement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’image de 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10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566880" y="549360"/>
            <a:ext cx="245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s’arrê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484720" y="2276640"/>
            <a:ext cx="46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osez votre stylo bl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125080" y="4149720"/>
            <a:ext cx="51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nez votre stylo </a:t>
            </a:r>
            <a:r>
              <a:rPr b="0" lang="fr-FR" sz="4000" spc="-1" strike="noStrike">
                <a:solidFill>
                  <a:srgbClr val="cc0000"/>
                </a:solidFill>
                <a:latin typeface="Times New Roman"/>
              </a:rPr>
              <a:t>rou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050200" y="2155680"/>
            <a:ext cx="49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c0000"/>
                </a:solidFill>
                <a:latin typeface="Comic Sans MS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619280" y="2060640"/>
          <a:ext cx="571176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60640"/>
                    <a:ext cx="571176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403280" y="2060640"/>
          <a:ext cx="614376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060640"/>
                    <a:ext cx="614376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2916360" y="2079720"/>
          <a:ext cx="254628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079720"/>
                    <a:ext cx="25462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ZoneTexte 4"/>
          <p:cNvSpPr/>
          <p:nvPr/>
        </p:nvSpPr>
        <p:spPr>
          <a:xfrm>
            <a:off x="1332000" y="1341360"/>
            <a:ext cx="59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cherch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=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53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ZoneTexte 3"/>
          <p:cNvSpPr/>
          <p:nvPr/>
        </p:nvSpPr>
        <p:spPr>
          <a:xfrm>
            <a:off x="1289880" y="1341360"/>
            <a:ext cx="60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n cherch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tel que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= 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2895480" y="2079720"/>
          <a:ext cx="258768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79720"/>
                    <a:ext cx="25876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8000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26920" y="1989000"/>
          <a:ext cx="7345440" cy="208764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34"/>
          <p:cNvSpPr/>
          <p:nvPr/>
        </p:nvSpPr>
        <p:spPr>
          <a:xfrm>
            <a:off x="1262880" y="4653000"/>
            <a:ext cx="51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7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1700280"/>
          <a:ext cx="734400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  <a:gridCol w="1224000"/>
                <a:gridCol w="1224000"/>
                <a:gridCol w="1224000"/>
              </a:tblGrid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34"/>
          <p:cNvSpPr/>
          <p:nvPr/>
        </p:nvSpPr>
        <p:spPr>
          <a:xfrm>
            <a:off x="1251720" y="4653000"/>
            <a:ext cx="60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1419120" y="5229360"/>
            <a:ext cx="57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2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636000" y="2602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91628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3640"/>
                <a:gridCol w="1224000"/>
                <a:gridCol w="1225800"/>
                <a:gridCol w="1224000"/>
              </a:tblGrid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34"/>
          <p:cNvSpPr/>
          <p:nvPr/>
        </p:nvSpPr>
        <p:spPr>
          <a:xfrm>
            <a:off x="1262880" y="4653000"/>
            <a:ext cx="51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00000" y="1989000"/>
          <a:ext cx="7344000" cy="208764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  <a:gridCol w="122400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9" name="Text Box 34"/>
          <p:cNvSpPr/>
          <p:nvPr/>
        </p:nvSpPr>
        <p:spPr>
          <a:xfrm>
            <a:off x="1267920" y="4653000"/>
            <a:ext cx="64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-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16360" cy="492444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4"/>
          <p:cNvSpPr/>
          <p:nvPr/>
        </p:nvSpPr>
        <p:spPr>
          <a:xfrm>
            <a:off x="4350240" y="1916280"/>
            <a:ext cx="422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5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636000" y="260280"/>
            <a:ext cx="26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43080" cy="5184720"/>
          </a:xfrm>
          <a:prstGeom prst="rect">
            <a:avLst/>
          </a:prstGeom>
          <a:ln w="0">
            <a:noFill/>
          </a:ln>
        </p:spPr>
      </p:pic>
      <p:sp>
        <p:nvSpPr>
          <p:cNvPr id="147" name="ZoneTexte 4"/>
          <p:cNvSpPr/>
          <p:nvPr/>
        </p:nvSpPr>
        <p:spPr>
          <a:xfrm>
            <a:off x="4348800" y="1916280"/>
            <a:ext cx="393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’image de 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2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095480" y="17514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Times New Roman"/>
              </a:rPr>
              <a:t>Compter le nombre de réponses juste et écrire votre note su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4"/>
          <p:cNvSpPr/>
          <p:nvPr/>
        </p:nvSpPr>
        <p:spPr>
          <a:xfrm>
            <a:off x="1433880" y="5229360"/>
            <a:ext cx="590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image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4"/>
          <p:cNvSpPr/>
          <p:nvPr/>
        </p:nvSpPr>
        <p:spPr>
          <a:xfrm>
            <a:off x="1149480" y="5229360"/>
            <a:ext cx="69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antécédent de 14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" dur="10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1002600" y="1628640"/>
            <a:ext cx="73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la fonction affine définie p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692360" y="2924280"/>
          <a:ext cx="4895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4895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34"/>
          <p:cNvSpPr/>
          <p:nvPr/>
        </p:nvSpPr>
        <p:spPr>
          <a:xfrm>
            <a:off x="1149120" y="522936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lculer l’antécédent de -1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34"/>
          <p:cNvSpPr/>
          <p:nvPr/>
        </p:nvSpPr>
        <p:spPr>
          <a:xfrm>
            <a:off x="1354680" y="5373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34"/>
          <p:cNvSpPr/>
          <p:nvPr/>
        </p:nvSpPr>
        <p:spPr>
          <a:xfrm>
            <a:off x="1293480" y="5373720"/>
            <a:ext cx="71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1290600" y="5373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image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10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636360" y="2602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-7200" y="62064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2852640"/>
          <a:ext cx="7345440" cy="2089080"/>
        </p:xfrm>
        <a:graphic>
          <a:graphicData uri="http://schemas.openxmlformats.org/drawingml/2006/table">
            <a:tbl>
              <a:tblPr/>
              <a:tblGrid>
                <a:gridCol w="1224000"/>
                <a:gridCol w="1225800"/>
                <a:gridCol w="1224000"/>
                <a:gridCol w="1223640"/>
                <a:gridCol w="1224000"/>
                <a:gridCol w="122400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39"/>
          <p:cNvSpPr/>
          <p:nvPr/>
        </p:nvSpPr>
        <p:spPr>
          <a:xfrm>
            <a:off x="338760" y="1379520"/>
            <a:ext cx="86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une fonction affine, voici le tabl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s valeurs de cette fonction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1295280" y="5373720"/>
            <a:ext cx="729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Quelle est l’antécédent par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e -1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10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38:06Z</dcterms:created>
  <dc:creator>JESS</dc:creator>
  <dc:description/>
  <dc:language>en-US</dc:language>
  <cp:lastModifiedBy>Valued Packard Bell Customer</cp:lastModifiedBy>
  <dcterms:modified xsi:type="dcterms:W3CDTF">2011-02-25T05:18:32Z</dcterms:modified>
  <cp:revision>23</cp:revision>
  <dc:subject/>
  <dc:title>Diapositive 1</dc:title>
</cp:coreProperties>
</file>