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C59-04D3-4F65-ABD6-BB3E01BDF6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9BD-8268-4473-98EC-21313E6B0A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6D20-778C-42FB-B62B-1C97C5BB14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8D8C-3396-4FC4-B478-C9851C9B91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42D5-8A20-4BD0-9735-6BA5451AB8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F9E4-EDB4-466A-BA4C-6D718A74DD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213-DD43-45FE-9B89-201F24A34E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549F-F1C0-4A11-83A0-9E9B1FD9B0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734-EE22-461D-89B4-BB6DDA682E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D916-31C3-4869-ACD4-469A68026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132C-68AA-4452-A072-CB6DBAE766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65DB-30B9-4C81-8CA3-4A541E8634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01B-934D-4CC5-91A1-01D7C10F69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B23D-9D81-4952-9F89-677B5E9FA2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F49-8E3C-4C53-91A9-634A5EDEF4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2B1-CF2E-4B13-9C70-C13B6A34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236-2E4D-4292-964F-8BD21768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48A-4B86-4CC1-B959-F68351CC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DA3-3DCF-47C3-A041-C0DFA2B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8A8-CEE6-40AC-81CF-90F1160A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173-FE65-4C16-9B0B-40114D1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BE1-C0F4-4E38-BBAD-90DC6687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BD8-4D63-43F3-A83E-FE6A2F6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D42-F56A-44AA-A7D1-A0A57C8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E09-AD9A-4186-A125-AFC6A3A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0FD-40A0-4ED5-8755-16124FD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1CD-13A3-480E-A895-94033F15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AE01-D157-4348-B9C3-47C9011122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41160" y="1484280"/>
            <a:ext cx="814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48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8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815080" cy="410076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250920" y="5103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deux droites sont parallèles, ALORS toute droite perpendiculaire à l’une est aussi perpendiculaire à l’au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1476360" y="1268280"/>
            <a:ext cx="6743880" cy="408492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366480" y="5373720"/>
            <a:ext cx="832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somme des mesures des angles d’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triangle vaut 180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89240" cy="4048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6"/>
          <p:cNvSpPr/>
          <p:nvPr/>
        </p:nvSpPr>
        <p:spPr>
          <a:xfrm>
            <a:off x="0" y="5229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I un triangle est inscrit dans un cercle de diamètre un de ses côtés, ALORS ce triangle est rect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2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484360" y="1268280"/>
            <a:ext cx="4354560" cy="42912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95480" y="175104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971640" y="2793960"/>
            <a:ext cx="6553080" cy="406404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3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DE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"/>
          <p:cNvPicPr/>
          <p:nvPr/>
        </p:nvPicPr>
        <p:blipFill>
          <a:blip r:embed="rId1"/>
          <a:stretch/>
        </p:blipFill>
        <p:spPr>
          <a:xfrm>
            <a:off x="1547640" y="2593800"/>
            <a:ext cx="6046920" cy="4264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3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KP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6" descr=""/>
          <p:cNvPicPr/>
          <p:nvPr/>
        </p:nvPicPr>
        <p:blipFill>
          <a:blip r:embed="rId1"/>
          <a:srcRect l="0" t="3970" r="0" b="3176"/>
          <a:stretch/>
        </p:blipFill>
        <p:spPr>
          <a:xfrm>
            <a:off x="900000" y="2774880"/>
            <a:ext cx="6743880" cy="408312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3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44280" y="148428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ABC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1"/>
          <a:stretch/>
        </p:blipFill>
        <p:spPr>
          <a:xfrm>
            <a:off x="2484360" y="2809800"/>
            <a:ext cx="4087800" cy="40482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3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ZoneTexte 5"/>
          <p:cNvSpPr/>
          <p:nvPr/>
        </p:nvSpPr>
        <p:spPr>
          <a:xfrm>
            <a:off x="-30240" y="1341360"/>
            <a:ext cx="91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onne la propriété qui permet de démont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 ce triangle KPA est recta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8" descr=""/>
          <p:cNvPicPr/>
          <p:nvPr/>
        </p:nvPicPr>
        <p:blipFill>
          <a:blip r:embed="rId1"/>
          <a:srcRect l="0" t="2789" r="0" b="4881"/>
          <a:stretch/>
        </p:blipFill>
        <p:spPr>
          <a:xfrm>
            <a:off x="2124000" y="2568600"/>
            <a:ext cx="4354560" cy="4289400"/>
          </a:xfrm>
          <a:prstGeom prst="rect">
            <a:avLst/>
          </a:prstGeom>
          <a:ln w="0">
            <a:noFill/>
          </a:ln>
        </p:spPr>
      </p:pic>
    </p:spTree>
  </p:cSld>
  <p:transition advTm="3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3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15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15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15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2" descr=""/>
          <p:cNvPicPr/>
          <p:nvPr/>
        </p:nvPicPr>
        <p:blipFill>
          <a:blip r:embed="rId1"/>
          <a:srcRect l="0" t="5125" r="0" b="4484"/>
          <a:stretch/>
        </p:blipFill>
        <p:spPr>
          <a:xfrm>
            <a:off x="1476360" y="1268280"/>
            <a:ext cx="6553080" cy="406404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6"/>
          <p:cNvSpPr/>
          <p:nvPr/>
        </p:nvSpPr>
        <p:spPr>
          <a:xfrm>
            <a:off x="365040" y="5732640"/>
            <a:ext cx="84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a réciproque du théorème de Pythag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cover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2-04-13T05:01:02Z</dcterms:modified>
  <cp:revision>26</cp:revision>
  <dc:subject/>
  <dc:title>Diapositive 1</dc:title>
</cp:coreProperties>
</file>