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2783-A2C0-42A3-A10B-47D6349B7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5E62-5D7E-46C3-A4FD-65F435B8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EA6F-6629-4FAD-8222-AAD97B163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B1B6-0ABF-4449-A880-1F373AA0E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9F68-B77B-43DE-9EAA-C980DEBD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D512-1BB8-42CB-9EB1-D27AA2FE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CF40-4B8D-4804-8E25-8E6FF98C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6FFF-4AC9-4670-9453-15341F56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0741-923E-4E78-92E4-F956DAAA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3F45-342B-44AC-B40B-E46F7A63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3D29-A4B7-4E54-AEEA-1ADE7A6E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BD92-4CF5-47E1-A627-5F92658C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3565-6DF0-4589-A98B-0020B222527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" y="1484280"/>
            <a:ext cx="898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52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10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5" dur="10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5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5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0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7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4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1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76360" y="981000"/>
          <a:ext cx="6095880" cy="12240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haut: SUJET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3716280"/>
          <a:ext cx="6096240" cy="13683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bas: SUJET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5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2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9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6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3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10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" dur="10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10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10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7" dur="10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608120"/>
                <a:gridCol w="448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)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10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JESS</cp:lastModifiedBy>
  <dcterms:modified xsi:type="dcterms:W3CDTF">2010-05-15T06:23:59Z</dcterms:modified>
  <cp:revision>12</cp:revision>
  <dc:subject/>
  <dc:title>Diapositive 1</dc:title>
</cp:coreProperties>
</file>