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F2B0-E2A0-4551-8650-5C96E5ABDD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CD28-9F90-4365-843C-D94D341E7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C7A8-0BFD-48E8-9595-33E5083B00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BE7-6BAC-4F46-B27D-38649A60A6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CA8-B2D0-485A-BE63-6DBE46513F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3E22-9761-4F4C-8340-BDAF3F0BC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7D6A-7E35-4C21-91C8-E397311864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026-092D-4B80-80BB-B0A07C1BFB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457-A7C8-4784-AE41-CCD1ADAEB2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5B4-5260-4B73-9357-15BC4C9B2C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7C33-95D2-4C07-8EDB-97323EBBDE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68A7-31DF-4B3F-B331-87263D0F72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F0A1-79E4-4613-B4B7-99B7E6148B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740B-C3D7-40A2-B296-F3F16857BF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DB22-DE6F-4B61-B44A-AD5205F748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64F7-4D28-4613-8242-840A29419E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ACAB-A7CE-4AE2-A576-54D5B4FF7B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8415-C668-45D6-97FD-4A053B7481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620C-E2F6-4544-8073-4F74AB2324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B31-40EC-4E1A-B01A-A09A4F75CD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E1B-AED5-44D1-AB48-FBAC3034AE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A284-348C-433A-8989-E91D222BA6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45E-19D8-4E14-9178-441ED296A4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8A9-3E35-48F5-8E0E-AD4A9C82FB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B3AD-99D7-42F1-AADA-21BAB232E5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38C-9829-4E33-B3E2-1885FFCF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9FE-0585-492D-A98A-00D77DD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4AA-3B1D-4D2C-88D2-2760B88B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B51-56AC-4C20-BC96-4CFD235B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C88-75B6-4B56-8D4C-A335F37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AD6-C45B-4F19-B51F-353B79F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782-06CE-4BF4-A97A-852C43C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6F7-B598-49A9-B8CB-5AE100DA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702-C11D-4EB0-B242-3BF63CA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DEB-E680-49F6-8D1C-9DAA311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C5E-398A-4B95-B2BA-51663CE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73C-0C99-4DBA-8440-A63CECC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5310-2F86-400A-8A9F-563856A0FE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692360" y="2465280"/>
            <a:ext cx="51609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79640" y="2825640"/>
            <a:ext cx="4773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4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0568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4"/>
          <p:cNvSpPr/>
          <p:nvPr/>
        </p:nvSpPr>
        <p:spPr>
          <a:xfrm>
            <a:off x="25200" y="580536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5724360" y="5877000"/>
          <a:ext cx="9399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877000"/>
                    <a:ext cx="93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5"/>
          <p:cNvGraphicFramePr/>
          <p:nvPr/>
        </p:nvGraphicFramePr>
        <p:xfrm>
          <a:off x="7380360" y="587700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87700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3052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4"/>
          <p:cNvSpPr/>
          <p:nvPr/>
        </p:nvSpPr>
        <p:spPr>
          <a:xfrm>
            <a:off x="19800" y="5445000"/>
            <a:ext cx="80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80000" y="5516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516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7380360" y="551664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516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01948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4"/>
          <p:cNvGraphicFramePr/>
          <p:nvPr/>
        </p:nvGraphicFramePr>
        <p:xfrm>
          <a:off x="3780000" y="5732640"/>
          <a:ext cx="200628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732640"/>
                    <a:ext cx="2006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3872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5312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4"/>
          <p:cNvGraphicFramePr/>
          <p:nvPr/>
        </p:nvGraphicFramePr>
        <p:xfrm>
          <a:off x="3451320" y="6054840"/>
          <a:ext cx="24382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1320" y="6054840"/>
                    <a:ext cx="24382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053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3"/>
          <p:cNvGraphicFramePr/>
          <p:nvPr/>
        </p:nvGraphicFramePr>
        <p:xfrm>
          <a:off x="7308720" y="1916280"/>
          <a:ext cx="1079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916280"/>
                    <a:ext cx="1079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114800" cy="428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3457440" y="6054840"/>
          <a:ext cx="24256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7440" y="6054840"/>
                    <a:ext cx="24256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3840" cy="45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3641760" y="6093000"/>
          <a:ext cx="205740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6093000"/>
                    <a:ext cx="20574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979640" y="1268280"/>
            <a:ext cx="516240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4"/>
          <p:cNvGraphicFramePr/>
          <p:nvPr/>
        </p:nvGraphicFramePr>
        <p:xfrm>
          <a:off x="3708360" y="5805360"/>
          <a:ext cx="20192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805360"/>
                    <a:ext cx="2019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773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4"/>
          <p:cNvGraphicFramePr/>
          <p:nvPr/>
        </p:nvGraphicFramePr>
        <p:xfrm>
          <a:off x="3714840" y="5805360"/>
          <a:ext cx="20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4840" y="5805360"/>
                    <a:ext cx="20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30524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7380360" y="184464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184464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2124000" y="2695680"/>
            <a:ext cx="5019840" cy="41623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1011600" y="1557360"/>
            <a:ext cx="71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7"/>
          <p:cNvGraphicFramePr/>
          <p:nvPr/>
        </p:nvGraphicFramePr>
        <p:xfrm>
          <a:off x="6227640" y="1557360"/>
          <a:ext cx="1079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1079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979640" y="2028960"/>
            <a:ext cx="5238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294336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627280" y="316224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2571840"/>
            <a:ext cx="41148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2343240"/>
            <a:ext cx="453384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18:15:30Z</dcterms:modified>
  <cp:revision>27</cp:revision>
  <dc:subject/>
  <dc:title>Diapositive 1</dc:title>
</cp:coreProperties>
</file>