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E17-25D7-4306-801E-FED98301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A47-85AC-4820-9D19-0E3C21C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DAD-8EFC-4CCF-9CE3-EC24F7E1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DD7-7F4C-42EE-AE88-BF523443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431-DCAC-49F5-8A82-CADA3F41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316-0638-432F-95C4-C906D980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D84-63CE-48B7-9B30-48430F26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058-E02B-4AE7-B936-296BC95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A54-F618-4DAF-AE0F-E608692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CD0-74DB-4964-972C-058F645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E91-3B83-4DDD-B2A7-84C472F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1BC-6132-4D58-B030-E24F11A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AE1-5AE0-4765-8A95-88A27CDE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32000" y="2565360"/>
          <a:ext cx="3086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565360"/>
                    <a:ext cx="3086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52560" y="426096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-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2421000"/>
          <a:ext cx="4140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4140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60360" y="40766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49640" y="433224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32920" y="4405320"/>
            <a:ext cx="84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902520" y="4437000"/>
            <a:ext cx="76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-2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94360" y="2387520"/>
            <a:ext cx="39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82000" y="24606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57280"/>
            <a:ext cx="375768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49280" y="26049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3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52360" y="4437000"/>
            <a:ext cx="86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3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440" y="23493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40000" y="141300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692360" y="3284640"/>
          <a:ext cx="575316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284640"/>
                    <a:ext cx="575316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11240" y="53737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03640" y="1773360"/>
          <a:ext cx="3085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73360"/>
                    <a:ext cx="3085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63640" y="2781360"/>
          <a:ext cx="5334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781360"/>
                    <a:ext cx="533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61280" y="4116240"/>
            <a:ext cx="84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de de -2 par la fonction carré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0000" y="1916280"/>
          <a:ext cx="4140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140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2924280"/>
          <a:ext cx="5550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924280"/>
                    <a:ext cx="555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198520" y="422100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1840" y="4621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548240"/>
            <a:ext cx="86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’antécédent de 5, par la fo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60560" y="433224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-2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4920" y="274788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4920" y="289260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40000" y="227664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27664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52000" y="450864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13T06:24:13Z</dcterms:modified>
  <cp:revision>18</cp:revision>
  <dc:subject/>
  <dc:title>Diapositive 1</dc:title>
</cp:coreProperties>
</file>