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F57-3C12-4617-8494-E41F198D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B6F-A866-45D8-A09E-D4CD90BB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75D-40CB-4179-96ED-85CFD5AB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202-6DA4-4EA3-B0E7-34F5EC7A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275-D7F1-4403-A55E-8BC8A573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ABEE-5CB9-4192-9D9E-44DDD4AB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42C6-C28C-42D4-8519-C014AEA9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510-1D0F-4011-8C7E-2E56C239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EAF7-16C1-4D80-8FB4-7FFE643A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0342-836E-43E5-BAA7-6ACF0C6B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75C-6116-48E7-A7BE-07D78DB6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91A-AE94-4D7B-9EFC-B8E01670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C6AC-D39F-4096-9F49-E24C9CA47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76720" y="1628640"/>
          <a:ext cx="394956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28640"/>
                    <a:ext cx="39495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348000" y="3573360"/>
          <a:ext cx="396252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573360"/>
                    <a:ext cx="396252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130640" y="2060640"/>
          <a:ext cx="2374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0640" y="2060640"/>
                    <a:ext cx="2374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995640" y="4149720"/>
          <a:ext cx="2374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374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95640" y="2060640"/>
          <a:ext cx="2705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60640"/>
                    <a:ext cx="2705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924360" y="4149720"/>
          <a:ext cx="27939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2793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780000" y="2060640"/>
          <a:ext cx="2958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060640"/>
                    <a:ext cx="2958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635280" y="4149720"/>
          <a:ext cx="29336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2933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348000" y="2060640"/>
          <a:ext cx="3861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60640"/>
                    <a:ext cx="3861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492360" y="4149720"/>
          <a:ext cx="3733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149720"/>
                    <a:ext cx="3733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51280" y="1628640"/>
          <a:ext cx="265428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628640"/>
                    <a:ext cx="26542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851280" y="3645000"/>
          <a:ext cx="260352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645000"/>
                    <a:ext cx="26035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067280" y="1557360"/>
          <a:ext cx="25527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57360"/>
                    <a:ext cx="25527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995640" y="3645000"/>
          <a:ext cx="25401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3645000"/>
                    <a:ext cx="25401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03640" y="1989000"/>
          <a:ext cx="43941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43941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059280" y="4005360"/>
          <a:ext cx="458460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4005360"/>
                    <a:ext cx="45846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276720" y="1773360"/>
          <a:ext cx="38988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773360"/>
                    <a:ext cx="3898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564000" y="3860640"/>
          <a:ext cx="3479760" cy="11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860640"/>
                    <a:ext cx="347976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924360" y="1628640"/>
          <a:ext cx="28573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628640"/>
                    <a:ext cx="28573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924360" y="3573360"/>
          <a:ext cx="243828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24382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211640" y="1557360"/>
          <a:ext cx="195588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557360"/>
                    <a:ext cx="19558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140360" y="3645000"/>
          <a:ext cx="193032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3645000"/>
                    <a:ext cx="19303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492360" y="2060640"/>
          <a:ext cx="37972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60640"/>
                    <a:ext cx="3797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564000" y="4149720"/>
          <a:ext cx="34923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149720"/>
                    <a:ext cx="3492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348000" y="2060640"/>
          <a:ext cx="3822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60640"/>
                    <a:ext cx="3822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419640" y="4149720"/>
          <a:ext cx="38988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89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284720" y="2060640"/>
          <a:ext cx="1422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060640"/>
                    <a:ext cx="1422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284720" y="4149720"/>
          <a:ext cx="13842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149720"/>
                    <a:ext cx="1384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14640" y="2060640"/>
          <a:ext cx="2438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14640" y="2060640"/>
                    <a:ext cx="2438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995640" y="4149720"/>
          <a:ext cx="23623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362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429080" y="1628640"/>
          <a:ext cx="149868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9080" y="1628640"/>
                    <a:ext cx="14986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416480" y="3645000"/>
          <a:ext cx="147312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6480" y="3645000"/>
                    <a:ext cx="14731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200480" y="1557360"/>
          <a:ext cx="14223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0480" y="1557360"/>
                    <a:ext cx="14223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284720" y="3645000"/>
          <a:ext cx="139680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645000"/>
                    <a:ext cx="13968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060800" y="1989000"/>
          <a:ext cx="26798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0800" y="1989000"/>
                    <a:ext cx="26798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017960" y="4005360"/>
          <a:ext cx="26668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17960" y="4005360"/>
                    <a:ext cx="26668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241880" y="1773360"/>
          <a:ext cx="196848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773360"/>
                    <a:ext cx="19684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408560" y="3860640"/>
          <a:ext cx="1790640" cy="11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8560" y="3860640"/>
                    <a:ext cx="17906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857840" y="1628640"/>
          <a:ext cx="99036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7840" y="1628640"/>
                    <a:ext cx="99036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859280" y="3573360"/>
          <a:ext cx="100332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573360"/>
                    <a:ext cx="10033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6T02:35:19Z</dcterms:modified>
  <cp:revision>23</cp:revision>
  <dc:subject/>
  <dc:title>Diapositive 1</dc:title>
</cp:coreProperties>
</file>