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9BA-0DB0-444E-8BB4-8DC1DBD9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719-B5FD-472F-82CE-0CB1DE2E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982-1EDF-4694-BA50-768DD92B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8C4-300D-4FD8-AEFE-8A0FFFDA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10C-5EB9-4D26-978A-85542383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13C-D253-41FE-BDAD-16C79971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9C9-7612-4FFA-B3EA-985A12C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84D-A259-46A1-8E88-63E5508E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19D-82A2-4867-8635-09A97BCB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A2A-D4D9-4851-BC60-FB0F6A86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19C-6712-4D10-94AA-F01BAF0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99B-C6DD-4265-98BA-0C7A055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B193-DA91-4220-B56F-4E63D19D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2492280"/>
          <a:ext cx="7632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32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3800" y="1413000"/>
            <a:ext cx="633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s le résultat sous la for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59640" y="1341360"/>
          <a:ext cx="1930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341360"/>
                    <a:ext cx="193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979640" y="2637000"/>
          <a:ext cx="5256360" cy="23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637000"/>
                    <a:ext cx="52563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965480" cy="456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81040" y="602136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C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51960" y="5950080"/>
            <a:ext cx="58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I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37040" cy="38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68360" y="5156280"/>
          <a:ext cx="467388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673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7760" cy="38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556000" y="5156280"/>
          <a:ext cx="445752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156280"/>
                    <a:ext cx="445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059360" cy="39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124000" y="5156280"/>
          <a:ext cx="50547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5156280"/>
                    <a:ext cx="5054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776920" cy="398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9600" y="55641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s droites (d) et (d’) son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7640" y="1341360"/>
            <a:ext cx="77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C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00360" y="2276640"/>
          <a:ext cx="40323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032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565360"/>
          <a:ext cx="88930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8893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708280"/>
          <a:ext cx="91440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1440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3760" y="2637000"/>
          <a:ext cx="8628120" cy="23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2637000"/>
                    <a:ext cx="862812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0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0560" y="1308240"/>
            <a:ext cx="75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I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558880"/>
            <a:ext cx="5487840" cy="42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333760" cy="43401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470480" cy="4327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816960" cy="470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960" y="134136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 peut-on dire des droites (d) et (d’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708360" y="2852640"/>
          <a:ext cx="17272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1727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047600" y="141300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le résultat sous la forme d’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47640" y="2276640"/>
          <a:ext cx="590400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76640"/>
                    <a:ext cx="59040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40:31Z</dcterms:modified>
  <cp:revision>24</cp:revision>
  <dc:subject/>
  <dc:title>Diapositive 1</dc:title>
</cp:coreProperties>
</file>