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1CD-3A8C-487E-B3D5-F4B8ED8DA3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BCBB-9BFF-447F-AB5C-5FE4F7DBC9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C430-374F-4109-85B3-1F490EE36D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A76A-0044-4358-A183-7210E7975C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F02-4C99-462D-B15C-CF146DE516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A47-E49B-483D-BA6F-1041F08F41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DCB-F625-49CB-87FF-D35948507C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8CC-B6C3-4B56-92EA-3CBF127645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059E-3D5B-4F6F-9E96-D03EE3DC92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CA03-E355-4716-B12C-C3E5E3FC58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9E30-B542-45BB-958E-68128E8AF1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163F-56A9-4AC9-B551-8D80CB7212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352-C6A1-47D7-8F91-37194A5DB8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2FA2-E818-4931-81F4-4ED109EEF3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981-D6C2-4F72-92AF-86B74853D7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341-10CB-407F-8353-D5504EAB67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1E5-6864-4922-A6D3-3485DE943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7D6-3823-49E5-B84A-BDCA6CF6E9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D1A-CF8E-434F-9082-4C50656E4E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86FA-DDE4-4B5A-B447-4497B1A578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07A1-5945-4BCC-B9C0-9E3E344309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2E11-D955-4A13-B43C-74C689E6A3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801-3A86-49BD-9C30-BE762907EE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4270-0406-4841-AE62-24B3A39604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81BD-4B26-4085-A363-E563DFB540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BDD4-893B-4C92-8EEC-FA20356662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349-F478-4366-A470-5093B40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FC3-21B1-4A3F-B6D4-CC11B43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C60-FA87-4C3B-BD1C-989F8C14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0CB-7645-4394-B01E-1A0E1C75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61F-F42D-4724-B10A-CA188385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197-7F76-49F8-B66E-827F2BF1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158-E8FE-4B42-9AED-CCF0F3B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1AC-5E8F-4C65-BA3C-D35349A4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FE0-8EA7-4F17-B170-3A34505B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110-F270-485F-BF94-02B0BF5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793-B66B-45C9-BC5A-CCDBB8B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E07-61EE-490F-A814-4A29A9C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371-6970-4F52-B0A7-24BEBAA239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716360" y="1557360"/>
          <a:ext cx="1003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003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800600" y="3573360"/>
          <a:ext cx="97776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73360"/>
                    <a:ext cx="9777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162320" y="1989000"/>
          <a:ext cx="24764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2320" y="1989000"/>
                    <a:ext cx="2476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168800" y="4076640"/>
          <a:ext cx="24638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4076640"/>
                    <a:ext cx="2463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572000" y="1916280"/>
          <a:ext cx="5842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584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716360" y="4076640"/>
          <a:ext cx="57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76640"/>
                    <a:ext cx="57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286080" y="2054160"/>
          <a:ext cx="2997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4160"/>
                    <a:ext cx="2997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65640" y="4149720"/>
          <a:ext cx="2946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4149720"/>
                    <a:ext cx="2946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41964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419640" y="4149720"/>
          <a:ext cx="387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78200" y="1628640"/>
          <a:ext cx="26668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628640"/>
                    <a:ext cx="26668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30720" y="3573360"/>
          <a:ext cx="39240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0720" y="3573360"/>
                    <a:ext cx="3924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797280" y="1557360"/>
          <a:ext cx="29718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1557360"/>
                    <a:ext cx="2971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670200" y="3645000"/>
          <a:ext cx="32004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645000"/>
                    <a:ext cx="32004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427640" y="1557360"/>
          <a:ext cx="186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186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495680" y="3645000"/>
          <a:ext cx="1854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645000"/>
                    <a:ext cx="1854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151080" y="1989000"/>
          <a:ext cx="41403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989000"/>
                    <a:ext cx="4140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16240" y="414972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6240" y="414972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151080" y="1773360"/>
          <a:ext cx="41022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73360"/>
                    <a:ext cx="4102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151080" y="3789360"/>
          <a:ext cx="41148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789360"/>
                    <a:ext cx="4114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84760" y="1557360"/>
          <a:ext cx="26668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155736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68640" y="3573360"/>
          <a:ext cx="26416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8640" y="3573360"/>
                    <a:ext cx="2641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348000" y="1989000"/>
          <a:ext cx="4191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191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305160" y="407664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407664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90800" y="1916280"/>
          <a:ext cx="2146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916280"/>
                    <a:ext cx="2146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4149720"/>
          <a:ext cx="2133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33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9"/>
          <p:cNvGraphicFramePr/>
          <p:nvPr/>
        </p:nvGraphicFramePr>
        <p:xfrm>
          <a:off x="3851280" y="2060640"/>
          <a:ext cx="186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186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0"/>
          <p:cNvGraphicFramePr/>
          <p:nvPr/>
        </p:nvGraphicFramePr>
        <p:xfrm>
          <a:off x="3924360" y="4149720"/>
          <a:ext cx="182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182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851280" y="2060640"/>
          <a:ext cx="2387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3851280" y="4221000"/>
          <a:ext cx="2387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387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1628640"/>
          <a:ext cx="15112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5112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3573360"/>
          <a:ext cx="1473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473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438800" y="3645000"/>
          <a:ext cx="16635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3645000"/>
                    <a:ext cx="16635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564000" y="1557360"/>
          <a:ext cx="38606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38606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498840" y="3645000"/>
          <a:ext cx="384804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3645000"/>
                    <a:ext cx="38480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995640" y="1989000"/>
          <a:ext cx="24512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51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067280" y="4149720"/>
          <a:ext cx="24890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489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211640" y="1773360"/>
          <a:ext cx="1981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81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211640" y="3789360"/>
          <a:ext cx="19940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1994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8-29T16:21:25Z</dcterms:modified>
  <cp:revision>19</cp:revision>
  <dc:subject/>
  <dc:title>Diapositive 1</dc:title>
</cp:coreProperties>
</file>