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3079-AAF6-40A3-B294-9CACD67CA2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AE42-3991-441E-AAA2-4094C3EA11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9952-BDB0-4FE0-A542-7C3C73D001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EE5E-F4A8-46AD-8D92-4E776C8ED4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D78E-E771-4715-BED2-3F7ED7B505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2C65-6D66-4331-A86D-2B812A968A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146C-34EB-444F-B1CA-6B09213411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9AC9-2709-4D76-90CC-D892A97B94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42DD-0FED-41EA-901E-927A0A45C3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CF76-D117-4762-81C6-750BDDB836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25C8-ABFF-4707-896F-A9A4414BC9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7228-BA95-489A-B853-45B9F33536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959B-CF15-4F94-B189-318A0D64D7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648C-094F-4544-A0BD-62D822E623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44F2-B2EA-418A-8A1A-65CFDDDC25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0E80-5FC1-4BD4-981E-27C1C56CBA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F6C0-6985-47CE-A46A-D1CFF828428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6E14-7246-4E10-86E7-CD6E4E1B0F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E233-D583-4F47-94B6-83B3CFC451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BE23-3AED-417F-BED7-60BA133E19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55EE-F578-4458-A987-AB8913616A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DEC0-CCF6-40C5-B0B1-48399477F7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B0C8-CAE9-4FA7-9E50-6071C73107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1F08-E786-49DD-BFE1-29F9B1535C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568C-DBA6-441A-926A-11EA00DB90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6D9B-7037-456B-81B1-4E723472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3E37-7578-49E0-BC8C-EB58778B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2AE6-0F9C-4144-914A-C19B0E71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15A-836E-41A2-BEB6-0444D09F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828-1CF6-4CD1-9B50-6F87FF9C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B5E4-DE57-4B07-98EC-46112F58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79A2-923F-4E15-833A-AADCF13D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97C1-A1D3-4A6C-8664-74E0EAC3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4D4-8BDA-461A-B674-A2F33B8D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904B-8DF0-4358-B305-8F9EA3D7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F74B-44C3-43BA-AD63-BB961B2D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E899-6396-4CC0-A059-4C5FAF0A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43C8-4CB7-4101-A19A-9DDC4FDC424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3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601524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Object 28"/>
          <p:cNvGraphicFramePr/>
          <p:nvPr/>
        </p:nvGraphicFramePr>
        <p:xfrm>
          <a:off x="5076720" y="6021360"/>
          <a:ext cx="38124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81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33"/>
          <p:cNvSpPr/>
          <p:nvPr/>
        </p:nvSpPr>
        <p:spPr>
          <a:xfrm>
            <a:off x="1636920" y="587700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ta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9"/>
          <p:cNvSpPr/>
          <p:nvPr/>
        </p:nvSpPr>
        <p:spPr>
          <a:xfrm>
            <a:off x="250920" y="134136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RTP est un triangle rectangle en T, écr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égalité de Pythagore correspond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8" descr=""/>
          <p:cNvPicPr/>
          <p:nvPr/>
        </p:nvPicPr>
        <p:blipFill>
          <a:blip r:embed="rId1"/>
          <a:stretch/>
        </p:blipFill>
        <p:spPr>
          <a:xfrm>
            <a:off x="2700360" y="2617920"/>
            <a:ext cx="3645000" cy="4240080"/>
          </a:xfrm>
          <a:prstGeom prst="rect">
            <a:avLst/>
          </a:prstGeom>
          <a:ln w="0">
            <a:noFill/>
          </a:ln>
        </p:spPr>
      </p:pic>
    </p:spTree>
  </p:cSld>
  <p:transition spd="med" advTm="2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Object 4"/>
          <p:cNvGraphicFramePr/>
          <p:nvPr/>
        </p:nvGraphicFramePr>
        <p:xfrm>
          <a:off x="3132000" y="5445000"/>
          <a:ext cx="210816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5445000"/>
                    <a:ext cx="21081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2954160" y="5589720"/>
          <a:ext cx="2032200" cy="104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4160" y="5589720"/>
                    <a:ext cx="203220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32" descr=""/>
          <p:cNvPicPr/>
          <p:nvPr/>
        </p:nvPicPr>
        <p:blipFill>
          <a:blip r:embed="rId3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4"/>
          <p:cNvGraphicFramePr/>
          <p:nvPr/>
        </p:nvGraphicFramePr>
        <p:xfrm>
          <a:off x="2922480" y="5589720"/>
          <a:ext cx="2095560" cy="104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22480" y="5589720"/>
                    <a:ext cx="209556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3645000" cy="42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Object 4"/>
          <p:cNvGraphicFramePr/>
          <p:nvPr/>
        </p:nvGraphicFramePr>
        <p:xfrm>
          <a:off x="3059280" y="5516640"/>
          <a:ext cx="204444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5516640"/>
                    <a:ext cx="20444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3645000" cy="42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4"/>
          <p:cNvGraphicFramePr/>
          <p:nvPr/>
        </p:nvGraphicFramePr>
        <p:xfrm>
          <a:off x="3078000" y="5516640"/>
          <a:ext cx="200664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78000" y="5516640"/>
                    <a:ext cx="20066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3645000" cy="42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Object 4"/>
          <p:cNvGraphicFramePr/>
          <p:nvPr/>
        </p:nvGraphicFramePr>
        <p:xfrm>
          <a:off x="2843280" y="5516640"/>
          <a:ext cx="204480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5516640"/>
                    <a:ext cx="204480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3"/>
          <p:cNvSpPr/>
          <p:nvPr/>
        </p:nvSpPr>
        <p:spPr>
          <a:xfrm>
            <a:off x="1637640" y="587700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cos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34"/>
          <p:cNvGraphicFramePr/>
          <p:nvPr/>
        </p:nvGraphicFramePr>
        <p:xfrm>
          <a:off x="5076720" y="595008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3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595008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2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3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01524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Object 4"/>
          <p:cNvGraphicFramePr/>
          <p:nvPr/>
        </p:nvGraphicFramePr>
        <p:xfrm>
          <a:off x="3276720" y="5373720"/>
          <a:ext cx="215892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5373720"/>
                    <a:ext cx="215892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33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01524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Object 4"/>
          <p:cNvGraphicFramePr/>
          <p:nvPr/>
        </p:nvGraphicFramePr>
        <p:xfrm>
          <a:off x="3308400" y="5373720"/>
          <a:ext cx="209556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8400" y="5373720"/>
                    <a:ext cx="20955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33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01524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Object 4"/>
          <p:cNvGraphicFramePr/>
          <p:nvPr/>
        </p:nvGraphicFramePr>
        <p:xfrm>
          <a:off x="3289320" y="5373720"/>
          <a:ext cx="213372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89320" y="5373720"/>
                    <a:ext cx="213372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7"/>
          <p:cNvSpPr/>
          <p:nvPr/>
        </p:nvSpPr>
        <p:spPr>
          <a:xfrm>
            <a:off x="2748960" y="5661000"/>
            <a:ext cx="357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P² = RT² + TP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6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3645000" cy="424044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3"/>
          <p:cNvSpPr/>
          <p:nvPr/>
        </p:nvSpPr>
        <p:spPr>
          <a:xfrm>
            <a:off x="1637280" y="5877000"/>
            <a:ext cx="348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si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28"/>
          <p:cNvGraphicFramePr/>
          <p:nvPr/>
        </p:nvGraphicFramePr>
        <p:xfrm>
          <a:off x="5076720" y="595008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595008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2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Object 26"/>
          <p:cNvGraphicFramePr/>
          <p:nvPr/>
        </p:nvGraphicFramePr>
        <p:xfrm>
          <a:off x="5076720" y="595008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595008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33"/>
          <p:cNvSpPr/>
          <p:nvPr/>
        </p:nvSpPr>
        <p:spPr>
          <a:xfrm>
            <a:off x="1636920" y="587700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ta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3645000" cy="4240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3"/>
          <p:cNvSpPr/>
          <p:nvPr/>
        </p:nvSpPr>
        <p:spPr>
          <a:xfrm>
            <a:off x="1638360" y="5877000"/>
            <a:ext cx="369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cos d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26"/>
          <p:cNvGraphicFramePr/>
          <p:nvPr/>
        </p:nvGraphicFramePr>
        <p:xfrm>
          <a:off x="5076720" y="602136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2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644640" cy="42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Object 28"/>
          <p:cNvGraphicFramePr/>
          <p:nvPr/>
        </p:nvGraphicFramePr>
        <p:xfrm>
          <a:off x="5076720" y="602136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33"/>
          <p:cNvSpPr/>
          <p:nvPr/>
        </p:nvSpPr>
        <p:spPr>
          <a:xfrm>
            <a:off x="1637280" y="5877000"/>
            <a:ext cx="348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si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2627280" y="1341360"/>
            <a:ext cx="3645000" cy="42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Object 28"/>
          <p:cNvGraphicFramePr/>
          <p:nvPr/>
        </p:nvGraphicFramePr>
        <p:xfrm>
          <a:off x="5076720" y="602136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33"/>
          <p:cNvSpPr/>
          <p:nvPr/>
        </p:nvSpPr>
        <p:spPr>
          <a:xfrm>
            <a:off x="1636920" y="587700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ta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3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015240" cy="4114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3"/>
          <p:cNvSpPr/>
          <p:nvPr/>
        </p:nvSpPr>
        <p:spPr>
          <a:xfrm>
            <a:off x="1638360" y="5877000"/>
            <a:ext cx="369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cos d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28"/>
          <p:cNvGraphicFramePr/>
          <p:nvPr/>
        </p:nvGraphicFramePr>
        <p:xfrm>
          <a:off x="5076720" y="6021360"/>
          <a:ext cx="38124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81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2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3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01488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39"/>
          <p:cNvGraphicFramePr/>
          <p:nvPr/>
        </p:nvGraphicFramePr>
        <p:xfrm>
          <a:off x="5076720" y="6021360"/>
          <a:ext cx="38124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81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33"/>
          <p:cNvSpPr/>
          <p:nvPr/>
        </p:nvSpPr>
        <p:spPr>
          <a:xfrm>
            <a:off x="1637280" y="5877000"/>
            <a:ext cx="348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si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0-11-19T02:33:06Z</dcterms:modified>
  <cp:revision>21</cp:revision>
  <dc:subject/>
  <dc:title>Diapositive 1</dc:title>
</cp:coreProperties>
</file>