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24E0-8AC9-4A02-BDF0-FAEA4449A3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C1C5-1C09-42CC-AA39-1CA3D2ED1F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D5A6-EDBB-4504-B763-AAFED20A04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E1F5-B245-4604-B83F-B78F1E1D3B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A80C-2FDA-47D5-87CC-C356984FAF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97B9-E3E3-4831-88FF-35B2FF2E49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2460-D0E0-463D-ADB6-DD4ABB4A33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03BA-2DA3-435F-B887-30153B4393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BE33-D9D2-4AE7-AA1C-40ABAF4F65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8383-DE56-4189-A944-3346D14C95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CBF6-08CE-46D2-9115-7BE7C333B1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0667-B632-465E-9DBA-9036F21F6F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F3B1-3866-4C0F-A6CF-B3FFF44207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F7EB-6B67-4EE1-8F71-AD123B253D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EE15-C733-48FD-A27A-270BAC9ACB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12BF-9AA6-49B2-8E2D-43307C85DC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03F9-57A1-46F3-A9DF-747493F6E6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46EE-FBE1-42F3-AD93-435704E0BC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6476-E9FD-48BB-8BAE-ABC5F51285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3E65-4F5B-449A-AE97-2A6E9EEA93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EEE3-F176-4766-99BC-B681CB2A4A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61F2-31E7-4BBE-A5B9-B78A1AB965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915D-8955-4137-8529-26076EAFA5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E57A-579B-4A7F-AF93-F4BB65D32B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267A-748C-46F3-A696-0CFE8E81B0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8FD1-667F-4439-8CF6-0BAF9AB28D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DB7F-F1C8-46D6-BE7E-AE0EB5AC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1E3-86E7-4F34-B3A1-34E54820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F4B-BCA8-4DA3-9128-9A464B6C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4665-4331-4CA1-A68E-276C3100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97B-19C2-496B-BF05-CA9CB179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C02-AE4B-4ADA-A1A9-DED182AE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3D1-5BDB-46A3-BD7D-C0D7CBE3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BDF6-1D91-4FED-A0BE-513D00E1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AAF-3080-4629-93DA-39F1122F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494E-795E-4495-8F7C-38D11CB7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463A-4F4E-4404-80DE-3D561C82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CFBA-8028-4717-9250-E8497A5A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58EC-7C35-4C75-8393-E8060C976DE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17"/>
          <p:cNvGraphicFramePr/>
          <p:nvPr/>
        </p:nvGraphicFramePr>
        <p:xfrm>
          <a:off x="3635280" y="2133720"/>
          <a:ext cx="344196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133720"/>
                    <a:ext cx="34419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8"/>
          <p:cNvGraphicFramePr/>
          <p:nvPr/>
        </p:nvGraphicFramePr>
        <p:xfrm>
          <a:off x="3419640" y="4149720"/>
          <a:ext cx="345420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4542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2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1397160"/>
          <a:ext cx="6096240" cy="413532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2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oriser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oriser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18"/>
          <p:cNvGraphicFramePr/>
          <p:nvPr/>
        </p:nvGraphicFramePr>
        <p:xfrm>
          <a:off x="4427640" y="2492280"/>
          <a:ext cx="17524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492280"/>
                    <a:ext cx="17524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21"/>
          <p:cNvGraphicFramePr/>
          <p:nvPr/>
        </p:nvGraphicFramePr>
        <p:xfrm>
          <a:off x="4427640" y="4581360"/>
          <a:ext cx="172692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581360"/>
                    <a:ext cx="17269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17"/>
          <p:cNvGraphicFramePr/>
          <p:nvPr/>
        </p:nvGraphicFramePr>
        <p:xfrm>
          <a:off x="3924360" y="1916280"/>
          <a:ext cx="2286000" cy="100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916280"/>
                    <a:ext cx="2286000" cy="100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18"/>
          <p:cNvGraphicFramePr/>
          <p:nvPr/>
        </p:nvGraphicFramePr>
        <p:xfrm>
          <a:off x="3851280" y="4005360"/>
          <a:ext cx="218448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005360"/>
                    <a:ext cx="21844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1280" y="1397160"/>
          <a:ext cx="7632720" cy="4063680"/>
        </p:xfrm>
        <a:graphic>
          <a:graphicData uri="http://schemas.openxmlformats.org/drawingml/2006/table">
            <a:tbl>
              <a:tblPr/>
              <a:tblGrid>
                <a:gridCol w="1873080"/>
                <a:gridCol w="5759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b)²</a:t>
                      </a: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=a²+2ab+b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-b)²</a:t>
                      </a: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=a²-2ab+b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10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1397160"/>
          <a:ext cx="8209080" cy="4063680"/>
        </p:xfrm>
        <a:graphic>
          <a:graphicData uri="http://schemas.openxmlformats.org/drawingml/2006/table">
            <a:tbl>
              <a:tblPr/>
              <a:tblGrid>
                <a:gridCol w="1871640"/>
                <a:gridCol w="63374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15"/>
          <p:cNvGraphicFramePr/>
          <p:nvPr/>
        </p:nvGraphicFramePr>
        <p:xfrm>
          <a:off x="2195640" y="1989000"/>
          <a:ext cx="598140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89000"/>
                    <a:ext cx="59814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20"/>
          <p:cNvGraphicFramePr/>
          <p:nvPr/>
        </p:nvGraphicFramePr>
        <p:xfrm>
          <a:off x="2195640" y="4076640"/>
          <a:ext cx="595620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4076640"/>
                    <a:ext cx="59562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10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1397160"/>
          <a:ext cx="8713800" cy="4063680"/>
        </p:xfrm>
        <a:graphic>
          <a:graphicData uri="http://schemas.openxmlformats.org/drawingml/2006/table">
            <a:tbl>
              <a:tblPr/>
              <a:tblGrid>
                <a:gridCol w="1657080"/>
                <a:gridCol w="7056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19"/>
          <p:cNvGraphicFramePr/>
          <p:nvPr/>
        </p:nvGraphicFramePr>
        <p:xfrm>
          <a:off x="2050920" y="1916280"/>
          <a:ext cx="6794640" cy="100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16280"/>
                    <a:ext cx="6794640" cy="100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0"/>
          <p:cNvGraphicFramePr/>
          <p:nvPr/>
        </p:nvGraphicFramePr>
        <p:xfrm>
          <a:off x="1835280" y="4005360"/>
          <a:ext cx="706104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005360"/>
                    <a:ext cx="70610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1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1397160"/>
          <a:ext cx="8856720" cy="4063680"/>
        </p:xfrm>
        <a:graphic>
          <a:graphicData uri="http://schemas.openxmlformats.org/drawingml/2006/table">
            <a:tbl>
              <a:tblPr/>
              <a:tblGrid>
                <a:gridCol w="1656000"/>
                <a:gridCol w="7200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21"/>
          <p:cNvGraphicFramePr/>
          <p:nvPr/>
        </p:nvGraphicFramePr>
        <p:xfrm>
          <a:off x="2050920" y="1989000"/>
          <a:ext cx="67438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89000"/>
                    <a:ext cx="67438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22"/>
          <p:cNvGraphicFramePr/>
          <p:nvPr/>
        </p:nvGraphicFramePr>
        <p:xfrm>
          <a:off x="2195640" y="4076640"/>
          <a:ext cx="629892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4076640"/>
                    <a:ext cx="62989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1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397160"/>
          <a:ext cx="7296120" cy="4063680"/>
        </p:xfrm>
        <a:graphic>
          <a:graphicData uri="http://schemas.openxmlformats.org/drawingml/2006/table">
            <a:tbl>
              <a:tblPr/>
              <a:tblGrid>
                <a:gridCol w="1655640"/>
                <a:gridCol w="56404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15"/>
          <p:cNvGraphicFramePr/>
          <p:nvPr/>
        </p:nvGraphicFramePr>
        <p:xfrm>
          <a:off x="2195640" y="1989000"/>
          <a:ext cx="52956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89000"/>
                    <a:ext cx="52956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8"/>
          <p:cNvGraphicFramePr/>
          <p:nvPr/>
        </p:nvGraphicFramePr>
        <p:xfrm>
          <a:off x="2111400" y="4076640"/>
          <a:ext cx="532116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11400" y="4076640"/>
                    <a:ext cx="53211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68360" y="1397160"/>
          <a:ext cx="7704000" cy="4063680"/>
        </p:xfrm>
        <a:graphic>
          <a:graphicData uri="http://schemas.openxmlformats.org/drawingml/2006/table">
            <a:tbl>
              <a:tblPr/>
              <a:tblGrid>
                <a:gridCol w="1727280"/>
                <a:gridCol w="5976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15"/>
          <p:cNvGraphicFramePr/>
          <p:nvPr/>
        </p:nvGraphicFramePr>
        <p:xfrm>
          <a:off x="2627280" y="1989000"/>
          <a:ext cx="520704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989000"/>
                    <a:ext cx="52070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21"/>
          <p:cNvGraphicFramePr/>
          <p:nvPr/>
        </p:nvGraphicFramePr>
        <p:xfrm>
          <a:off x="2627280" y="4149720"/>
          <a:ext cx="515628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4149720"/>
                    <a:ext cx="51562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1397160"/>
          <a:ext cx="864216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9134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15"/>
          <p:cNvGraphicFramePr/>
          <p:nvPr/>
        </p:nvGraphicFramePr>
        <p:xfrm>
          <a:off x="1979640" y="1916280"/>
          <a:ext cx="69469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916280"/>
                    <a:ext cx="6946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22"/>
          <p:cNvGraphicFramePr/>
          <p:nvPr/>
        </p:nvGraphicFramePr>
        <p:xfrm>
          <a:off x="1979640" y="4005360"/>
          <a:ext cx="69469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4005360"/>
                    <a:ext cx="6946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50920" y="1397160"/>
          <a:ext cx="878508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70563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Object 19"/>
          <p:cNvGraphicFramePr/>
          <p:nvPr/>
        </p:nvGraphicFramePr>
        <p:xfrm>
          <a:off x="2124000" y="1557360"/>
          <a:ext cx="684072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57360"/>
                    <a:ext cx="68407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20"/>
          <p:cNvGraphicFramePr/>
          <p:nvPr/>
        </p:nvGraphicFramePr>
        <p:xfrm>
          <a:off x="2050920" y="3716280"/>
          <a:ext cx="6842160" cy="14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716280"/>
                    <a:ext cx="684216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1397160"/>
          <a:ext cx="8281800" cy="4063680"/>
        </p:xfrm>
        <a:graphic>
          <a:graphicData uri="http://schemas.openxmlformats.org/drawingml/2006/table">
            <a:tbl>
              <a:tblPr/>
              <a:tblGrid>
                <a:gridCol w="1657080"/>
                <a:gridCol w="6624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15"/>
          <p:cNvGraphicFramePr/>
          <p:nvPr/>
        </p:nvGraphicFramePr>
        <p:xfrm>
          <a:off x="1979640" y="1989000"/>
          <a:ext cx="63500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989000"/>
                    <a:ext cx="63500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9"/>
          <p:cNvGraphicFramePr/>
          <p:nvPr/>
        </p:nvGraphicFramePr>
        <p:xfrm>
          <a:off x="1922400" y="3933720"/>
          <a:ext cx="64645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2400" y="3933720"/>
                    <a:ext cx="64645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397160"/>
          <a:ext cx="8642160" cy="4063680"/>
        </p:xfrm>
        <a:graphic>
          <a:graphicData uri="http://schemas.openxmlformats.org/drawingml/2006/table">
            <a:tbl>
              <a:tblPr/>
              <a:tblGrid>
                <a:gridCol w="1657080"/>
                <a:gridCol w="6985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20"/>
          <p:cNvGraphicFramePr/>
          <p:nvPr/>
        </p:nvGraphicFramePr>
        <p:xfrm>
          <a:off x="2124000" y="1844640"/>
          <a:ext cx="656604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844640"/>
                    <a:ext cx="65660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21"/>
          <p:cNvGraphicFramePr/>
          <p:nvPr/>
        </p:nvGraphicFramePr>
        <p:xfrm>
          <a:off x="1979640" y="4076640"/>
          <a:ext cx="689616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4076640"/>
                    <a:ext cx="68961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b)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-b)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17"/>
          <p:cNvGraphicFramePr/>
          <p:nvPr/>
        </p:nvGraphicFramePr>
        <p:xfrm>
          <a:off x="4140360" y="1916280"/>
          <a:ext cx="2082600" cy="86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916280"/>
                    <a:ext cx="208260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18"/>
          <p:cNvGraphicFramePr/>
          <p:nvPr/>
        </p:nvGraphicFramePr>
        <p:xfrm>
          <a:off x="4211640" y="4005360"/>
          <a:ext cx="207000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005360"/>
                    <a:ext cx="2070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2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5"/>
          <p:cNvGraphicFramePr/>
          <p:nvPr/>
        </p:nvGraphicFramePr>
        <p:xfrm>
          <a:off x="4067280" y="1916280"/>
          <a:ext cx="2514600" cy="100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916280"/>
                    <a:ext cx="2514600" cy="100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16"/>
          <p:cNvGraphicFramePr/>
          <p:nvPr/>
        </p:nvGraphicFramePr>
        <p:xfrm>
          <a:off x="3924360" y="4076640"/>
          <a:ext cx="267948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076640"/>
                    <a:ext cx="2679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2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15"/>
          <p:cNvGraphicFramePr/>
          <p:nvPr/>
        </p:nvGraphicFramePr>
        <p:xfrm>
          <a:off x="3851280" y="1773360"/>
          <a:ext cx="248904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773360"/>
                    <a:ext cx="24890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6"/>
          <p:cNvGraphicFramePr/>
          <p:nvPr/>
        </p:nvGraphicFramePr>
        <p:xfrm>
          <a:off x="3851280" y="3933720"/>
          <a:ext cx="22734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933720"/>
                    <a:ext cx="22734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2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17"/>
          <p:cNvGraphicFramePr/>
          <p:nvPr/>
        </p:nvGraphicFramePr>
        <p:xfrm>
          <a:off x="3995640" y="1989000"/>
          <a:ext cx="24004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2400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8"/>
          <p:cNvGraphicFramePr/>
          <p:nvPr/>
        </p:nvGraphicFramePr>
        <p:xfrm>
          <a:off x="3989520" y="4005360"/>
          <a:ext cx="24127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89520" y="4005360"/>
                    <a:ext cx="24127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17"/>
          <p:cNvGraphicFramePr/>
          <p:nvPr/>
        </p:nvGraphicFramePr>
        <p:xfrm>
          <a:off x="4067280" y="1989000"/>
          <a:ext cx="234936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989000"/>
                    <a:ext cx="23493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18"/>
          <p:cNvGraphicFramePr/>
          <p:nvPr/>
        </p:nvGraphicFramePr>
        <p:xfrm>
          <a:off x="3851280" y="4149720"/>
          <a:ext cx="23623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3623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17"/>
          <p:cNvGraphicFramePr/>
          <p:nvPr/>
        </p:nvGraphicFramePr>
        <p:xfrm>
          <a:off x="4140360" y="1989000"/>
          <a:ext cx="19810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989000"/>
                    <a:ext cx="19810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8"/>
          <p:cNvGraphicFramePr/>
          <p:nvPr/>
        </p:nvGraphicFramePr>
        <p:xfrm>
          <a:off x="4140360" y="4076640"/>
          <a:ext cx="19810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076640"/>
                    <a:ext cx="19810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11-15T20:15:17Z</dcterms:modified>
  <cp:revision>22</cp:revision>
  <dc:subject/>
  <dc:title>Diapositive 1</dc:title>
</cp:coreProperties>
</file>