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0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30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0F30-439E-4385-9311-325A272C5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DC1C-FC09-4A34-9F56-80306D46A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6E63-05BC-4554-87E3-5DEE906E6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F6D4-0924-424E-B660-D0E4A435F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FA74-C449-4F52-9920-0CE28009D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A74E-574A-4264-BF6D-DD1B0BBC0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BDCF-8D85-4E5F-B4F8-E261A49CB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88A6-4C10-411B-BD48-F51B3F266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81FB-8BC0-4D47-8342-4CF03279D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0E99-45B9-471F-8FB3-CFD0EDBA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60D3-6830-4829-9DB2-8CDD5995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FA05-1983-40DC-93FE-8E27F031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A5704-2CEA-45E6-9510-FB9174C3F6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276720" y="1916280"/>
          <a:ext cx="3886200" cy="88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916280"/>
                    <a:ext cx="388620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3276720" y="4005360"/>
          <a:ext cx="3886200" cy="88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4005360"/>
                    <a:ext cx="388620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3000">
    <p:cover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1" dur="20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780000" y="1989000"/>
          <a:ext cx="265428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1989000"/>
                    <a:ext cx="265428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3635280" y="3933720"/>
          <a:ext cx="2400480" cy="77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35280" y="3933720"/>
                    <a:ext cx="240048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8" dur="15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851280" y="1989000"/>
          <a:ext cx="266688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1989000"/>
                    <a:ext cx="266688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3851280" y="4005360"/>
          <a:ext cx="264168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4005360"/>
                    <a:ext cx="264168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5" dur="10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1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155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155" fill="hold"/>
                                        <p:tgtEl>
                                          <p:spTgt spid="1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115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115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523880" y="1397160"/>
          <a:ext cx="693576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532764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203640" y="2205000"/>
          <a:ext cx="51688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2205000"/>
                    <a:ext cx="51688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3348000" y="4149720"/>
          <a:ext cx="487692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4149720"/>
                    <a:ext cx="48769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0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492360" y="1628640"/>
          <a:ext cx="3175200" cy="17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1628640"/>
                    <a:ext cx="317520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3564000" y="3573360"/>
          <a:ext cx="2819160" cy="170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3573360"/>
                    <a:ext cx="281916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7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203640" y="1989000"/>
          <a:ext cx="438156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989000"/>
                    <a:ext cx="438156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3851280" y="3500280"/>
          <a:ext cx="2844720" cy="175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3500280"/>
                    <a:ext cx="284472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4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3348000" y="1989000"/>
          <a:ext cx="389880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989000"/>
                    <a:ext cx="389880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3348000" y="4149720"/>
          <a:ext cx="373392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4149720"/>
                    <a:ext cx="37339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1" dur="5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95280" y="1413000"/>
          <a:ext cx="8280360" cy="4064040"/>
        </p:xfrm>
        <a:graphic>
          <a:graphicData uri="http://schemas.openxmlformats.org/drawingml/2006/table">
            <a:tbl>
              <a:tblPr/>
              <a:tblGrid>
                <a:gridCol w="1608120"/>
                <a:gridCol w="667224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124000" y="2060640"/>
          <a:ext cx="61214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060640"/>
                    <a:ext cx="61214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2050920" y="4149720"/>
          <a:ext cx="650268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0920" y="4149720"/>
                    <a:ext cx="650268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8" dur="10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476360" y="981000"/>
          <a:ext cx="6095880" cy="1224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haut: SUJET 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1403280" y="3716280"/>
          <a:ext cx="6096240" cy="1368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bas: SUJET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50920" y="1341360"/>
          <a:ext cx="8066160" cy="4064040"/>
        </p:xfrm>
        <a:graphic>
          <a:graphicData uri="http://schemas.openxmlformats.org/drawingml/2006/table">
            <a:tbl>
              <a:tblPr/>
              <a:tblGrid>
                <a:gridCol w="1608120"/>
                <a:gridCol w="645804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050920" y="1844640"/>
          <a:ext cx="5702400" cy="88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844640"/>
                    <a:ext cx="570240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2000160" y="4076640"/>
          <a:ext cx="614700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00160" y="4076640"/>
                    <a:ext cx="61470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5" dur="10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68360" y="1484280"/>
          <a:ext cx="7921440" cy="4064040"/>
        </p:xfrm>
        <a:graphic>
          <a:graphicData uri="http://schemas.openxmlformats.org/drawingml/2006/table">
            <a:tbl>
              <a:tblPr/>
              <a:tblGrid>
                <a:gridCol w="1608120"/>
                <a:gridCol w="631332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2195640" y="2133720"/>
          <a:ext cx="604512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2133720"/>
                    <a:ext cx="60451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2268360" y="4149720"/>
          <a:ext cx="4864320" cy="88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4149720"/>
                    <a:ext cx="486432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2" dur="10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50920" y="1397160"/>
          <a:ext cx="7993080" cy="4063680"/>
        </p:xfrm>
        <a:graphic>
          <a:graphicData uri="http://schemas.openxmlformats.org/drawingml/2006/table">
            <a:tbl>
              <a:tblPr/>
              <a:tblGrid>
                <a:gridCol w="1728720"/>
                <a:gridCol w="626436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195640" y="1773360"/>
          <a:ext cx="5676840" cy="162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773360"/>
                    <a:ext cx="5676840" cy="16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2195640" y="3573360"/>
          <a:ext cx="5676840" cy="162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95640" y="3573360"/>
                    <a:ext cx="5676840" cy="16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15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95280" y="1397160"/>
          <a:ext cx="7848720" cy="4063680"/>
        </p:xfrm>
        <a:graphic>
          <a:graphicData uri="http://schemas.openxmlformats.org/drawingml/2006/table">
            <a:tbl>
              <a:tblPr/>
              <a:tblGrid>
                <a:gridCol w="1728720"/>
                <a:gridCol w="612000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2484360" y="2060640"/>
          <a:ext cx="556272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2060640"/>
                    <a:ext cx="556272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2411280" y="4149720"/>
          <a:ext cx="5308560" cy="8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1280" y="4149720"/>
                    <a:ext cx="530856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6" dur="10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24000" y="1397160"/>
          <a:ext cx="7296120" cy="4063680"/>
        </p:xfrm>
        <a:graphic>
          <a:graphicData uri="http://schemas.openxmlformats.org/drawingml/2006/table">
            <a:tbl>
              <a:tblPr/>
              <a:tblGrid>
                <a:gridCol w="1800000"/>
                <a:gridCol w="5496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2340000" y="1989000"/>
          <a:ext cx="480060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989000"/>
                    <a:ext cx="480060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2340000" y="4149720"/>
          <a:ext cx="500364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149720"/>
                    <a:ext cx="500364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3" dur="5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276720" y="2133720"/>
          <a:ext cx="37465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133720"/>
                    <a:ext cx="37465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348000" y="4149720"/>
          <a:ext cx="344160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4149720"/>
                    <a:ext cx="34416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" dur="1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211640" y="1628640"/>
          <a:ext cx="1727280" cy="17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1628640"/>
                    <a:ext cx="172728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4284720" y="3573360"/>
          <a:ext cx="1714320" cy="170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3573360"/>
                    <a:ext cx="171432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" dur="10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924360" y="1989000"/>
          <a:ext cx="267948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1989000"/>
                    <a:ext cx="267948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4643280" y="3573360"/>
          <a:ext cx="1003320" cy="175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3573360"/>
                    <a:ext cx="100332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" dur="10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067280" y="2060640"/>
          <a:ext cx="21463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2060640"/>
                    <a:ext cx="21463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3995640" y="4005360"/>
          <a:ext cx="222264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5640" y="4005360"/>
                    <a:ext cx="22226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419640" y="2060640"/>
          <a:ext cx="33019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2060640"/>
                    <a:ext cx="33019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492360" y="4149720"/>
          <a:ext cx="323856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360" y="4149720"/>
                    <a:ext cx="32385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0" dur="10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708360" y="1916280"/>
          <a:ext cx="2819520" cy="88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1916280"/>
                    <a:ext cx="281952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3708360" y="3860640"/>
          <a:ext cx="2882880" cy="88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3860640"/>
                    <a:ext cx="288288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7" dur="1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851280" y="1916280"/>
          <a:ext cx="2857320" cy="88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1916280"/>
                    <a:ext cx="285732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3924360" y="4076640"/>
          <a:ext cx="2336760" cy="88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4076640"/>
                    <a:ext cx="233676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" dur="1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5-20T21:13:20Z</dcterms:modified>
  <cp:revision>22</cp:revision>
  <dc:subject/>
  <dc:title>Diapositive 1</dc:title>
</cp:coreProperties>
</file>