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59EE-3B59-427A-B896-CDE82BDA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1626-2DCF-4E4B-9A1B-35DE9AFB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23F9-A192-48A4-9E1E-C97BA85F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BB88-BE17-4EEA-BA66-94CC488A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01A4-A581-4E50-8CC0-0AE5CA55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570A-61E9-4C39-AD5F-A6FC155F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3F48-22B5-4E72-A1A4-6B96033B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30B0-904C-4FD4-9816-F3FED567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CA9C-D190-494F-85B7-B9B0936B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FD8A-47A4-49FC-8F88-144D19F5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6CA3-11D6-4894-ADD0-A057F9D6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F11C-334C-4BA4-8F33-53B57C89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FA45-299D-44B7-AE48-E00C87C63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00" y="1268280"/>
            <a:ext cx="878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demandé à des élèves le nombre de fil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’ils ont vus au cinéma depuis la rentré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6896160" cy="3646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040" y="6203880"/>
            <a:ext cx="845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en d’élèves ont répondu à ce sondag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00" y="1268280"/>
            <a:ext cx="878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demandé à des élèves le nombre de fil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’ils ont vus au cinéma depuis la rentré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6896160" cy="3646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-102600" y="6014880"/>
            <a:ext cx="86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lle est la fréquence des élèves ayant vu 4 fil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4240" y="1523880"/>
            <a:ext cx="84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3280" y="282096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11 valeurs: N=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4360" y="3645000"/>
          <a:ext cx="337788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645000"/>
                    <a:ext cx="33778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633240" y="4332240"/>
            <a:ext cx="67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médiane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0" lang="en-US" sz="4000" spc="-1" strike="noStrike" baseline="30000">
                <a:solidFill>
                  <a:srgbClr val="cc0000"/>
                </a:solidFill>
                <a:latin typeface="Times New Roman"/>
              </a:rPr>
              <a:t>ème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valeur: 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4240" y="1523880"/>
            <a:ext cx="84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3280" y="282096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11 valeurs: N=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4360" y="3573360"/>
          <a:ext cx="379728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573360"/>
                    <a:ext cx="37972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633600" y="4260960"/>
            <a:ext cx="84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premier quartile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cc0000"/>
                </a:solidFill>
                <a:latin typeface="Times New Roman"/>
              </a:rPr>
              <a:t>ème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valeur: 1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4240" y="1523880"/>
            <a:ext cx="84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3280" y="282096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11 valeurs: N=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9640" y="3500280"/>
          <a:ext cx="3733920" cy="16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500280"/>
                    <a:ext cx="373392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43800" y="5052960"/>
            <a:ext cx="86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troisième quartile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9</a:t>
            </a:r>
            <a:r>
              <a:rPr b="0" lang="en-US" sz="4000" spc="-1" strike="noStrike" baseline="30000">
                <a:solidFill>
                  <a:srgbClr val="cc0000"/>
                </a:solidFill>
                <a:latin typeface="Times New Roman"/>
              </a:rPr>
              <a:t>ème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valeur: 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4240" y="1523880"/>
            <a:ext cx="84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71640" y="3429000"/>
          <a:ext cx="645156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429000"/>
                    <a:ext cx="64515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8920" y="1523880"/>
            <a:ext cx="560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0920" y="2676600"/>
            <a:ext cx="43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6valeurs: N=6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9640" y="3429000"/>
          <a:ext cx="25146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429000"/>
                    <a:ext cx="2514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520560" y="3971880"/>
            <a:ext cx="847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médiane est un nombre compris 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4 et 25: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2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0920" y="2676600"/>
            <a:ext cx="43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6valeurs: N=6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8920" y="1523880"/>
            <a:ext cx="560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9640" y="3429000"/>
          <a:ext cx="30099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429000"/>
                    <a:ext cx="30099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88880" y="4044960"/>
            <a:ext cx="833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premier quartile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cc0000"/>
                </a:solidFill>
                <a:latin typeface="Times New Roman"/>
              </a:rPr>
              <a:t>ème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valeur: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4240" y="1523880"/>
            <a:ext cx="8462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une médian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8920" y="1523880"/>
            <a:ext cx="560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0920" y="2676600"/>
            <a:ext cx="43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6valeurs: N=6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11280" y="3429000"/>
          <a:ext cx="3124080" cy="16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429000"/>
                    <a:ext cx="312408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488160" y="5268960"/>
            <a:ext cx="852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troisième quartile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0" lang="en-US" sz="4000" spc="-1" strike="noStrike" baseline="30000">
                <a:solidFill>
                  <a:srgbClr val="cc0000"/>
                </a:solidFill>
                <a:latin typeface="Times New Roman"/>
              </a:rPr>
              <a:t>ème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valeur: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8920" y="1523880"/>
            <a:ext cx="560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0920" y="2676600"/>
            <a:ext cx="43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6valeurs: N=6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11280" y="3500280"/>
          <a:ext cx="655308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500280"/>
                    <a:ext cx="65530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6896160" cy="364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250920" y="5300640"/>
          <a:ext cx="8508960" cy="5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5300640"/>
                    <a:ext cx="8508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6896160" cy="364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1476360" y="4941720"/>
          <a:ext cx="6235560" cy="170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4941720"/>
                    <a:ext cx="623556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280" y="1523880"/>
            <a:ext cx="8492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e premier quartil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8920" y="1523880"/>
            <a:ext cx="8804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e troisième quartil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4240" y="1523880"/>
            <a:ext cx="8462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’étendu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8920" y="1523880"/>
            <a:ext cx="7320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une médian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9280" y="1523880"/>
            <a:ext cx="8492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e premier quartil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8920" y="1523880"/>
            <a:ext cx="8804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e troisième quartil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8920" y="1523880"/>
            <a:ext cx="663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’étendu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7-16T20:17:49Z</dcterms:modified>
  <cp:revision>21</cp:revision>
  <dc:subject/>
  <dc:title>Diapositive 1</dc:title>
</cp:coreProperties>
</file>