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png" ContentType="image/png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44A9-DE95-461A-8F7F-FC4D0FCC7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2A66-9DE3-4154-BA1C-B33CAD0E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E9B8-245A-43A7-9C9F-DCBE8FD41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1EF9-2917-4708-9FA2-0FFDEC18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E7F5-1706-424C-AEA9-E482D416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0FB6-4AD0-407A-9D8D-D355A9F2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CF90-79FA-4D19-8EB1-D54D8812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B6A1-D6ED-434A-9FEB-F5935CD9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A860-7160-4948-BB85-86CDFA0C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2054-C42D-4AE8-8DE4-5516F723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55D7-7BEE-4D43-B07D-34B92C4C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94BB-D9F0-4E00-8609-FA9CFD34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380E-7EA3-4B4E-A560-17D155EE0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92360" y="1989000"/>
            <a:ext cx="5218200" cy="4697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29040" y="1413000"/>
            <a:ext cx="827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lle est la nature du quadrilatère ANB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843280" y="2060640"/>
            <a:ext cx="3894120" cy="46940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1080" y="1284120"/>
            <a:ext cx="77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lles sont les coordonnées du point 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6014880" cy="4114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774520" y="5661000"/>
            <a:ext cx="400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D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 l’hypotén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601524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751480" y="5460840"/>
            <a:ext cx="339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DE² = DC² + CE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1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771640" y="1413000"/>
            <a:ext cx="3645000" cy="4240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702520" y="5661000"/>
            <a:ext cx="38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R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est l’hypotén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700360" y="1341360"/>
            <a:ext cx="3645000" cy="4240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916360" y="5661000"/>
            <a:ext cx="324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RP² = RT² + TP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1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3616200" cy="3791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2268360" y="5168880"/>
          <a:ext cx="4712040" cy="168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5168880"/>
                    <a:ext cx="471204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1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6002640" cy="398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2340000" y="5168880"/>
          <a:ext cx="4825800" cy="168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0000" y="5168880"/>
                    <a:ext cx="482580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1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63640" y="2565360"/>
            <a:ext cx="6015240" cy="4114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3080" y="1139760"/>
            <a:ext cx="890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DE est un triangle rectangle en C, quelle est l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ypoténu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3592" r="0" b="0"/>
          <a:stretch/>
        </p:blipFill>
        <p:spPr>
          <a:xfrm>
            <a:off x="1547640" y="1268280"/>
            <a:ext cx="6356520" cy="4559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06000" y="5891040"/>
            <a:ext cx="48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’angle         mesure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65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835280" y="5950080"/>
          <a:ext cx="1008000" cy="49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5950080"/>
                    <a:ext cx="10080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10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938920" cy="4157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61640" y="5386320"/>
            <a:ext cx="44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’angle      mesure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41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3080" y="6021360"/>
            <a:ext cx="576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r 75+64=139 et 180-139=4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692360" y="5445000"/>
          <a:ext cx="520560" cy="43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5445000"/>
                    <a:ext cx="52056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5218200" cy="4697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342160" y="5950080"/>
            <a:ext cx="46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ANBM est un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ecta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10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843280" y="1268280"/>
            <a:ext cx="3894120" cy="46944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880" y="5805360"/>
            <a:ext cx="89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 coordonnées de A sont 1; 2. On note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A(1;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10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5040" y="1341360"/>
            <a:ext cx="764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DE est un triangle rectangle en C, éc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’égalité de Pythagore correspondan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63640" y="2565360"/>
            <a:ext cx="6015240" cy="411480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20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627280" y="2421000"/>
            <a:ext cx="3645000" cy="4240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4200" y="1139760"/>
            <a:ext cx="880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RTP est un triangle rectangle en T, quelle est l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hypoténu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700360" y="2617920"/>
            <a:ext cx="3645000" cy="4240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0920" y="134136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TP est un triangle rectangle en T, éc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’égalité de Pythagore correspondan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2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9400" y="1268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une configuration de Thalès, écris 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égalités de rapport corresponda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56000" y="2529000"/>
            <a:ext cx="4128840" cy="432900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20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9400" y="1268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une configuration de Thalès, écris 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égalités de rapport corresponda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63640" y="2492280"/>
            <a:ext cx="6218280" cy="412452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0" t="3592" r="0" b="0"/>
          <a:stretch/>
        </p:blipFill>
        <p:spPr>
          <a:xfrm>
            <a:off x="1619280" y="2298600"/>
            <a:ext cx="6356160" cy="4559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9040" y="1484280"/>
            <a:ext cx="728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lle est la mesure de l’angle          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156360" y="1484280"/>
          <a:ext cx="1008000" cy="49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56360" y="1484280"/>
                    <a:ext cx="10080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6453000" cy="451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1240" y="1355760"/>
            <a:ext cx="659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lle est la mesure de l’angle    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227640" y="1413000"/>
          <a:ext cx="520920" cy="43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27640" y="1413000"/>
                    <a:ext cx="52092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20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5-18T01:11:39Z</dcterms:modified>
  <cp:revision>23</cp:revision>
  <dc:subject/>
  <dc:title>Diapositive 1</dc:title>
</cp:coreProperties>
</file>