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C65-FB8F-4CF9-A8AE-9FAC0837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E9F-C095-4D8A-9E16-B8323974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20F-16F8-4471-8EF1-A296EE53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F0D-90BA-425D-834B-BBF2B7AB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5BB-E2B6-4EA8-A30A-92485ADC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FD2-090F-42A8-AD44-EC4BD5C4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331-49C0-4D37-B482-7DB30110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B23-5B0A-45B4-9DAC-9840A857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C27-EB01-49ED-BBC7-10582063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DDB-E98F-4D85-BC3C-3C5C3DF8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E76-32FC-4537-93DE-B23EB59E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255-12D5-4B84-BF92-594C4A20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65AD-0D98-4888-94DB-2EF64D533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0880" y="1787400"/>
            <a:ext cx="785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ris à l’aide de symboles mathéma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 La droite (ST) est perpendiculaire 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roite (GH) 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8520" y="1284120"/>
            <a:ext cx="69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triangle EF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400720" cy="464364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3201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42880" y="5084640"/>
            <a:ext cx="42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e segm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[AB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957920" cy="3100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99240" y="5084640"/>
            <a:ext cx="48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a demi-droit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[A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12894" r="0" b="12894"/>
          <a:stretch/>
        </p:blipFill>
        <p:spPr>
          <a:xfrm>
            <a:off x="1692360" y="1341360"/>
            <a:ext cx="5433840" cy="381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2411280" y="5156280"/>
          <a:ext cx="473724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5156280"/>
                    <a:ext cx="47372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1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4586400" cy="381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268360" y="5156280"/>
          <a:ext cx="473724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56280"/>
                    <a:ext cx="47372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416560" cy="396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2268360" y="5156280"/>
          <a:ext cx="458496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56280"/>
                    <a:ext cx="4584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710160" cy="4494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91240" y="5877000"/>
            <a:ext cx="67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BC est un triang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ctangle e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9440" y="141300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543280" cy="3201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4486320" cy="4843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9960" y="6021360"/>
            <a:ext cx="62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BC est un triang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ocèle e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707080" cy="4505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6000" y="5734080"/>
            <a:ext cx="90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 droite (d) est la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édiatrice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du segment [AB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1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89600" y="2003400"/>
            <a:ext cx="714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 La droite (ST) est perpendiculaire 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roite (GH) 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71640" y="3933720"/>
          <a:ext cx="410220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933720"/>
                    <a:ext cx="41022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400720" cy="464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35960" y="5950080"/>
            <a:ext cx="67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FG est un triang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ctangle en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1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9440" y="141300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957920" cy="31003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4520" y="1355760"/>
            <a:ext cx="76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2894" r="0" b="12894"/>
          <a:stretch/>
        </p:blipFill>
        <p:spPr>
          <a:xfrm>
            <a:off x="1692360" y="2637000"/>
            <a:ext cx="5757840" cy="403992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2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413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586400" cy="38145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413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416560" cy="396684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2880" y="1355760"/>
            <a:ext cx="70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triangle AB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3710160" cy="44942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2880" y="1355760"/>
            <a:ext cx="70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triangle AB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95640" y="2014560"/>
            <a:ext cx="4486320" cy="48434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707080" cy="4505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8280" y="1427040"/>
            <a:ext cx="925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Que représente la droite (d) pour le segment [AB]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6T18:33:38Z</dcterms:modified>
  <cp:revision>27</cp:revision>
  <dc:subject/>
  <dc:title>Diapositive 1</dc:title>
</cp:coreProperties>
</file>