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915-0610-4172-AEAB-2CD749DC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067-8F6C-4743-BD89-E359651E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4E3-A851-4B96-9DC5-820B6A5F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223-1462-426D-A8A5-ED022B01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AB4-B16C-409E-AE4B-99EB581B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152-222F-43F1-92F8-EEF71039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50D-CC64-44D7-AB44-E83A19D6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E43-044D-41F0-88E9-D854861B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43B-F945-4C07-B56F-8ECBE309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B3F-5ADE-4CF1-99AC-CACF0DF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F61-4A6A-4CA3-9A8C-36974D52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FA4-FC37-4019-92EB-D9FD472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1DC0-BE09-47A0-BFFC-FF90F602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51280" y="1989000"/>
          <a:ext cx="262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2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24360" y="4076640"/>
          <a:ext cx="23241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241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64000" y="2133720"/>
          <a:ext cx="3162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133720"/>
                    <a:ext cx="3162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479760" y="4076640"/>
          <a:ext cx="31878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9760" y="4076640"/>
                    <a:ext cx="31878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708360" y="2133720"/>
          <a:ext cx="2679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679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635280" y="4149720"/>
          <a:ext cx="2629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629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80000" y="1557360"/>
          <a:ext cx="29588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557360"/>
                    <a:ext cx="29588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80000" y="3645000"/>
          <a:ext cx="2654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645000"/>
                    <a:ext cx="2654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92360" y="2060640"/>
          <a:ext cx="3772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72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348000" y="4221000"/>
          <a:ext cx="3861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61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92360" y="1844640"/>
          <a:ext cx="36324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44640"/>
                    <a:ext cx="36324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76720" y="4149720"/>
          <a:ext cx="41400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140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2004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2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6, 7, 14, 21, 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8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8, 12, 16, 24, 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03640" y="1989000"/>
          <a:ext cx="45082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5082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348000" y="4149720"/>
          <a:ext cx="37465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465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132000" y="2205000"/>
          <a:ext cx="4521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20500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132000" y="4221000"/>
          <a:ext cx="4546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221000"/>
                    <a:ext cx="4546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6842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84360" y="1989000"/>
          <a:ext cx="56516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989000"/>
                    <a:ext cx="56516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4005360"/>
          <a:ext cx="50166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4005360"/>
                    <a:ext cx="5016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8000" y="1916280"/>
          <a:ext cx="68328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16280"/>
                    <a:ext cx="6832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5640" y="4076640"/>
          <a:ext cx="62229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229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03640" y="2060640"/>
          <a:ext cx="4305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060640"/>
                    <a:ext cx="4305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203640" y="4149720"/>
          <a:ext cx="42796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2796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397160"/>
          <a:ext cx="628812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68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32000" y="2060640"/>
          <a:ext cx="4559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455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03640" y="4149720"/>
          <a:ext cx="4521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700280"/>
          <a:ext cx="1498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700280"/>
                    <a:ext cx="1498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3573360"/>
          <a:ext cx="15112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511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067280" y="2133720"/>
          <a:ext cx="2361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133720"/>
                    <a:ext cx="2361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84720" y="1844640"/>
          <a:ext cx="1765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844640"/>
                    <a:ext cx="1765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851280" y="4149720"/>
          <a:ext cx="24512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451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067280" y="1989000"/>
          <a:ext cx="23367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367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995640" y="4149720"/>
          <a:ext cx="20448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044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635280" y="2060640"/>
          <a:ext cx="2756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635280" y="4292640"/>
          <a:ext cx="2756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292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95640" y="1844640"/>
          <a:ext cx="27687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844640"/>
                    <a:ext cx="2768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995640" y="4076640"/>
          <a:ext cx="246384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76640"/>
                    <a:ext cx="24638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6T18:36:17Z</dcterms:modified>
  <cp:revision>18</cp:revision>
  <dc:subject/>
  <dc:title>Diapositive 1</dc:title>
</cp:coreProperties>
</file>