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01A3-FB4D-4232-98E3-4E5D1CDE67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A930-BBCE-40A3-9D51-7BCD664E81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D15F-0161-4420-BE66-2690BAA44B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CC7-6DE0-4467-939B-80436C42B5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13BB-F199-42CD-9856-1700ABB47F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B927-A878-4637-B1B3-FC89191A6F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7A6B-3D5B-44D0-B889-5601EC8A47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BF25-80A2-484C-B490-70403EDC57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0488-97EC-4FBC-B100-14AED47D71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71E8-3AFB-42FF-BF9E-824621B1F3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50D2-60E8-4F36-BB58-80DF426870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5625-B38F-4649-A604-9D24C26D39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38BA-22EC-4056-8A9B-D8F11EB3B4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2AEB-599B-4ADE-984A-3FFA263173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2E94-6424-475E-A2C4-E6CA232C12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A87A-D536-4734-BCDB-BC06BEE616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2529-68F6-436E-8964-316782CB88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D4C0-D3A4-41F9-A351-58B50801F4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071E-FB02-4DA1-AF36-1146718E17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F1E3-A191-4A6E-B319-44B5EC7582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FB1A-1D74-4428-99EF-77639F627B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23CF-6CE0-42B8-B01C-5CE452ABFE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AC97-C683-4A11-9F0E-50A1312A72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CCD6-5355-4ED8-A7B4-F001F2D8A0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609B-4D75-4FD9-95C5-ABFACAC246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FC7-C1BE-4648-B70E-EA591CE9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1EB-0E01-424F-9D1D-E3CBCADF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17F-7EBD-49FF-B301-1D04A599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3E0-9AEF-46D5-9598-7E9E9CB7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2D7-9234-46F8-8C23-F79EE557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43E-C0AC-469C-9572-4FB6A77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254-371A-416E-874A-569D13CB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DA5-0CF1-4923-9392-7013B778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C7E-AEFC-4C83-8363-F524E04D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EFD-12B3-42FE-987F-8F398247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9E3-B0EC-4C5B-B492-0C7D38E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5C7-DCDF-47CF-961A-06E9DB72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858E-9692-40EA-AF8D-2E4C400D479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46"/>
          <p:cNvSpPr/>
          <p:nvPr/>
        </p:nvSpPr>
        <p:spPr>
          <a:xfrm>
            <a:off x="303120" y="397188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3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303480" y="1379520"/>
            <a:ext cx="57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f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519120" y="390060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1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6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7"/>
          <p:cNvGraphicFramePr/>
          <p:nvPr/>
        </p:nvGraphicFramePr>
        <p:xfrm>
          <a:off x="1835280" y="3645000"/>
          <a:ext cx="46735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645000"/>
                    <a:ext cx="4673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7"/>
          <p:cNvGraphicFramePr/>
          <p:nvPr/>
        </p:nvGraphicFramePr>
        <p:xfrm>
          <a:off x="1258920" y="4221000"/>
          <a:ext cx="546084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221000"/>
                    <a:ext cx="5460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26"/>
          <p:cNvGraphicFramePr/>
          <p:nvPr/>
        </p:nvGraphicFramePr>
        <p:xfrm>
          <a:off x="2627280" y="1916280"/>
          <a:ext cx="3213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3213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7"/>
          <p:cNvGraphicFramePr/>
          <p:nvPr/>
        </p:nvGraphicFramePr>
        <p:xfrm>
          <a:off x="2050920" y="3284640"/>
          <a:ext cx="4445280" cy="27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284640"/>
                    <a:ext cx="444528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7"/>
          <p:cNvGraphicFramePr/>
          <p:nvPr/>
        </p:nvGraphicFramePr>
        <p:xfrm>
          <a:off x="2700360" y="1268280"/>
          <a:ext cx="321300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21300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37"/>
          <p:cNvGraphicFramePr/>
          <p:nvPr/>
        </p:nvGraphicFramePr>
        <p:xfrm>
          <a:off x="2627280" y="1268280"/>
          <a:ext cx="361944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6194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17760" cy="5038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6"/>
          <p:cNvSpPr/>
          <p:nvPr/>
        </p:nvSpPr>
        <p:spPr>
          <a:xfrm>
            <a:off x="5868360" y="3429000"/>
            <a:ext cx="12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33984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3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4"/>
          <p:cNvSpPr/>
          <p:nvPr/>
        </p:nvSpPr>
        <p:spPr>
          <a:xfrm>
            <a:off x="1274760" y="393372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2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214880" cy="5040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7"/>
          <p:cNvSpPr/>
          <p:nvPr/>
        </p:nvSpPr>
        <p:spPr>
          <a:xfrm>
            <a:off x="5129280" y="2820960"/>
            <a:ext cx="13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-2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43"/>
          <p:cNvSpPr/>
          <p:nvPr/>
        </p:nvSpPr>
        <p:spPr>
          <a:xfrm>
            <a:off x="896040" y="3971880"/>
            <a:ext cx="53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de 5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3"/>
          <p:cNvSpPr/>
          <p:nvPr/>
        </p:nvSpPr>
        <p:spPr>
          <a:xfrm>
            <a:off x="606960" y="390060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30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3"/>
          <p:cNvSpPr/>
          <p:nvPr/>
        </p:nvSpPr>
        <p:spPr>
          <a:xfrm>
            <a:off x="1764360" y="407664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15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29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0"/>
          <p:cNvSpPr/>
          <p:nvPr/>
        </p:nvSpPr>
        <p:spPr>
          <a:xfrm>
            <a:off x="520560" y="45482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7"/>
          <p:cNvGraphicFramePr/>
          <p:nvPr/>
        </p:nvGraphicFramePr>
        <p:xfrm>
          <a:off x="2556000" y="256536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56536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28"/>
          <p:cNvSpPr/>
          <p:nvPr/>
        </p:nvSpPr>
        <p:spPr>
          <a:xfrm>
            <a:off x="375840" y="3900600"/>
            <a:ext cx="62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un antécédent de 1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30840" y="2708280"/>
            <a:ext cx="88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3)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31560" y="3068640"/>
            <a:ext cx="87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-1)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0" y="1268280"/>
            <a:ext cx="4146480" cy="5427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502080" cy="503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15"/>
          <p:cNvSpPr/>
          <p:nvPr/>
        </p:nvSpPr>
        <p:spPr>
          <a:xfrm>
            <a:off x="449280" y="3828960"/>
            <a:ext cx="51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image de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25T05:18:47Z</dcterms:modified>
  <cp:revision>28</cp:revision>
  <dc:subject/>
  <dc:title>Diapositive 1</dc:title>
</cp:coreProperties>
</file>