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337-D3D2-447A-9FD2-86CDC1D5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B86-72EC-48AD-8B48-66E455C7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342-0B31-4C7E-80F8-1F9F6858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BF3-FECA-4242-AAA4-AA1F8FFB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D06-4A38-4004-A585-00A5537F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FC4-1980-4668-A9C8-36D8CF24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56E-3BD3-4BE8-89FE-814D2565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631-0CEA-4F76-8CB4-BCECDEB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033-267C-45DD-BBD7-8E519B5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47D-F964-40F8-A6AE-8D7AF6BB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984-F88B-4CBD-AB28-72BFFA17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72B-E97C-48BD-AA0D-03CDA01F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4A10-03B1-47D0-B004-3EBB79807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67280" y="2060640"/>
          <a:ext cx="1701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01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51280" y="4221000"/>
          <a:ext cx="17780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17780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03640" y="1628640"/>
          <a:ext cx="43560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4356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64000" y="3573360"/>
          <a:ext cx="34797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34797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19640" y="2060640"/>
          <a:ext cx="387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03640" y="4149720"/>
          <a:ext cx="419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1397160"/>
          <a:ext cx="892980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738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54360" y="4221000"/>
          <a:ext cx="72896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4221000"/>
                    <a:ext cx="7289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68360" y="1484280"/>
          <a:ext cx="46101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484280"/>
                    <a:ext cx="461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5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5 et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6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, 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3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11 et 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133720"/>
          <a:ext cx="2933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5128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0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5,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2436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924360" y="4076640"/>
          <a:ext cx="2870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870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067280" y="1557360"/>
          <a:ext cx="2197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197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3573360"/>
          <a:ext cx="19051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905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4036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57720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9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348000" y="1989000"/>
          <a:ext cx="4610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610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276720" y="4149720"/>
          <a:ext cx="462276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6227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3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4036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211640" y="4076640"/>
          <a:ext cx="1739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1739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0:56:10Z</dcterms:modified>
  <cp:revision>20</cp:revision>
  <dc:subject/>
  <dc:title>Diapositive 1</dc:title>
</cp:coreProperties>
</file>