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BA15-B0E9-4321-B387-AB1717525E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0E4A-0C41-41DA-AB58-01DFBD07AE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E38-FE52-4DED-8E25-ACF72C89A0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726C-37B9-4075-BC24-94826FF9D2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9736-B387-42B4-AE50-477AA32DD3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F3D0-A686-481A-B772-69B8C451E0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CFC-9362-4DA6-BED9-A5EBF00461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E3A9-5735-41F0-A69C-D1BDF1C8F3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C2AD-17A3-4FE2-A227-7A9015E62A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D3CD-5211-4867-9FF5-E3332415A0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2EE9-C3AD-461F-8C46-1F5459FEE9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4B60-EA47-43E4-B85B-8683BE3856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2047-3455-48A9-9B9A-DFF8725942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0951-84FE-4444-88D8-113F1F87EA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4F23-DFF4-4277-9E6A-E030E065E3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76C-5400-47C8-AB38-CFF4F173ED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69A8-9D11-4BD7-BF03-B02F37B3B0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3C1D-766C-4474-8E49-19B02A8929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BE90-6AC6-4E35-BC99-2118D6FD57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279E-95DB-4AB7-A2E2-99DF04DA0D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DEDD-9CB4-45F7-9340-42B563B459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A3FE-2890-4010-9178-E3A730D480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338D-B881-4AF7-B3B8-8E66CB9BD8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3C48-FDF3-4573-8A09-5D7DB0A36D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E97-21EA-4F1B-9259-4B128C89F9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8DB-5B99-4EEE-9BD3-3F6A88A2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7F7-1040-4907-92D6-864CEB4D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C60-AD6F-444A-B38E-8494B5D0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F0D-578A-454E-B2E8-1359FCD2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25A-9B1B-480D-870A-ED52ADA4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EA8-93A9-4869-ADEF-69ACA9D4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152-2743-47A0-A074-6F7CAAE9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431-2DE0-46C0-9DF0-C7BA9913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5EB-BD02-46BA-BE6E-671F189B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328-70DD-40DF-A0EE-C58A8C4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839-264C-4F96-90C3-108FEA5E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D71-88E1-4585-BAA1-7DAE3BD9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E024-4782-4E59-BAF8-1A8F7459E49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46"/>
          <p:cNvSpPr/>
          <p:nvPr/>
        </p:nvSpPr>
        <p:spPr>
          <a:xfrm>
            <a:off x="303120" y="397188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3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303480" y="1379520"/>
            <a:ext cx="57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f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519120" y="390060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1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6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7"/>
          <p:cNvGraphicFramePr/>
          <p:nvPr/>
        </p:nvGraphicFramePr>
        <p:xfrm>
          <a:off x="1835280" y="3645000"/>
          <a:ext cx="46735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645000"/>
                    <a:ext cx="4673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7"/>
          <p:cNvGraphicFramePr/>
          <p:nvPr/>
        </p:nvGraphicFramePr>
        <p:xfrm>
          <a:off x="1258920" y="4221000"/>
          <a:ext cx="546084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221000"/>
                    <a:ext cx="5460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26"/>
          <p:cNvGraphicFramePr/>
          <p:nvPr/>
        </p:nvGraphicFramePr>
        <p:xfrm>
          <a:off x="2627280" y="1916280"/>
          <a:ext cx="3213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3213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7"/>
          <p:cNvGraphicFramePr/>
          <p:nvPr/>
        </p:nvGraphicFramePr>
        <p:xfrm>
          <a:off x="2050920" y="3284640"/>
          <a:ext cx="4445280" cy="27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284640"/>
                    <a:ext cx="444528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7"/>
          <p:cNvGraphicFramePr/>
          <p:nvPr/>
        </p:nvGraphicFramePr>
        <p:xfrm>
          <a:off x="2700360" y="1268280"/>
          <a:ext cx="321300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21300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37"/>
          <p:cNvGraphicFramePr/>
          <p:nvPr/>
        </p:nvGraphicFramePr>
        <p:xfrm>
          <a:off x="2627280" y="1268280"/>
          <a:ext cx="361944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6194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17760" cy="5038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6"/>
          <p:cNvSpPr/>
          <p:nvPr/>
        </p:nvSpPr>
        <p:spPr>
          <a:xfrm>
            <a:off x="5868360" y="3429000"/>
            <a:ext cx="12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33984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3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4"/>
          <p:cNvSpPr/>
          <p:nvPr/>
        </p:nvSpPr>
        <p:spPr>
          <a:xfrm>
            <a:off x="1274760" y="393372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2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214880" cy="5040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7"/>
          <p:cNvSpPr/>
          <p:nvPr/>
        </p:nvSpPr>
        <p:spPr>
          <a:xfrm>
            <a:off x="5129280" y="2820960"/>
            <a:ext cx="13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-2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43"/>
          <p:cNvSpPr/>
          <p:nvPr/>
        </p:nvSpPr>
        <p:spPr>
          <a:xfrm>
            <a:off x="896040" y="3971880"/>
            <a:ext cx="53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de 5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3"/>
          <p:cNvSpPr/>
          <p:nvPr/>
        </p:nvSpPr>
        <p:spPr>
          <a:xfrm>
            <a:off x="606960" y="390060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30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3"/>
          <p:cNvSpPr/>
          <p:nvPr/>
        </p:nvSpPr>
        <p:spPr>
          <a:xfrm>
            <a:off x="1764360" y="407664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15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29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0"/>
          <p:cNvSpPr/>
          <p:nvPr/>
        </p:nvSpPr>
        <p:spPr>
          <a:xfrm>
            <a:off x="520560" y="45482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7"/>
          <p:cNvGraphicFramePr/>
          <p:nvPr/>
        </p:nvGraphicFramePr>
        <p:xfrm>
          <a:off x="2556000" y="256536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56536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28"/>
          <p:cNvSpPr/>
          <p:nvPr/>
        </p:nvSpPr>
        <p:spPr>
          <a:xfrm>
            <a:off x="375840" y="3900600"/>
            <a:ext cx="62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un antécédent de 1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30840" y="2708280"/>
            <a:ext cx="88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3)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31560" y="3068640"/>
            <a:ext cx="87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-1)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0" y="1268280"/>
            <a:ext cx="4146480" cy="5427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502080" cy="503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15"/>
          <p:cNvSpPr/>
          <p:nvPr/>
        </p:nvSpPr>
        <p:spPr>
          <a:xfrm>
            <a:off x="449280" y="3828960"/>
            <a:ext cx="51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image de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25T05:18:47Z</dcterms:modified>
  <cp:revision>28</cp:revision>
  <dc:subject/>
  <dc:title>Diapositive 1</dc:title>
</cp:coreProperties>
</file>