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730-872B-466C-A9D5-9A1968F1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942-4A3C-4D2A-BFC6-F52B814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6B5-0368-4D73-A925-A9A25A5C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09C-F785-4334-8EED-087A15BE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246-D40B-4FB4-8BB5-46EFDB1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9D1-1803-494A-8D37-15C49443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B16-6550-49D4-AF01-07610CAD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A90-ABC5-466B-9BAF-DED189EA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013-399C-40CF-A6C2-19AF9EB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F3C-BFCC-4D53-BAD1-60C35F1A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C54-F103-41BF-A201-CC963F9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CB5-B354-471C-9DF7-B63BC31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2EC3-6B95-40C8-B6F7-6B11B532D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67280" y="2060640"/>
          <a:ext cx="1701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01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51280" y="4221000"/>
          <a:ext cx="17780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17780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03640" y="1628640"/>
          <a:ext cx="43560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4356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64000" y="3573360"/>
          <a:ext cx="34797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34797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19640" y="2060640"/>
          <a:ext cx="387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03640" y="4149720"/>
          <a:ext cx="419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1397160"/>
          <a:ext cx="892980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738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54360" y="4221000"/>
          <a:ext cx="72896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4221000"/>
                    <a:ext cx="7289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68360" y="1484280"/>
          <a:ext cx="46101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484280"/>
                    <a:ext cx="461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5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5 et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6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, 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3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11 et 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133720"/>
          <a:ext cx="2933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5128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0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5,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2436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924360" y="4076640"/>
          <a:ext cx="2870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870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067280" y="1557360"/>
          <a:ext cx="2197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197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3573360"/>
          <a:ext cx="19051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905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4036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57720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9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48000" y="1989000"/>
          <a:ext cx="4610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610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276720" y="4149720"/>
          <a:ext cx="46227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6227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3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211640" y="4076640"/>
          <a:ext cx="1739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0:56:10Z</dcterms:modified>
  <cp:revision>20</cp:revision>
  <dc:subject/>
  <dc:title>Diapositive 1</dc:title>
</cp:coreProperties>
</file>