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png" ContentType="image/png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A7FE-32DD-49D7-9CF3-7F15BA703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6535-6AB3-47BA-B9EF-85023B27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1710-7333-478F-B4C1-96CCEC416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4992-E61B-4450-A7CD-9C6C98925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2067-51CF-4B9D-810A-4A5A3ECF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255E-AC03-45EE-A40C-E47DEA7D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B5E6-CA69-49B9-97C3-B466814E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1238-A1BE-4EF6-95AE-57E6B346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3F94-B25F-4457-B5AE-B43ED1AB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5318-276B-489E-98A6-AF81E451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FE22-C5AF-4F45-8A4D-1FE64010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3AFC-A1B8-4452-A19D-E2633C3A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544D-BE71-407A-9EF8-B7BB8FEE1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92360" y="1989000"/>
            <a:ext cx="5218200" cy="4697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9040" y="1413000"/>
            <a:ext cx="827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lle est la nature du quadrilatère ANB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843280" y="2060640"/>
            <a:ext cx="3894120" cy="46940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1080" y="1284120"/>
            <a:ext cx="77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lles sont les coordonnées du point 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6014880" cy="4114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774520" y="5661000"/>
            <a:ext cx="400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D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 l’hypotén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601524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751480" y="5460840"/>
            <a:ext cx="339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DE² = DC² + CE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1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771640" y="1413000"/>
            <a:ext cx="3645000" cy="4240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702520" y="5661000"/>
            <a:ext cx="38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R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est l’hypotén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3645000" cy="4240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916360" y="5661000"/>
            <a:ext cx="324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RP² = RT² + TP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1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3616200" cy="379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2268360" y="5168880"/>
          <a:ext cx="4712040" cy="168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5168880"/>
                    <a:ext cx="471204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1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6002640" cy="398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2340000" y="5168880"/>
          <a:ext cx="4825800" cy="168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5168880"/>
                    <a:ext cx="482580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1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63640" y="2565360"/>
            <a:ext cx="6015240" cy="4114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3080" y="1139760"/>
            <a:ext cx="890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DE est un triangle rectangle en C, quelle est l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poténu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3592" r="0" b="0"/>
          <a:stretch/>
        </p:blipFill>
        <p:spPr>
          <a:xfrm>
            <a:off x="1547640" y="1268280"/>
            <a:ext cx="6356520" cy="4559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06000" y="5891040"/>
            <a:ext cx="48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’angle         mesure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65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835280" y="5950080"/>
          <a:ext cx="1008000" cy="49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5950080"/>
                    <a:ext cx="10080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10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938920" cy="4157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61640" y="5386320"/>
            <a:ext cx="44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’angle      mesure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41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3080" y="6021360"/>
            <a:ext cx="576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r 75+64=139 et 180-139=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692360" y="5445000"/>
          <a:ext cx="520560" cy="43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5445000"/>
                    <a:ext cx="52056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5218200" cy="4697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342160" y="5950080"/>
            <a:ext cx="46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ANBM est un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ecta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10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843280" y="1268280"/>
            <a:ext cx="3894120" cy="46944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880" y="5805360"/>
            <a:ext cx="89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 coordonnées de A sont 1; 2. On note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A(1;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10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5040" y="1341360"/>
            <a:ext cx="764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DE est un triangle rectangle en C, éc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’égalité de Pythagore correspondan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3640" y="2565360"/>
            <a:ext cx="6015240" cy="411480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20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627280" y="2421000"/>
            <a:ext cx="3645000" cy="4240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4200" y="1139760"/>
            <a:ext cx="880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RTP est un triangle rectangle en T, quelle est l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hypoténu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00360" y="2617920"/>
            <a:ext cx="3645000" cy="4240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134136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TP est un triangle rectangle en T, éc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’égalité de Pythagore correspondan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2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9400" y="1268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une configuration de Thalès, écris 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égalités de rapport corresponda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56000" y="2529000"/>
            <a:ext cx="4128840" cy="432900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20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9400" y="1268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une configuration de Thalès, écris 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égalités de rapport corresponda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63640" y="2492280"/>
            <a:ext cx="6218280" cy="412452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0" t="3592" r="0" b="0"/>
          <a:stretch/>
        </p:blipFill>
        <p:spPr>
          <a:xfrm>
            <a:off x="1619280" y="2298600"/>
            <a:ext cx="6356160" cy="4559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9040" y="1484280"/>
            <a:ext cx="728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lle est la mesure de l’angle          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156360" y="1484280"/>
          <a:ext cx="1008000" cy="49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56360" y="1484280"/>
                    <a:ext cx="10080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6453000" cy="451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1240" y="1355760"/>
            <a:ext cx="65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lle est la mesure de l’angle    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227640" y="1413000"/>
          <a:ext cx="520920" cy="43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7640" y="1413000"/>
                    <a:ext cx="52092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20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18T01:11:39Z</dcterms:modified>
  <cp:revision>23</cp:revision>
  <dc:subject/>
  <dc:title>Diapositive 1</dc:title>
</cp:coreProperties>
</file>