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75F8-7E2F-43E1-B3A8-38A336B2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C3C-719E-4B3C-A84C-DA73B84F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274-557B-4572-B75B-8A633D7D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8536-686A-4B0E-B542-010D72ED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167E-F279-4684-A86C-77F231F1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15B-CEAC-4595-ABCD-143BE717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0D8-0D21-48A8-A396-BBCAB408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7F1-9A66-4A7D-8749-820DD3CC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63F-4AF0-40E6-B792-608F7F04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29F3-165E-42A0-AAB1-435AEC3C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38D-4BFF-410D-B7BB-387AB01E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74E-44FF-4067-9FF6-49D243A2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C7B0-DB90-41C4-89C7-FC3038F1A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00" y="1268280"/>
            <a:ext cx="878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demandé à des élèves le nombre de fil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’ils ont vus au cinéma depuis la rentré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6896160" cy="3646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040" y="6203880"/>
            <a:ext cx="84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en d’élèves ont répondu à ce sondag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00" y="1268280"/>
            <a:ext cx="878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demandé à des élèves le nombre de fil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’ils ont vus au cinéma depuis la rentré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6896160" cy="3646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102600" y="6014880"/>
            <a:ext cx="86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lle est la fréquence des élèves ayant vu 4 fil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4240" y="1523880"/>
            <a:ext cx="84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3280" y="282096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11 valeurs: N=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4360" y="3645000"/>
          <a:ext cx="33778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645000"/>
                    <a:ext cx="33778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633240" y="4332240"/>
            <a:ext cx="67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médian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4240" y="1523880"/>
            <a:ext cx="84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3280" y="282096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11 valeurs: N=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3573360"/>
          <a:ext cx="37972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573360"/>
                    <a:ext cx="3797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33600" y="4260960"/>
            <a:ext cx="84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premier quartil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 1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4240" y="1523880"/>
            <a:ext cx="84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3280" y="282096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11 valeurs: N=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9640" y="3500280"/>
          <a:ext cx="373392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500280"/>
                    <a:ext cx="373392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43800" y="5052960"/>
            <a:ext cx="86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troisième quartil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9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 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4240" y="1523880"/>
            <a:ext cx="84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71640" y="3429000"/>
          <a:ext cx="64515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429000"/>
                    <a:ext cx="64515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8920" y="1523880"/>
            <a:ext cx="560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0920" y="2676600"/>
            <a:ext cx="43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6valeurs: N=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3429000"/>
          <a:ext cx="2514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429000"/>
                    <a:ext cx="2514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20560" y="3971880"/>
            <a:ext cx="847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médiane est un nombre compris 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4 et 25: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2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0920" y="2676600"/>
            <a:ext cx="43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6valeurs: N=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8920" y="1523880"/>
            <a:ext cx="560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9640" y="3429000"/>
          <a:ext cx="30099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429000"/>
                    <a:ext cx="30099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88880" y="4044960"/>
            <a:ext cx="83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premier quartil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4240" y="1523880"/>
            <a:ext cx="846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une médian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8920" y="1523880"/>
            <a:ext cx="560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0920" y="2676600"/>
            <a:ext cx="43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6valeurs: N=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11280" y="3429000"/>
          <a:ext cx="312408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429000"/>
                    <a:ext cx="31240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88160" y="5268960"/>
            <a:ext cx="852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troisième quartil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8920" y="1523880"/>
            <a:ext cx="560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0920" y="2676600"/>
            <a:ext cx="43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6valeurs: N=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11280" y="3500280"/>
          <a:ext cx="65530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500280"/>
                    <a:ext cx="6553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6896160" cy="364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250920" y="5300640"/>
          <a:ext cx="8508960" cy="5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5300640"/>
                    <a:ext cx="8508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896160" cy="364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1476360" y="4941720"/>
          <a:ext cx="623556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4941720"/>
                    <a:ext cx="62355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280" y="1523880"/>
            <a:ext cx="8492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e premier quartil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8920" y="1523880"/>
            <a:ext cx="880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e troisième quartil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4240" y="1523880"/>
            <a:ext cx="846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’étendu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8920" y="1523880"/>
            <a:ext cx="732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une médian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280" y="1523880"/>
            <a:ext cx="8492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e premier quartil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8920" y="1523880"/>
            <a:ext cx="880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e troisième quartil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8920" y="1523880"/>
            <a:ext cx="663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’étendu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7-16T20:17:49Z</dcterms:modified>
  <cp:revision>21</cp:revision>
  <dc:subject/>
  <dc:title>Diapositive 1</dc:title>
</cp:coreProperties>
</file>