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134A-A727-4854-A983-C612EE002B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029F-B47F-42B2-AE23-1A259479DB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1D13-04BA-4E57-9DA9-3266DEEF98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E821-D9E6-41EF-9992-B6F9751A82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B9E1-BDB8-4AC5-889C-34CDAEE933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DF10-7473-4CF6-B8BF-0514BDFF9B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F1E4-6AE3-449A-AC8D-3DC9799D7C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5DA3-8CA1-4E00-B2C3-B0E6C0B249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0169-6824-4BE6-88EF-261A9B1485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D879-0653-421E-949D-515130CFDE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2252-CA67-47E4-83D2-E3A36AE89F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1748-20D4-4AA0-A9FA-E52762087F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E731-3804-4DB7-B895-403E5704FF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4847-6419-4C0E-B4EA-ACBC677212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7693-08A8-4894-A0F1-60C3E38C4C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5142-9461-4B20-B340-338499BF82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288A-95A6-4237-B86D-13D3430E26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671E-BC2C-4A67-AAD0-B2E1646171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48AE-E2D1-400B-B1E8-E54CF5C75F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F3A2-CD10-43D3-94BD-686712607E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E286-E076-4434-B2C7-C9D23066A7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25AB-D96B-43D3-9FD3-23AC7128F9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7FCB-5C46-4617-B1C2-48E72947F8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2EFF-2DE4-409F-9429-B2DA71B7E7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01A0-7847-4F45-B7A2-B0B817068B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6C0-17FD-46A5-A0E6-E7EF451D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F76-BA59-46EB-8F7F-80AA63AF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610-A1B9-42E2-ACE5-EC221E60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35D-4450-4D60-854D-AD28D41A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D47-8A64-4B5D-B604-ABC29B63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D93-2CA7-475F-B219-08F6C741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5C9-A988-46B0-9254-1CFF1539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107-2286-450F-A491-878E9C7D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3A7-3581-42A2-A14C-FB0DBFF5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245-A8A8-43C4-9659-1277D53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D06-61EF-4040-8432-C6E3CE9B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492-50B3-41F8-98F6-7A93FBCB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CE1A-28E1-4F2C-ADCF-2C1DE6A76B2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3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28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9"/>
          <p:cNvSpPr/>
          <p:nvPr/>
        </p:nvSpPr>
        <p:spPr>
          <a:xfrm>
            <a:off x="250920" y="134136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TP est un triangle rectangle en T, écr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8" descr=""/>
          <p:cNvPicPr/>
          <p:nvPr/>
        </p:nvPicPr>
        <p:blipFill>
          <a:blip r:embed="rId1"/>
          <a:stretch/>
        </p:blipFill>
        <p:spPr>
          <a:xfrm>
            <a:off x="2700360" y="2617920"/>
            <a:ext cx="3645000" cy="4240080"/>
          </a:xfrm>
          <a:prstGeom prst="rect">
            <a:avLst/>
          </a:prstGeom>
          <a:ln w="0">
            <a:noFill/>
          </a:ln>
        </p:spPr>
      </p:pic>
    </p:spTree>
  </p:cSld>
  <p:transition spd="med" advTm="2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4"/>
          <p:cNvGraphicFramePr/>
          <p:nvPr/>
        </p:nvGraphicFramePr>
        <p:xfrm>
          <a:off x="3132000" y="5445000"/>
          <a:ext cx="210816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5445000"/>
                    <a:ext cx="21081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954160" y="5589720"/>
          <a:ext cx="2032200" cy="104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5589720"/>
                    <a:ext cx="20322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32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4"/>
          <p:cNvGraphicFramePr/>
          <p:nvPr/>
        </p:nvGraphicFramePr>
        <p:xfrm>
          <a:off x="2922480" y="5589720"/>
          <a:ext cx="2095560" cy="104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22480" y="5589720"/>
                    <a:ext cx="209556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4"/>
          <p:cNvGraphicFramePr/>
          <p:nvPr/>
        </p:nvGraphicFramePr>
        <p:xfrm>
          <a:off x="3059280" y="5516640"/>
          <a:ext cx="204444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5516640"/>
                    <a:ext cx="2044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4"/>
          <p:cNvGraphicFramePr/>
          <p:nvPr/>
        </p:nvGraphicFramePr>
        <p:xfrm>
          <a:off x="3078000" y="5516640"/>
          <a:ext cx="200664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8000" y="5516640"/>
                    <a:ext cx="20066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4"/>
          <p:cNvGraphicFramePr/>
          <p:nvPr/>
        </p:nvGraphicFramePr>
        <p:xfrm>
          <a:off x="2843280" y="5516640"/>
          <a:ext cx="204480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5516640"/>
                    <a:ext cx="20448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3"/>
          <p:cNvSpPr/>
          <p:nvPr/>
        </p:nvSpPr>
        <p:spPr>
          <a:xfrm>
            <a:off x="1637640" y="58770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34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4"/>
          <p:cNvGraphicFramePr/>
          <p:nvPr/>
        </p:nvGraphicFramePr>
        <p:xfrm>
          <a:off x="3276720" y="5373720"/>
          <a:ext cx="215892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5373720"/>
                    <a:ext cx="21589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4"/>
          <p:cNvGraphicFramePr/>
          <p:nvPr/>
        </p:nvGraphicFramePr>
        <p:xfrm>
          <a:off x="3308400" y="5373720"/>
          <a:ext cx="209556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8400" y="5373720"/>
                    <a:ext cx="20955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4"/>
          <p:cNvGraphicFramePr/>
          <p:nvPr/>
        </p:nvGraphicFramePr>
        <p:xfrm>
          <a:off x="3289320" y="5373720"/>
          <a:ext cx="213372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9320" y="5373720"/>
                    <a:ext cx="21337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2748960" y="5661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P² = RT² + TP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6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45000" cy="424044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8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26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3"/>
          <p:cNvSpPr/>
          <p:nvPr/>
        </p:nvSpPr>
        <p:spPr>
          <a:xfrm>
            <a:off x="1638360" y="587700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6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64464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Object 28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28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3"/>
          <p:cNvSpPr/>
          <p:nvPr/>
        </p:nvSpPr>
        <p:spPr>
          <a:xfrm>
            <a:off x="1638360" y="587700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8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01488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39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1-19T02:33:06Z</dcterms:modified>
  <cp:revision>21</cp:revision>
  <dc:subject/>
  <dc:title>Diapositive 1</dc:title>
</cp:coreProperties>
</file>