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3DBC-DE47-4451-AF23-FC5C1B82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D315-C03C-4955-8960-AD2078DE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B8F-9071-4475-A003-00B86F42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AF2-EB7F-4BF2-A144-BED157EA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4F44-BE4E-48A7-8D78-56A950B8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9DF-4A2F-4B12-B533-D49944D4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EC7-E7E9-45DF-9A21-FF0D3B8B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60C-205B-436C-8F4B-0AA9F2F4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B31-856D-4BD3-BA70-4C463895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C255-5145-4F94-9679-BFA7EE08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13A0-FE44-4C10-B218-89CAD484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176F-8827-4A3A-8D2A-5ED5B2ED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2E78-6151-4233-8EF8-F5588F703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76720" y="1916280"/>
          <a:ext cx="388620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16280"/>
                    <a:ext cx="38862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276720" y="4005360"/>
          <a:ext cx="388620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005360"/>
                    <a:ext cx="38862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2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780000" y="1989000"/>
          <a:ext cx="26542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2654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635280" y="3933720"/>
          <a:ext cx="240048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3933720"/>
                    <a:ext cx="24004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51280" y="1989000"/>
          <a:ext cx="26668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89000"/>
                    <a:ext cx="26668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851280" y="4005360"/>
          <a:ext cx="26416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005360"/>
                    <a:ext cx="26416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3880" y="1397160"/>
          <a:ext cx="693576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327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203640" y="2205000"/>
          <a:ext cx="5168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205000"/>
                    <a:ext cx="5168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348000" y="4149720"/>
          <a:ext cx="4876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4876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492360" y="1628640"/>
          <a:ext cx="317520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628640"/>
                    <a:ext cx="3175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564000" y="3573360"/>
          <a:ext cx="281916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573360"/>
                    <a:ext cx="28191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03640" y="1989000"/>
          <a:ext cx="43815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4381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851280" y="3500280"/>
          <a:ext cx="284472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500280"/>
                    <a:ext cx="28447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348000" y="1989000"/>
          <a:ext cx="389880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989000"/>
                    <a:ext cx="38988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348000" y="4149720"/>
          <a:ext cx="3733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3733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1413000"/>
          <a:ext cx="828036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66722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124000" y="2060640"/>
          <a:ext cx="6121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060640"/>
                    <a:ext cx="6121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2050920" y="4149720"/>
          <a:ext cx="65026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4149720"/>
                    <a:ext cx="65026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10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1341360"/>
          <a:ext cx="806616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645804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050920" y="1844640"/>
          <a:ext cx="570240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844640"/>
                    <a:ext cx="57024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000160" y="4076640"/>
          <a:ext cx="61470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0160" y="4076640"/>
                    <a:ext cx="6147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10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1484280"/>
          <a:ext cx="792144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631332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195640" y="2133720"/>
          <a:ext cx="6045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133720"/>
                    <a:ext cx="6045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68360" y="4149720"/>
          <a:ext cx="486432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4149720"/>
                    <a:ext cx="48643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10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1397160"/>
          <a:ext cx="799308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2643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195640" y="1773360"/>
          <a:ext cx="5676840" cy="16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773360"/>
                    <a:ext cx="5676840" cy="16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195640" y="3573360"/>
          <a:ext cx="5676840" cy="16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3573360"/>
                    <a:ext cx="567684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1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397160"/>
          <a:ext cx="784872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12000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484360" y="2060640"/>
          <a:ext cx="556272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060640"/>
                    <a:ext cx="55627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411280" y="4149720"/>
          <a:ext cx="530856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4149720"/>
                    <a:ext cx="53085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10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24000" y="1397160"/>
          <a:ext cx="7296120" cy="4063680"/>
        </p:xfrm>
        <a:graphic>
          <a:graphicData uri="http://schemas.openxmlformats.org/drawingml/2006/table">
            <a:tbl>
              <a:tblPr/>
              <a:tblGrid>
                <a:gridCol w="1800000"/>
                <a:gridCol w="5496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340000" y="1989000"/>
          <a:ext cx="480060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989000"/>
                    <a:ext cx="48006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340000" y="4149720"/>
          <a:ext cx="50036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149720"/>
                    <a:ext cx="50036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76720" y="2133720"/>
          <a:ext cx="3746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133720"/>
                    <a:ext cx="3746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348000" y="4149720"/>
          <a:ext cx="34416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3441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11640" y="1628640"/>
          <a:ext cx="172728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628640"/>
                    <a:ext cx="17272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284720" y="3573360"/>
          <a:ext cx="171432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573360"/>
                    <a:ext cx="171432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24360" y="1989000"/>
          <a:ext cx="26794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989000"/>
                    <a:ext cx="26794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43280" y="3573360"/>
          <a:ext cx="100332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3573360"/>
                    <a:ext cx="10033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067280" y="2060640"/>
          <a:ext cx="21463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060640"/>
                    <a:ext cx="2146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995640" y="4005360"/>
          <a:ext cx="22226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005360"/>
                    <a:ext cx="2222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419640" y="2060640"/>
          <a:ext cx="3301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060640"/>
                    <a:ext cx="3301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492360" y="4149720"/>
          <a:ext cx="32385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149720"/>
                    <a:ext cx="3238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708360" y="1916280"/>
          <a:ext cx="281952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916280"/>
                    <a:ext cx="28195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708360" y="3860640"/>
          <a:ext cx="288288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3860640"/>
                    <a:ext cx="28828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851280" y="1916280"/>
          <a:ext cx="285732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16280"/>
                    <a:ext cx="28573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924360" y="4076640"/>
          <a:ext cx="233676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076640"/>
                    <a:ext cx="23367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20T21:13:20Z</dcterms:modified>
  <cp:revision>22</cp:revision>
  <dc:subject/>
  <dc:title>Diapositive 1</dc:title>
</cp:coreProperties>
</file>