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812-2B55-4430-BF9C-E480C6D6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1772-A523-41CD-88CE-1718E184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6B7E-F495-40E7-906C-4AC0FDCC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EBB1-D570-4A25-B4DB-03A26A17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B080-1473-4FC2-97D3-6A8464B8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E84-9996-48F3-AE1A-F1C3C50D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157D-917C-41D2-A696-F2F06E41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7EC-A986-4ABF-8269-8A648721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653E-6559-4B7B-9292-1004B3AD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9C57-D68A-4B2E-A408-2E589345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A39C-B308-48CB-A12D-A1B9F8D9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6CFD-FC84-417D-86D8-599964F9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6A47-8A58-4C65-9A8C-C32631805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8720" y="1413000"/>
            <a:ext cx="18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4360" y="2492280"/>
          <a:ext cx="7632720" cy="15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76327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3800" y="1413000"/>
            <a:ext cx="633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ris le résultat sous la for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659640" y="1341360"/>
          <a:ext cx="193032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1341360"/>
                    <a:ext cx="19303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979640" y="2637000"/>
          <a:ext cx="5256360" cy="23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2637000"/>
                    <a:ext cx="5256360" cy="23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965480" cy="4560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81040" y="6021360"/>
            <a:ext cx="66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 triangle PCB es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ctangle en 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965840" cy="4560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51960" y="5950080"/>
            <a:ext cx="586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 triangle PIB es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ocèle en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937040" cy="386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268360" y="5156280"/>
          <a:ext cx="467388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5156280"/>
                    <a:ext cx="46738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1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4757760" cy="387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2556000" y="5156280"/>
          <a:ext cx="445752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5156280"/>
                    <a:ext cx="44575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1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059360" cy="392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2124000" y="5156280"/>
          <a:ext cx="505476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5156280"/>
                    <a:ext cx="50547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1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5776920" cy="3984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59600" y="556416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s droites (d) et (d’) son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arallè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4965840" cy="4560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7640" y="1341360"/>
            <a:ext cx="774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a nature du triangle PC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00360" y="2276640"/>
          <a:ext cx="4032360" cy="24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276640"/>
                    <a:ext cx="403236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2565360"/>
          <a:ext cx="889308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65360"/>
                    <a:ext cx="889308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2708280"/>
          <a:ext cx="914400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914400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93760" y="2637000"/>
          <a:ext cx="8628120" cy="23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2637000"/>
                    <a:ext cx="8628120" cy="23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10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80560" y="1308240"/>
            <a:ext cx="75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a nature du triangle PI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4965840" cy="45608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92360" y="2558880"/>
            <a:ext cx="5487840" cy="429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9400" y="1268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2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9400" y="1268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5333760" cy="434016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2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9400" y="1268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4470480" cy="432756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2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816960" cy="4702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3960" y="1341360"/>
            <a:ext cx="74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 peut-on dire des droites (d) et (d’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708360" y="2852640"/>
          <a:ext cx="172728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852640"/>
                    <a:ext cx="172728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047600" y="1413000"/>
            <a:ext cx="675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cris le résultat sous la forme d’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720" y="1413000"/>
            <a:ext cx="18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47640" y="2276640"/>
          <a:ext cx="590400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276640"/>
                    <a:ext cx="590400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6T18:40:31Z</dcterms:modified>
  <cp:revision>24</cp:revision>
  <dc:subject/>
  <dc:title>Diapositive 1</dc:title>
</cp:coreProperties>
</file>