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C46-C05B-43AF-BC81-4D9C58F5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BAF-60B0-46CC-8645-E780B47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BEB-27E2-479D-8272-06C5C15C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B2D-360C-42AE-BC2A-D4E16AE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E17-7B08-45D3-B2C8-1ACAD00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43C-0B69-4ABB-B13C-F5A95CB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4C2-1CF0-4C4C-B65F-4E1D607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8B2-DD64-4C4B-A84C-1B9CD387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C8C-F744-490B-B3A6-BBD21CAD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EE9-0023-418D-A3A1-11D7589E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836-AD5F-464D-A743-4AB193DE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819-AACD-4FE5-AAD4-03FDCB0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326-A44D-4BB7-A4EA-51039C4D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880" y="1787400"/>
            <a:ext cx="78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à l’aide de symbo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520" y="12841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EF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4364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1341360"/>
            <a:ext cx="54338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41128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58640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26836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16560" cy="39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268360" y="5156280"/>
          <a:ext cx="45849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584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0160" cy="449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91240" y="587700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86320" cy="484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9960" y="602136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07080" cy="450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6000" y="5734080"/>
            <a:ext cx="90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 droite (d) est l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édiatric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u segment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89600" y="2003400"/>
            <a:ext cx="71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71640" y="3933720"/>
          <a:ext cx="410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410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464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35960" y="59500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FG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4520" y="1355760"/>
            <a:ext cx="76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2637000"/>
            <a:ext cx="5757840" cy="403992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86400" cy="3814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16560" cy="39668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710160" cy="44942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2014560"/>
            <a:ext cx="4486320" cy="4843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0708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1427040"/>
            <a:ext cx="925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 représente la droite (d) pour le segment [AB]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33:38Z</dcterms:modified>
  <cp:revision>27</cp:revision>
  <dc:subject/>
  <dc:title>Diapositive 1</dc:title>
</cp:coreProperties>
</file>