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1B7-D98C-40FB-97AC-FE8CFC95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C460-22F6-4E62-95F2-D559C710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0EF-EAFD-406D-B6B7-4F8CC4BC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106-AEB7-41E1-8DF2-C3C3B94F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BD3-EBC2-4A87-95C8-54777358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B35-4EFB-4254-A6E0-C8291229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BF0-432F-4534-A4AE-B957B74E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61A-4804-4894-BECB-28BF9B2D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F1F-A334-44E9-A633-B605FE92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EEA-DB0D-4E53-8E3D-99A379C6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A8C-124E-45F5-8117-D37E05CB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D10E-23F0-4E6F-8A1A-1A09760E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63FD-E990-4462-8D17-5D0E0C385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1628640"/>
          <a:ext cx="394956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28640"/>
                    <a:ext cx="39495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348000" y="3573360"/>
          <a:ext cx="396252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573360"/>
                    <a:ext cx="39625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130640" y="2060640"/>
          <a:ext cx="2374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0640" y="2060640"/>
                    <a:ext cx="2374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995640" y="4149720"/>
          <a:ext cx="2374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374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95640" y="2060640"/>
          <a:ext cx="2705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705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924360" y="4149720"/>
          <a:ext cx="27939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780000" y="2060640"/>
          <a:ext cx="2958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958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635280" y="4149720"/>
          <a:ext cx="29336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933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348000" y="2060640"/>
          <a:ext cx="3861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861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492360" y="4149720"/>
          <a:ext cx="3733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149720"/>
                    <a:ext cx="3733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51280" y="1628640"/>
          <a:ext cx="265428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628640"/>
                    <a:ext cx="26542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851280" y="3645000"/>
          <a:ext cx="26035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645000"/>
                    <a:ext cx="26035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067280" y="1557360"/>
          <a:ext cx="25527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57360"/>
                    <a:ext cx="25527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995640" y="3645000"/>
          <a:ext cx="25401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3645000"/>
                    <a:ext cx="25401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03640" y="1989000"/>
          <a:ext cx="43941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3941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059280" y="4005360"/>
          <a:ext cx="45846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4005360"/>
                    <a:ext cx="45846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276720" y="1773360"/>
          <a:ext cx="3898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773360"/>
                    <a:ext cx="3898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564000" y="3860640"/>
          <a:ext cx="3479760" cy="11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860640"/>
                    <a:ext cx="347976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924360" y="1628640"/>
          <a:ext cx="28573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628640"/>
                    <a:ext cx="2857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924360" y="3573360"/>
          <a:ext cx="243828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24382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11640" y="1557360"/>
          <a:ext cx="19558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557360"/>
                    <a:ext cx="19558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140360" y="3645000"/>
          <a:ext cx="19303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3645000"/>
                    <a:ext cx="19303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492360" y="2060640"/>
          <a:ext cx="3797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797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64000" y="4149720"/>
          <a:ext cx="34923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149720"/>
                    <a:ext cx="349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348000" y="2060640"/>
          <a:ext cx="3822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822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419640" y="4149720"/>
          <a:ext cx="38988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284720" y="2060640"/>
          <a:ext cx="1422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060640"/>
                    <a:ext cx="142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84720" y="4149720"/>
          <a:ext cx="13842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149720"/>
                    <a:ext cx="1384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14640" y="2060640"/>
          <a:ext cx="2438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4640" y="2060640"/>
                    <a:ext cx="2438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995640" y="4149720"/>
          <a:ext cx="2362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362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429080" y="1628640"/>
          <a:ext cx="149868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9080" y="1628640"/>
                    <a:ext cx="14986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416480" y="3645000"/>
          <a:ext cx="14731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6480" y="3645000"/>
                    <a:ext cx="14731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200480" y="1557360"/>
          <a:ext cx="14223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0480" y="1557360"/>
                    <a:ext cx="1422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284720" y="3645000"/>
          <a:ext cx="139680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645000"/>
                    <a:ext cx="13968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060800" y="1989000"/>
          <a:ext cx="26798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0800" y="1989000"/>
                    <a:ext cx="26798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017960" y="4005360"/>
          <a:ext cx="26668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960" y="4005360"/>
                    <a:ext cx="26668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241880" y="1773360"/>
          <a:ext cx="196848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773360"/>
                    <a:ext cx="19684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408560" y="3860640"/>
          <a:ext cx="1790640" cy="11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8560" y="3860640"/>
                    <a:ext cx="17906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857840" y="1628640"/>
          <a:ext cx="99036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1628640"/>
                    <a:ext cx="9903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859280" y="3573360"/>
          <a:ext cx="100332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573360"/>
                    <a:ext cx="1003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6T02:35:19Z</dcterms:modified>
  <cp:revision>23</cp:revision>
  <dc:subject/>
  <dc:title>Diapositive 1</dc:title>
</cp:coreProperties>
</file>