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C602-CEC0-456A-99EE-E1E79B8A62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80C6-ED6E-42A3-9A56-8584DD0BDB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8048-D943-4983-9D9A-1F41C99CBE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FADB-AF41-4BE6-9129-7ABC04CA40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853-B226-48A6-ADA7-B60D170332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0ED2-EB63-40C0-8FBE-DEE4D461B6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27E-51FF-4A14-89BA-69A08156C5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E338-39E2-4DC2-A9C0-F21D3FFBC5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FA47-37C1-4EB2-B6CE-52160C176A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D47-214E-4BA7-B7A1-D8CCADAFA8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DA1B-DCF3-434D-ACE0-9CA5E743DB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41DE-43E6-4C38-9E01-5E7709D7B9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07C2-D9A9-440B-B5FD-B751A21817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29A4-D25E-4721-A724-3607CB6D44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CF7F-77C7-4FE5-A400-8EC4926AF3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518E-3720-477F-9DDF-628F83D510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AAD4-CE4F-4865-809D-DBF7CD76D4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F23A-54B2-4463-AE7A-F8AA585E3F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19D7-2A9C-47C9-9F70-9812A20D2B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0470-1023-412C-B25C-F898FC651B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3790-2587-4E19-9BCD-76AB4E3363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DF90-96D3-4448-9C2F-5181B92A20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966D-FB56-4A44-B05F-F4554215FD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F41E-7CA5-4506-8519-F3476A1C30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39C9-E0A8-4627-AE79-4D7B339165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3DBA-6215-4F10-AE6F-C873484457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CB5-F8BE-4EB9-9E6A-DB462049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17A-9547-4982-B337-7661739C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9A3-6423-4282-B676-6CF21881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955-77ED-4B10-AD54-10930251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DFD-48E2-4E8D-9097-CC2523F3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487-126A-44D7-8371-B736E805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756-5758-4683-833B-261AE3FB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61D-4759-49C1-8DC5-73B9946B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4D2-9377-4A95-9195-EF2A4174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C38-108E-498E-800C-F8EBECC3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6AE-63D4-4ED9-95AA-07F8177D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558-2DB1-44CA-99DA-E596AA4D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E7D2-4C3B-4FD6-BB9B-C786526B057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716360" y="1557360"/>
          <a:ext cx="1003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003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800600" y="3573360"/>
          <a:ext cx="97776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573360"/>
                    <a:ext cx="9777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162320" y="1989000"/>
          <a:ext cx="24764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2320" y="1989000"/>
                    <a:ext cx="2476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168800" y="4076640"/>
          <a:ext cx="24638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8800" y="4076640"/>
                    <a:ext cx="24638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572000" y="1916280"/>
          <a:ext cx="5842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584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716360" y="4076640"/>
          <a:ext cx="57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76640"/>
                    <a:ext cx="57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286080" y="2054160"/>
          <a:ext cx="2997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54160"/>
                    <a:ext cx="2997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365640" y="4149720"/>
          <a:ext cx="2946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4149720"/>
                    <a:ext cx="2946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41964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419640" y="4149720"/>
          <a:ext cx="387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78200" y="1628640"/>
          <a:ext cx="26668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8200" y="1628640"/>
                    <a:ext cx="26668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30720" y="3573360"/>
          <a:ext cx="39240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0720" y="3573360"/>
                    <a:ext cx="3924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797280" y="1557360"/>
          <a:ext cx="29718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7280" y="1557360"/>
                    <a:ext cx="2971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670200" y="3645000"/>
          <a:ext cx="32004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3645000"/>
                    <a:ext cx="32004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4427640" y="1557360"/>
          <a:ext cx="186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186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495680" y="3645000"/>
          <a:ext cx="18543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645000"/>
                    <a:ext cx="1854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151080" y="1989000"/>
          <a:ext cx="41403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989000"/>
                    <a:ext cx="41403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216240" y="414972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6240" y="414972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151080" y="1773360"/>
          <a:ext cx="41022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773360"/>
                    <a:ext cx="4102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151080" y="3789360"/>
          <a:ext cx="41148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3789360"/>
                    <a:ext cx="4114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84760" y="1557360"/>
          <a:ext cx="266688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4760" y="155736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68640" y="3573360"/>
          <a:ext cx="26416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8640" y="3573360"/>
                    <a:ext cx="26416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348000" y="1989000"/>
          <a:ext cx="41911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1911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305160" y="407664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5160" y="407664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790800" y="1916280"/>
          <a:ext cx="2146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916280"/>
                    <a:ext cx="2146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851280" y="4149720"/>
          <a:ext cx="21337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33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9"/>
          <p:cNvGraphicFramePr/>
          <p:nvPr/>
        </p:nvGraphicFramePr>
        <p:xfrm>
          <a:off x="3851280" y="2060640"/>
          <a:ext cx="18669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18669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0"/>
          <p:cNvGraphicFramePr/>
          <p:nvPr/>
        </p:nvGraphicFramePr>
        <p:xfrm>
          <a:off x="3924360" y="4149720"/>
          <a:ext cx="182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182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3851280" y="2060640"/>
          <a:ext cx="2387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3851280" y="4221000"/>
          <a:ext cx="2387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387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356000" y="1628640"/>
          <a:ext cx="15112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28640"/>
                    <a:ext cx="15112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3573360"/>
          <a:ext cx="1473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473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438800" y="3645000"/>
          <a:ext cx="16635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3645000"/>
                    <a:ext cx="16635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3564000" y="1557360"/>
          <a:ext cx="38606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557360"/>
                    <a:ext cx="38606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3498840" y="3645000"/>
          <a:ext cx="384804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8840" y="3645000"/>
                    <a:ext cx="38480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3995640" y="1989000"/>
          <a:ext cx="24512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512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067280" y="4149720"/>
          <a:ext cx="24890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4890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211640" y="1773360"/>
          <a:ext cx="1981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73360"/>
                    <a:ext cx="1981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211640" y="3789360"/>
          <a:ext cx="19940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789360"/>
                    <a:ext cx="19940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8-29T16:21:25Z</dcterms:modified>
  <cp:revision>19</cp:revision>
  <dc:subject/>
  <dc:title>Diapositive 1</dc:title>
</cp:coreProperties>
</file>