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6.wmf" ContentType="image/x-wmf"/>
  <Override PartName="/ppt/media/image15.png" ContentType="image/png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0958-02D7-4C98-8864-15B576A3CC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5980-B43C-44A1-A003-B6F042CE14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7961-1BA7-4DBD-ABFB-EB0401156F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E81C-E9E3-4120-80AB-F5C71A51E1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8B90-710A-43B3-B494-7301735EF5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E343-9A58-469F-99FF-140AE3CCD3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F083-66A4-46E7-8F48-7432BCF77F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BB34-8CD1-471D-8D2B-E1047FE1E2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D4E8-0336-41F0-B137-8443182083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5239-93C5-4494-91EF-F24A5047E1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07E4-5810-4772-8AF1-2CB385EAAF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7A73-B142-49E4-9C6A-EF65DDC4BC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05E7-95BA-4804-B461-175F114C49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2B08-9184-4C4F-B070-C9D0779DB2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E901-9279-4347-936E-30010FEA19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314F-0705-4AE2-887C-01F0F2195E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B256-BB35-4F8A-9FBC-86C20D36F9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133F-469F-4B00-98EF-B6B37557A0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D696-9DD8-466A-9BC6-17285C17FC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ECD9-831F-46FE-9EC2-E287940F4C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D171-3F8D-4B1A-8E1E-B82427248D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F8F1-D7E0-4EA3-8AC0-56CE29AB41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5159-6CEC-4E32-B215-9A97710FC0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45B6-2BF9-4E96-9FB7-B60F083475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0D2F-D6DC-4EA8-B152-5C970A34FC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35C-AA04-43A1-9663-E40A5CEF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D15-1837-44A2-A58A-98D86C5D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D06-FE09-4F16-BB01-3E3CDC9E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59F-7751-4934-8101-3B06ADEE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45A-1DA5-4616-B2B2-8B9F151E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8C4-BE66-40AD-BD2F-0401400D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3E2-3218-415C-8ECB-1592A409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2A9-B9BC-4F23-A783-1C246FAF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E27-3D42-46D5-8026-84A1CFC2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3180-1500-4591-A7E8-85B3C3F9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7DE-21AB-4F00-9FC6-9B9C6431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4930-3913-412C-B221-CF9A925D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D218-F3EA-4AD6-96FB-AE565AD8D90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509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57663" b="33867"/>
          <a:stretch/>
        </p:blipFill>
        <p:spPr>
          <a:xfrm>
            <a:off x="1692360" y="2465280"/>
            <a:ext cx="5160960" cy="439272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5"/>
          <p:cNvSpPr/>
          <p:nvPr/>
        </p:nvSpPr>
        <p:spPr>
          <a:xfrm>
            <a:off x="222480" y="1773360"/>
            <a:ext cx="80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l’angle          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6732720" y="1773360"/>
          <a:ext cx="9396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177336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979640" y="2825640"/>
            <a:ext cx="477360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ZoneTexte 4"/>
          <p:cNvSpPr/>
          <p:nvPr/>
        </p:nvSpPr>
        <p:spPr>
          <a:xfrm>
            <a:off x="222480" y="1773360"/>
            <a:ext cx="80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l’angle          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5"/>
          <p:cNvGraphicFramePr/>
          <p:nvPr/>
        </p:nvGraphicFramePr>
        <p:xfrm>
          <a:off x="6732720" y="1773360"/>
          <a:ext cx="9396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177336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2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305680" cy="3924360"/>
          </a:xfrm>
          <a:prstGeom prst="rect">
            <a:avLst/>
          </a:prstGeom>
          <a:ln w="0">
            <a:noFill/>
          </a:ln>
        </p:spPr>
      </p:pic>
      <p:sp>
        <p:nvSpPr>
          <p:cNvPr id="117" name="ZoneTexte 4"/>
          <p:cNvSpPr/>
          <p:nvPr/>
        </p:nvSpPr>
        <p:spPr>
          <a:xfrm>
            <a:off x="25200" y="5805360"/>
            <a:ext cx="877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gle au centre associé à         est         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5724360" y="5877000"/>
          <a:ext cx="93996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5877000"/>
                    <a:ext cx="9399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5"/>
          <p:cNvGraphicFramePr/>
          <p:nvPr/>
        </p:nvGraphicFramePr>
        <p:xfrm>
          <a:off x="7380360" y="5877000"/>
          <a:ext cx="93960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80360" y="587700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8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30524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ZoneTexte 4"/>
          <p:cNvSpPr/>
          <p:nvPr/>
        </p:nvSpPr>
        <p:spPr>
          <a:xfrm>
            <a:off x="19800" y="5445000"/>
            <a:ext cx="802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gle au centre associé à         est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5580000" y="5516640"/>
          <a:ext cx="99072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5516640"/>
                    <a:ext cx="990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5"/>
          <p:cNvGraphicFramePr/>
          <p:nvPr/>
        </p:nvGraphicFramePr>
        <p:xfrm>
          <a:off x="7380360" y="5516640"/>
          <a:ext cx="93960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80360" y="551664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6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5019480" cy="416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Object 4"/>
          <p:cNvGraphicFramePr/>
          <p:nvPr/>
        </p:nvGraphicFramePr>
        <p:xfrm>
          <a:off x="3780000" y="5732640"/>
          <a:ext cx="200628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5732640"/>
                    <a:ext cx="200628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6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238720" cy="482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Object 4"/>
          <p:cNvGraphicFramePr/>
          <p:nvPr/>
        </p:nvGraphicFramePr>
        <p:xfrm>
          <a:off x="3635280" y="6093000"/>
          <a:ext cx="207036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6093000"/>
                    <a:ext cx="207036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353120" cy="39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Object 4"/>
          <p:cNvGraphicFramePr/>
          <p:nvPr/>
        </p:nvGraphicFramePr>
        <p:xfrm>
          <a:off x="3451320" y="6054840"/>
          <a:ext cx="243828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51320" y="6054840"/>
                    <a:ext cx="24382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3676680" cy="369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Object 4"/>
          <p:cNvGraphicFramePr/>
          <p:nvPr/>
        </p:nvGraphicFramePr>
        <p:xfrm>
          <a:off x="3635280" y="6093000"/>
          <a:ext cx="207036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6093000"/>
                    <a:ext cx="207036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2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305320" cy="392436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6"/>
          <p:cNvSpPr/>
          <p:nvPr/>
        </p:nvSpPr>
        <p:spPr>
          <a:xfrm>
            <a:off x="48960" y="1916280"/>
            <a:ext cx="91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gle au centre associé à  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33"/>
          <p:cNvGraphicFramePr/>
          <p:nvPr/>
        </p:nvGraphicFramePr>
        <p:xfrm>
          <a:off x="7308720" y="1916280"/>
          <a:ext cx="107964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720" y="1916280"/>
                    <a:ext cx="1079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114800" cy="428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Object 4"/>
          <p:cNvGraphicFramePr/>
          <p:nvPr/>
        </p:nvGraphicFramePr>
        <p:xfrm>
          <a:off x="3457440" y="6054840"/>
          <a:ext cx="242568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57440" y="6054840"/>
                    <a:ext cx="24256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533840" cy="451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4"/>
          <p:cNvGraphicFramePr/>
          <p:nvPr/>
        </p:nvGraphicFramePr>
        <p:xfrm>
          <a:off x="3641760" y="6093000"/>
          <a:ext cx="205740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41760" y="6093000"/>
                    <a:ext cx="205740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rcRect l="0" t="0" r="57663" b="33867"/>
          <a:stretch/>
        </p:blipFill>
        <p:spPr>
          <a:xfrm>
            <a:off x="1979640" y="1268280"/>
            <a:ext cx="5162400" cy="43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Object 4"/>
          <p:cNvGraphicFramePr/>
          <p:nvPr/>
        </p:nvGraphicFramePr>
        <p:xfrm>
          <a:off x="3708360" y="5805360"/>
          <a:ext cx="201924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5805360"/>
                    <a:ext cx="20192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773600" cy="403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4"/>
          <p:cNvGraphicFramePr/>
          <p:nvPr/>
        </p:nvGraphicFramePr>
        <p:xfrm>
          <a:off x="3714840" y="5805360"/>
          <a:ext cx="200664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4840" y="5805360"/>
                    <a:ext cx="2006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ZoneTexte 5"/>
          <p:cNvSpPr/>
          <p:nvPr/>
        </p:nvSpPr>
        <p:spPr>
          <a:xfrm>
            <a:off x="48960" y="1916280"/>
            <a:ext cx="91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gle au centre associé à  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8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430524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29"/>
          <p:cNvGraphicFramePr/>
          <p:nvPr/>
        </p:nvGraphicFramePr>
        <p:xfrm>
          <a:off x="7380360" y="184464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184464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6" descr=""/>
          <p:cNvPicPr/>
          <p:nvPr/>
        </p:nvPicPr>
        <p:blipFill>
          <a:blip r:embed="rId1"/>
          <a:stretch/>
        </p:blipFill>
        <p:spPr>
          <a:xfrm>
            <a:off x="2124000" y="2695680"/>
            <a:ext cx="5019840" cy="416232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6"/>
          <p:cNvSpPr/>
          <p:nvPr/>
        </p:nvSpPr>
        <p:spPr>
          <a:xfrm>
            <a:off x="1011600" y="1557360"/>
            <a:ext cx="717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27"/>
          <p:cNvGraphicFramePr/>
          <p:nvPr/>
        </p:nvGraphicFramePr>
        <p:xfrm>
          <a:off x="6227640" y="1557360"/>
          <a:ext cx="107964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1557360"/>
                    <a:ext cx="1079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6" descr=""/>
          <p:cNvPicPr/>
          <p:nvPr/>
        </p:nvPicPr>
        <p:blipFill>
          <a:blip r:embed="rId1"/>
          <a:stretch/>
        </p:blipFill>
        <p:spPr>
          <a:xfrm>
            <a:off x="1979640" y="2028960"/>
            <a:ext cx="5238720" cy="4829040"/>
          </a:xfrm>
          <a:prstGeom prst="rect">
            <a:avLst/>
          </a:prstGeom>
          <a:ln w="0">
            <a:noFill/>
          </a:ln>
        </p:spPr>
      </p:pic>
      <p:sp>
        <p:nvSpPr>
          <p:cNvPr id="71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340000" y="2943360"/>
            <a:ext cx="4352760" cy="391464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627280" y="3162240"/>
            <a:ext cx="3676680" cy="369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2484360" y="2571840"/>
            <a:ext cx="4114800" cy="428616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2195640" y="2343240"/>
            <a:ext cx="4533840" cy="451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0-11-19T18:15:30Z</dcterms:modified>
  <cp:revision>27</cp:revision>
  <dc:subject/>
  <dc:title>Diapositive 1</dc:title>
</cp:coreProperties>
</file>