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4FA6-9436-48C1-BCE1-9545E040D5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756D-3FCA-49AF-B3D8-9554D693BE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4FC6-F0D1-4EF7-AF53-B3527A2980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7A67-76B1-4D11-AF23-63B74FC5B7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9803-E29A-4170-8D67-8790AB06EB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BC8B-9EA0-49C0-9481-297F297BE4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F811-7AE5-4C4A-A98D-3B27F62CBC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12A2-E93A-4172-AFFF-E4FADE23C0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40C7-EB6E-4E15-A869-31B2B416FE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8B4F-AAFF-4F3C-A318-9445EB27D0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AC55-AA93-4D2D-91E2-FC6D5D1C09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0318-1301-4826-AE51-581373EF79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35D-C3FC-4CC7-94D1-9BF4051857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E92C-DA16-45EA-95B6-DE793F4630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903-54BC-4882-94E3-615BF5987D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2FC9-4FAA-4939-ADE1-D1C7DA4FC3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24D5-C288-4C38-A779-F511B9185E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97B5-AC25-4502-A861-8D7997E63D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077E-56E8-4093-8A65-0BBE2B58E8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0587-442B-4CE5-99DC-7A282FADAF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B3CB-FD48-49D5-8779-4C352FFC88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51C-74D8-47C4-8A21-08B4637FEA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CFA-100D-44C7-86BE-08F5FB2BD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84CC-9EEF-4EE1-B343-AC429D45C7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F4EF-9148-4890-8499-67880DBA48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EBDE-F478-43FF-9F85-D1DD14AE83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FF8-3557-4768-96DC-1029AC39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AFD-C8A1-482D-B843-F7799F7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FF0-44B4-44D4-BEBC-BA8CAB41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E18-A7DC-49C0-AC62-39409C36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E3C-60B5-49C0-A3BD-7B7CDA94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39D-4FC7-4E8A-BF52-12FF6E7D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B44-3F84-4C69-BE2F-22725335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69E-3B2B-4519-999C-BF19040F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12A-EDFD-44B7-B226-1F0CC141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227-F2CA-42F0-8B33-4B68BD4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8B7-8E6A-4C01-AA35-17BE220F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633-CB07-4C95-88A7-6BBD3448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817-ABBC-4A4D-91E7-5EEBC97EE66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3635280" y="2133720"/>
          <a:ext cx="34419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34419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8"/>
          <p:cNvGraphicFramePr/>
          <p:nvPr/>
        </p:nvGraphicFramePr>
        <p:xfrm>
          <a:off x="3419640" y="4149720"/>
          <a:ext cx="34542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4542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13532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2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8"/>
          <p:cNvGraphicFramePr/>
          <p:nvPr/>
        </p:nvGraphicFramePr>
        <p:xfrm>
          <a:off x="4427640" y="2492280"/>
          <a:ext cx="1752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492280"/>
                    <a:ext cx="1752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1"/>
          <p:cNvGraphicFramePr/>
          <p:nvPr/>
        </p:nvGraphicFramePr>
        <p:xfrm>
          <a:off x="4427640" y="4581360"/>
          <a:ext cx="172692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581360"/>
                    <a:ext cx="1726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7"/>
          <p:cNvGraphicFramePr/>
          <p:nvPr/>
        </p:nvGraphicFramePr>
        <p:xfrm>
          <a:off x="3924360" y="1916280"/>
          <a:ext cx="22860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16280"/>
                    <a:ext cx="22860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8"/>
          <p:cNvGraphicFramePr/>
          <p:nvPr/>
        </p:nvGraphicFramePr>
        <p:xfrm>
          <a:off x="3851280" y="4005360"/>
          <a:ext cx="21844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1844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397160"/>
          <a:ext cx="7632720" cy="4063680"/>
        </p:xfrm>
        <a:graphic>
          <a:graphicData uri="http://schemas.openxmlformats.org/drawingml/2006/table">
            <a:tbl>
              <a:tblPr/>
              <a:tblGrid>
                <a:gridCol w="1873080"/>
                <a:gridCol w="5759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+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-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10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397160"/>
          <a:ext cx="820908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337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5"/>
          <p:cNvGraphicFramePr/>
          <p:nvPr/>
        </p:nvGraphicFramePr>
        <p:xfrm>
          <a:off x="2195640" y="1989000"/>
          <a:ext cx="59814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981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20"/>
          <p:cNvGraphicFramePr/>
          <p:nvPr/>
        </p:nvGraphicFramePr>
        <p:xfrm>
          <a:off x="2195640" y="4076640"/>
          <a:ext cx="59562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5956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0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2050920" y="1916280"/>
          <a:ext cx="679464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679464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0"/>
          <p:cNvGraphicFramePr/>
          <p:nvPr/>
        </p:nvGraphicFramePr>
        <p:xfrm>
          <a:off x="1835280" y="4005360"/>
          <a:ext cx="70610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005360"/>
                    <a:ext cx="7061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1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1"/>
          <p:cNvGraphicFramePr/>
          <p:nvPr/>
        </p:nvGraphicFramePr>
        <p:xfrm>
          <a:off x="2050920" y="1989000"/>
          <a:ext cx="67438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7438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2195640" y="4076640"/>
          <a:ext cx="62989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989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56404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5"/>
          <p:cNvGraphicFramePr/>
          <p:nvPr/>
        </p:nvGraphicFramePr>
        <p:xfrm>
          <a:off x="2195640" y="1989000"/>
          <a:ext cx="52956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295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8"/>
          <p:cNvGraphicFramePr/>
          <p:nvPr/>
        </p:nvGraphicFramePr>
        <p:xfrm>
          <a:off x="2111400" y="4076640"/>
          <a:ext cx="53211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1400" y="4076640"/>
                    <a:ext cx="5321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1397160"/>
          <a:ext cx="7704000" cy="4063680"/>
        </p:xfrm>
        <a:graphic>
          <a:graphicData uri="http://schemas.openxmlformats.org/drawingml/2006/table">
            <a:tbl>
              <a:tblPr/>
              <a:tblGrid>
                <a:gridCol w="1727280"/>
                <a:gridCol w="597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5"/>
          <p:cNvGraphicFramePr/>
          <p:nvPr/>
        </p:nvGraphicFramePr>
        <p:xfrm>
          <a:off x="2627280" y="1989000"/>
          <a:ext cx="52070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5207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1"/>
          <p:cNvGraphicFramePr/>
          <p:nvPr/>
        </p:nvGraphicFramePr>
        <p:xfrm>
          <a:off x="2627280" y="4149720"/>
          <a:ext cx="51562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149720"/>
                    <a:ext cx="5156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5"/>
          <p:cNvGraphicFramePr/>
          <p:nvPr/>
        </p:nvGraphicFramePr>
        <p:xfrm>
          <a:off x="1979640" y="1916280"/>
          <a:ext cx="6946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22"/>
          <p:cNvGraphicFramePr/>
          <p:nvPr/>
        </p:nvGraphicFramePr>
        <p:xfrm>
          <a:off x="1979640" y="4005360"/>
          <a:ext cx="69469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0536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397160"/>
          <a:ext cx="8785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9"/>
          <p:cNvGraphicFramePr/>
          <p:nvPr/>
        </p:nvGraphicFramePr>
        <p:xfrm>
          <a:off x="2124000" y="1557360"/>
          <a:ext cx="6840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6840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0"/>
          <p:cNvGraphicFramePr/>
          <p:nvPr/>
        </p:nvGraphicFramePr>
        <p:xfrm>
          <a:off x="2050920" y="3716280"/>
          <a:ext cx="684216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716280"/>
                    <a:ext cx="68421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1397160"/>
          <a:ext cx="8281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624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1979640" y="1989000"/>
          <a:ext cx="63500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89000"/>
                    <a:ext cx="6350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9"/>
          <p:cNvGraphicFramePr/>
          <p:nvPr/>
        </p:nvGraphicFramePr>
        <p:xfrm>
          <a:off x="1922400" y="3933720"/>
          <a:ext cx="64645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3933720"/>
                    <a:ext cx="6464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20"/>
          <p:cNvGraphicFramePr/>
          <p:nvPr/>
        </p:nvGraphicFramePr>
        <p:xfrm>
          <a:off x="2124000" y="1844640"/>
          <a:ext cx="6566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844640"/>
                    <a:ext cx="6566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1"/>
          <p:cNvGraphicFramePr/>
          <p:nvPr/>
        </p:nvGraphicFramePr>
        <p:xfrm>
          <a:off x="1979640" y="4076640"/>
          <a:ext cx="68961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76640"/>
                    <a:ext cx="6896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17"/>
          <p:cNvGraphicFramePr/>
          <p:nvPr/>
        </p:nvGraphicFramePr>
        <p:xfrm>
          <a:off x="4140360" y="1916280"/>
          <a:ext cx="208260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16280"/>
                    <a:ext cx="20826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8"/>
          <p:cNvGraphicFramePr/>
          <p:nvPr/>
        </p:nvGraphicFramePr>
        <p:xfrm>
          <a:off x="4211640" y="4005360"/>
          <a:ext cx="2070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05360"/>
                    <a:ext cx="2070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067280" y="1916280"/>
          <a:ext cx="25146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25146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3924360" y="4076640"/>
          <a:ext cx="267948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679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2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851280" y="1773360"/>
          <a:ext cx="2489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773360"/>
                    <a:ext cx="2489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851280" y="3933720"/>
          <a:ext cx="22734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933720"/>
                    <a:ext cx="2273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3995640" y="1989000"/>
          <a:ext cx="2400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3989520" y="4005360"/>
          <a:ext cx="24127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4005360"/>
                    <a:ext cx="24127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17"/>
          <p:cNvGraphicFramePr/>
          <p:nvPr/>
        </p:nvGraphicFramePr>
        <p:xfrm>
          <a:off x="4067280" y="1989000"/>
          <a:ext cx="234936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49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8"/>
          <p:cNvGraphicFramePr/>
          <p:nvPr/>
        </p:nvGraphicFramePr>
        <p:xfrm>
          <a:off x="3851280" y="4149720"/>
          <a:ext cx="23623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362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17"/>
          <p:cNvGraphicFramePr/>
          <p:nvPr/>
        </p:nvGraphicFramePr>
        <p:xfrm>
          <a:off x="4140360" y="1989000"/>
          <a:ext cx="19810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89000"/>
                    <a:ext cx="19810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8"/>
          <p:cNvGraphicFramePr/>
          <p:nvPr/>
        </p:nvGraphicFramePr>
        <p:xfrm>
          <a:off x="4140360" y="4076640"/>
          <a:ext cx="1981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076640"/>
                    <a:ext cx="1981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5T20:15:17Z</dcterms:modified>
  <cp:revision>22</cp:revision>
  <dc:subject/>
  <dc:title>Diapositive 1</dc:title>
</cp:coreProperties>
</file>