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F8E9-16DE-4F56-B922-505F7EE8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A198-B4FE-4CDF-A58E-CCABE1F2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C3AF-3E6B-42C6-900C-CAB81636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B52B-B623-4F0A-B1D5-770BD8D0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4D50-E1CA-4D9E-B133-7F17FD39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A5F3-4D99-4A9D-9F22-DC78EE21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FA50-43F7-45C7-8DA0-AA4C7274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E891-61A4-43A6-93FF-EA4FFABB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9785-A37A-4607-832C-0AD46F0B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E36E-1592-43A3-822F-60E7DBD3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7027-E97A-4A48-B769-CF26A6E5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DD03-E0CF-429B-8E63-6BF2B333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BC71-2D64-490A-96FF-34C43B5CA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9120" y="1596960"/>
            <a:ext cx="606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it f la fonction définie pa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132000" y="2565360"/>
          <a:ext cx="308628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565360"/>
                    <a:ext cx="3086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952560" y="4260960"/>
            <a:ext cx="486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l’image de -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9120" y="1596960"/>
            <a:ext cx="606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it f la fonction définie pa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195640" y="2421000"/>
          <a:ext cx="41400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421000"/>
                    <a:ext cx="4140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260360" y="4076640"/>
            <a:ext cx="469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l’image de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24000" y="2421000"/>
          <a:ext cx="8569080" cy="136044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449640" y="4332240"/>
            <a:ext cx="747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3 par la fonction f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24000" y="2421000"/>
          <a:ext cx="8569080" cy="136044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232920" y="4405320"/>
            <a:ext cx="84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antécédent de 5 par la fonction f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24000" y="2421000"/>
          <a:ext cx="8569080" cy="136044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902520" y="4437000"/>
            <a:ext cx="764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-2 par la fonction f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1471680"/>
            <a:ext cx="3786120" cy="5386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194360" y="2387520"/>
            <a:ext cx="396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0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1428840"/>
            <a:ext cx="3772080" cy="5429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482000" y="2460600"/>
            <a:ext cx="408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2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1457280"/>
            <a:ext cx="3757680" cy="5400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049280" y="2604960"/>
            <a:ext cx="519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antécédent de 3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-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2960" y="1340640"/>
            <a:ext cx="888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f une fonction. On considère le tableau de val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a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4000" y="2421000"/>
          <a:ext cx="8569080" cy="136044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252360" y="4437000"/>
            <a:ext cx="863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’image de 3, par la fonction 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9280" y="1428840"/>
            <a:ext cx="3772080" cy="5429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952440" y="2349360"/>
            <a:ext cx="519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antécédent de 5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-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340000" y="1413000"/>
          <a:ext cx="377172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413000"/>
                    <a:ext cx="37717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692360" y="3284640"/>
          <a:ext cx="575316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3284640"/>
                    <a:ext cx="575316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911240" y="5373720"/>
            <a:ext cx="515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2 par f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203640" y="1773360"/>
          <a:ext cx="308592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773360"/>
                    <a:ext cx="30859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763640" y="2781360"/>
          <a:ext cx="533412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2781360"/>
                    <a:ext cx="5334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61280" y="4116240"/>
            <a:ext cx="84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imade de -2 par la fonction carré est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340000" y="1916280"/>
          <a:ext cx="4140000" cy="77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916280"/>
                    <a:ext cx="4140000" cy="77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763640" y="2924280"/>
          <a:ext cx="555012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2924280"/>
                    <a:ext cx="5550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2198520" y="4221000"/>
            <a:ext cx="515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3 par f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2960" y="1340640"/>
            <a:ext cx="888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f une fonction. On considère le tableau de val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a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24000" y="2421000"/>
          <a:ext cx="8569080" cy="136044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231840" y="46213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4548240"/>
            <a:ext cx="867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 est l’antécédent de 5, par la fo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12960" y="1340640"/>
            <a:ext cx="888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f une fonction. On considère le tableau de val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a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24000" y="2421000"/>
          <a:ext cx="8569080" cy="136044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60560" y="4332240"/>
            <a:ext cx="880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’image de -2, par la fonction 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1471680"/>
            <a:ext cx="3786120" cy="538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123440" y="1355760"/>
            <a:ext cx="50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la repré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ique de la fonction 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64920" y="2747880"/>
            <a:ext cx="445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re graphiquement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1471680"/>
            <a:ext cx="3786120" cy="5386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123440" y="1355760"/>
            <a:ext cx="50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la repré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ique de la fonction 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64920" y="2892600"/>
            <a:ext cx="445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re graphiquement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1471680"/>
            <a:ext cx="3786120" cy="5386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23440" y="1355760"/>
            <a:ext cx="50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la repré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ique de la fonction 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64920" y="3108240"/>
            <a:ext cx="433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re graphiquement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 antécédent de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1471680"/>
            <a:ext cx="3786120" cy="5386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123440" y="1355760"/>
            <a:ext cx="50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la repré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ique de la fonction 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64920" y="3108240"/>
            <a:ext cx="433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re graphiquement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 antécédent de 5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9120" y="1596960"/>
            <a:ext cx="606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it f la fonction définie pa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340000" y="2276640"/>
          <a:ext cx="377172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276640"/>
                    <a:ext cx="37717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052000" y="4508640"/>
            <a:ext cx="456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l’image d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8-13T06:24:13Z</dcterms:modified>
  <cp:revision>18</cp:revision>
  <dc:subject/>
  <dc:title>Diapositive 1</dc:title>
</cp:coreProperties>
</file>