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A8F-B799-40A7-86AA-C4E2310E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1C3-68E0-423E-AF9E-E4627F8C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ED1-5208-4619-B026-461E585D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66F-39EB-4872-AB09-602A5AB1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0643-73B2-4E87-8620-BE8034B3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DC1B-350B-4CE6-9A60-B547CBDB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E691-CB27-4CD4-BFEF-5B631DE6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39DF-E230-43CF-84A9-E9AE2310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73F0-828A-4877-AA18-FC8016BF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CF3A-4B65-4DEB-8E5B-28666CF4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AF67-5926-4678-B05A-54C3C865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7ED-942C-4F92-A927-15DBD3D9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586B-2DA7-42F4-B190-AAFD9FFF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6B47-8CF5-40DE-A677-43BF2ED3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651D-2BA5-48AE-A775-70AE8C00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47EB-2492-44F1-8EAF-C1159F61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9D78-C08A-46F5-AC8B-F998066C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08E-6EF3-4464-9EB4-BA715700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C60-22C0-4BE2-AE0F-51F962BB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F81-1183-4949-A305-BC27E06C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348-892B-4975-9CF4-F64FDBDE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1B3-179A-4F92-8FF3-8AF6B96F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3AF-26CB-4291-BD97-6E1A866D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E03-825D-47FB-8E81-A8633CE1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E0B6-1CE0-4054-A754-69BE956BE8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C952-1DDF-4D05-A923-33AA1B086E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068640"/>
            <a:ext cx="755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30 à 45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1413000"/>
            <a:ext cx="626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= x² + 2x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erminer l’équation de la tangente à la courbe de f au point d’abscisse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1557360"/>
            <a:ext cx="612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  f ’(x) = -x²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ens de variation de la fonction f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191120" y="3009960"/>
                <a:ext cx="68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258920" y="1920960"/>
            <a:ext cx="612144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arithm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t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1920960"/>
            <a:ext cx="5310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géométri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t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1413000"/>
            <a:ext cx="554508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arithm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5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…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1341360"/>
            <a:ext cx="648180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géomét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0 000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1,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…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341360"/>
            <a:ext cx="59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capital de 5000 F est placé à intérêt composé à un taux de 3%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e capital obtenu au bout de 10 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170028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= 4x² + 2l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f ’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1557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= ln(2x+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f ’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1628640"/>
            <a:ext cx="509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ésoudre l’iné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(3x-5) 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2:09:42Z</dcterms:created>
  <dc:creator>Mignot Nathalie</dc:creator>
  <dc:description/>
  <dc:language>en-US</dc:language>
  <cp:lastModifiedBy>Mignot Nathalie</cp:lastModifiedBy>
  <dcterms:modified xsi:type="dcterms:W3CDTF">2008-09-08T22:21:26Z</dcterms:modified>
  <cp:revision>2</cp:revision>
  <dc:subject/>
  <dc:title>Activité mentale</dc:title>
</cp:coreProperties>
</file>