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2B6-6B36-4974-B0B0-5AB9B8FF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437-1842-494A-903B-4F61C592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931-B959-4269-8674-8309ACBA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C35-43CE-4E5E-85CF-28958DE4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9FC7-2CC5-4CA8-9E73-1F219838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ED9C-CBD2-4519-A244-B327D760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5C34-B5BA-444E-B0AA-70220C0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6DF8-EFE1-459F-80CA-B211CF07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20D6-39B9-4BA1-8BF6-3ECD44FE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7A02-A98D-4282-AA81-069013AF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4DFE-9038-47F5-90F0-07F425E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75B-7DCA-4B5D-948B-D11156EF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EFDC-1A8F-45BF-B5AF-D2121BE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B59A-9AC7-42C7-A9A4-9AD2B3E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F552-D865-42DD-9EE6-441C66BB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57D8-0C66-4CA2-B79F-71AC7678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379D-5748-49FD-977B-8A24BD07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086-09C8-46C3-8F10-8D09E5EC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CD6-16B8-4252-99FD-F70AA7B8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F04-CF4C-4ADD-A451-0EFBF779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8AC-9581-45B9-903C-005A2E55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2C5-1E33-4C9E-8955-CA317E50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B37-15DC-4F0D-8782-60E1560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CA8-8795-4C7E-8733-190D4BE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48DC-26AE-44B7-94F5-D5982108032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14CD-CCDF-440F-BFD4-213178B35D1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Vous aurez 3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Mignot Nathalie</cp:lastModifiedBy>
  <dcterms:modified xsi:type="dcterms:W3CDTF">2008-08-01T04:28:02Z</dcterms:modified>
  <cp:revision>22</cp:revision>
  <dc:subject/>
  <dc:title>Donner l'image de -1 par la fonction f définie par </dc:title>
</cp:coreProperties>
</file>