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949-8D41-42E8-934D-20269CAC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E9E-9CC6-4BC2-8145-415BDDBC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813-0DA0-44B1-B169-1EAD7A20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6C8-FBB6-46F1-BFE3-5F662D9F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E35F-AFF2-4D5B-B8C3-9D4BE628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6ADD-7F35-487A-9F1B-E8F406D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C62E-0818-4015-B0F8-3DC9B20C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CC37-2B14-432F-AF64-D23B2EE4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E8FF-3E05-4B4B-B6F2-6CAB8CCA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0DA6-7140-4DCD-970C-4A92E31C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198-F586-4934-9DE8-7DD3E1EE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97C-BA87-493F-8CE8-9015D575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27E8-F42E-4DF4-B684-6A904674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612E-E64F-4599-93B7-62D2778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F305-A5C3-4BE9-96F9-F6010489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4EB5-7AB3-42E3-8EAE-A53AD640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639A-8264-4C5D-8884-F9CBD9D5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9A8-518D-4CA3-BD84-7A58C40F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0E5-980E-4A9E-A732-F8C57797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FB6-AAAF-4045-89FA-69ECCF0C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EE0-31C4-4E2C-99B6-D00AC88D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8F2-2F10-465A-BFDE-17A8AF9A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885-B403-410D-8166-4B9CB9B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E60-C710-4C85-B9D9-7FF372C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8473-3F18-4710-8F73-F0E0A9AAB4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6B01-DED3-4A12-8BF2-2669C14B9F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060640"/>
            <a:ext cx="6400800" cy="93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3141360"/>
            <a:ext cx="78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considère la droite (d) d’équation :5x + 3y = 150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considère la droite (d) d’équation :  -2x + 3y = 9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ln) ‘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1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e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-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ri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8 + 3ln2 – ln4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fonction de l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3x² + 2ln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 f ’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5x+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x²+ 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4:33:42Z</dcterms:created>
  <dc:creator>Mignot Nathalie</dc:creator>
  <dc:description/>
  <dc:language>en-US</dc:language>
  <cp:lastModifiedBy>Mignot Nathalie</cp:lastModifiedBy>
  <dcterms:modified xsi:type="dcterms:W3CDTF">2008-08-01T05:06:19Z</dcterms:modified>
  <cp:revision>3</cp:revision>
  <dc:subject/>
  <dc:title>Activité mentale</dc:title>
</cp:coreProperties>
</file>