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A86-9C40-48F8-BDFE-3DFA5E35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F26-42A7-4BA4-A632-0DCF13B1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C7B-8D8A-43B5-9E39-E7E1AF8C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E31-38AC-436B-9F34-5A44FB77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2473-9AAE-49F0-9B8F-711867EE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6744-DA8A-415C-B459-722CFADF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66B8-580B-49C3-9525-ECE49886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8B99-8F87-4283-8171-70C585DC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DE0E-8E17-4509-BD99-D5D2AF19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B616-D4DC-4824-8B93-8BBAF199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0EAB-F134-4666-80A4-8FBB8C2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57F-D367-4EC8-B4A1-F623262E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FB4E-3356-499B-A5C4-92AB7B84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30F6-EFE8-4CBA-900B-673B1BCB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CB40-5860-4979-9647-2B3FF0FC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51FE-172D-4E78-A99A-D6EACD61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1F39-8F72-4C82-8A07-39BE9250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553-8C66-4531-AC99-EAC6E9C2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55B-DE4C-4E1D-BF1D-5011EE20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8EA-ADE3-4DC0-83E3-A2CFF6F0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730-E648-4103-BAF9-68F7CB97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4AD-F8DF-4BA9-8F6A-92536A6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31A-4FD0-44EA-BB08-40C87A99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644-DB4F-4413-9F07-821B3591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6262-A2D1-4B81-9B00-DCACEA8144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4785-321A-4FF3-AFD9-02D17D1D62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1557360"/>
            <a:ext cx="50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16360" y="2585880"/>
          <a:ext cx="1882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585880"/>
                    <a:ext cx="1882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87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1557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843280" y="2421000"/>
          <a:ext cx="2660760" cy="15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21000"/>
                    <a:ext cx="266076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227664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ét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7" name=""/>
          <p:cNvGraphicFramePr/>
          <p:nvPr/>
        </p:nvGraphicFramePr>
        <p:xfrm>
          <a:off x="2268360" y="3213000"/>
          <a:ext cx="36291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213000"/>
                    <a:ext cx="3629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177336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cas d’équiprobabilité, comment calculer la probabilité d’un événement 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03280" y="1557360"/>
          <a:ext cx="618192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1819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619280" y="2997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773360"/>
            <a:ext cx="3571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x² 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484280"/>
            <a:ext cx="61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considère la droite (d) d’équation :  x + 2y = 16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équatio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 (x) =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184464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a formule de l’équation d’une tangente à la courbe d’une fonction f au point d’abscisse  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1413000"/>
            <a:ext cx="590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re la formule permettant de calculer   t    pour   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1+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04:26:59Z</dcterms:created>
  <dc:creator>Mignot Nathalie</dc:creator>
  <dc:description/>
  <dc:language>en-US</dc:language>
  <cp:lastModifiedBy>Mignot Nathalie</cp:lastModifiedBy>
  <dcterms:modified xsi:type="dcterms:W3CDTF">2008-08-24T04:58:14Z</dcterms:modified>
  <cp:revision>5</cp:revision>
  <dc:subject/>
  <dc:title>Activité mentale</dc:title>
</cp:coreProperties>
</file>