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EA75-50EF-46BA-8627-283B245C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9153-F3A7-49A4-979C-3532CED7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9CD5-FB23-4459-9D51-AE725755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E80A-E0B4-4072-A70F-521558846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C908-489D-4C2F-B9A9-756F54B6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C130-DE04-4267-8331-AC43148A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0B35-47F8-4FC9-B64F-E981ADE1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1FB1-A879-431B-AFC0-C77F1217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FEE7-D29C-4759-87A8-B215615B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4A6F-CD25-473F-9B0A-341ECBC2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D87A-788B-46B8-A616-E4EAE2CD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88E0-8C7B-4729-91CE-876B27EF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5A67-C6D1-4526-B83E-D8716397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B95B-59B0-4A91-83AF-DCAB23C3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AC53-DAC6-4F03-B4C0-211F95F3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0F59-7815-456C-9E84-AB8D4C81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3FB7-76C5-4AFE-AC81-5BE27E28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A8D8-7379-4AAA-B2E9-FCE18CB0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E60B-EA40-45A4-A4A2-497772A7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E418-F715-4317-B26E-FDB6110D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B49D-3171-4D4A-9B63-A34B4F72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AADC-5C7E-49C2-BCA4-80CB35AE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F851-FB0D-4182-9A50-A01FAC47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906F-A75F-44F1-8C8D-FC1FDB5C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89A3-C736-442C-B717-188770677167}" type="slidenum">
              <a:rPr b="0" lang="fr-FR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867D-B5C3-4AEC-9DA5-67AEF8785E30}" type="slidenum">
              <a:rPr b="0" lang="fr-FR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rô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éparez une feuille de répon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tez votre n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érotez dix lignes de 1 à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us aurez 20 secondes par ques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716360" y="1916280"/>
                <a:ext cx="30355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859280" y="3357720"/>
                <a:ext cx="1015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advTm="2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z le tableau de signes de la dériv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700360" y="3284640"/>
            <a:ext cx="4896000" cy="3076560"/>
          </a:xfrm>
          <a:prstGeom prst="rect">
            <a:avLst/>
          </a:prstGeom>
          <a:ln w="0">
            <a:noFill/>
          </a:ln>
        </p:spPr>
      </p:pic>
    </p:spTree>
  </p:cSld>
  <p:transition advTm="2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e de dérivé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52920" y="3633840"/>
                <a:ext cx="111780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e de dérivé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654440" y="3919680"/>
                <a:ext cx="91440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u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549600" y="3989520"/>
                <a:ext cx="31240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260960" y="3944880"/>
                <a:ext cx="1701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413240" y="3716280"/>
                <a:ext cx="13971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’ 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  <p:transition advTm="2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(2) 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’ (2) 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  <p:transition advTm="2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 le coefficient directeur de la tangente au point d’absciss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140360" y="1341360"/>
                <a:ext cx="30351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8-17T19:47:37Z</dcterms:modified>
  <cp:revision>21</cp:revision>
  <dc:subject/>
  <dc:title>Donner l'image de -1 par la fonction f définie par </dc:title>
</cp:coreProperties>
</file>