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B415-C0E8-4E8F-9ABD-63A426465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A608-1FFB-4898-A4EB-405FC0F4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3A87-92F9-4846-9FB7-D16D3BC2A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BE80-3D38-4A6B-9509-68920C0FC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F98B-396B-4E33-8B48-80CDE132E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90AA-8596-4BAA-8161-B70F99A2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D61D-6D0C-40A7-B25A-C405CCD8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C66E-BC7F-4F81-BF24-DC400DEF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F34D-F3CB-4A98-96C7-21A316AC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7527-05AC-4313-BB19-3181F9F4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D271-EC12-4657-B2B1-33AD1263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AA82-107D-4065-A1DB-793472BF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EDA5-F9D8-4304-803A-171B9740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1787-B0E1-4BBE-B7D1-08B52DBA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9450-B3D1-4BEC-A2C5-D45F568C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5318-A7A6-47A9-9B2F-1C70A1C8F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B44A-8CB7-495B-84EE-5A49B8840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1044-F137-4FF8-BFA8-DC62A211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CC23-5E23-4144-B314-AF6F4AB2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0199-EA28-41DC-88E7-19437A97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AC80-86F8-4EAA-9243-4D5C5C9E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2E49-ACE2-42CC-B9B0-AE7EBB3B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83C1-3A69-4C30-8518-B25E76B2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AE8A-1730-41D1-8D51-51E02FDA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273B-2E7D-4A23-BCC1-8A958377D959}" type="slidenum">
              <a:rPr b="0" lang="fr-FR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C36A-7BDA-4890-85B8-B3C898FC5B0D}" type="slidenum">
              <a:rPr b="0" lang="fr-FR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trô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éparez une feuille de répon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tez votre n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érotez dix lignes de 1 à 1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us aurez 40 secondes par ques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ns une série statistique double comment obtient –on le point moyen du nuag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9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50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ns une série statistique double  , la droite obtenue avec les formules de la calculatrice est la droite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1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50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ule de dérivé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96" name=""/>
          <p:cNvGraphicFramePr/>
          <p:nvPr/>
        </p:nvGraphicFramePr>
        <p:xfrm>
          <a:off x="4527720" y="3887640"/>
          <a:ext cx="116820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7720" y="3887640"/>
                    <a:ext cx="116820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50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la dérivée d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03" name=""/>
          <p:cNvGraphicFramePr/>
          <p:nvPr/>
        </p:nvGraphicFramePr>
        <p:xfrm>
          <a:off x="3695760" y="3989520"/>
          <a:ext cx="2832120" cy="49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5760" y="3989520"/>
                    <a:ext cx="2832120" cy="49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50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la dérivée d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10" name=""/>
          <p:cNvGraphicFramePr/>
          <p:nvPr/>
        </p:nvGraphicFramePr>
        <p:xfrm>
          <a:off x="4324320" y="3944880"/>
          <a:ext cx="15750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4320" y="3944880"/>
                    <a:ext cx="15750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3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50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24000" y="98064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(1) =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……</a:t>
            </a:r>
            <a:br>
              <a:rPr sz="48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’ (1) =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4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140360" y="2781360"/>
            <a:ext cx="3924000" cy="3848040"/>
          </a:xfrm>
          <a:prstGeom prst="rect">
            <a:avLst/>
          </a:prstGeom>
          <a:ln w="0">
            <a:noFill/>
          </a:ln>
        </p:spPr>
      </p:pic>
    </p:spTree>
  </p:cSld>
  <p:transition advTm="50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i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 le coefficient directeur de la tangente au point d’absciss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23" name=""/>
          <p:cNvGraphicFramePr/>
          <p:nvPr/>
        </p:nvGraphicFramePr>
        <p:xfrm>
          <a:off x="4229280" y="1341360"/>
          <a:ext cx="285732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9280" y="1341360"/>
                    <a:ext cx="285732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5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50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i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 quelle valeur de x,  la tangente est-elle « horizontale 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30" name=""/>
          <p:cNvGraphicFramePr/>
          <p:nvPr/>
        </p:nvGraphicFramePr>
        <p:xfrm>
          <a:off x="4229280" y="1341360"/>
          <a:ext cx="285732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9280" y="1341360"/>
                    <a:ext cx="285732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6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50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ns une série statistique double, l’ensemble des points que l’on place dans un repère s’appelle ….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7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50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ns une série statistique doub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, essayer de placer une droite passant le plus près possible des points du nuage revient à réaliser un ajustement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8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50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8-17T19:48:14Z</dcterms:modified>
  <cp:revision>25</cp:revision>
  <dc:subject/>
  <dc:title>Donner l'image de -1 par la fonction f définie par </dc:title>
</cp:coreProperties>
</file>