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69F-E749-4C60-9AC2-BE9D2A46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AE9-3954-4709-80E4-3F0C1F7D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CCF-7E8B-4475-896B-E2DF36B5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2A6-D49D-4ED4-A7C9-FFEE3F6C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7290-7F0B-4D63-A644-01D261796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A000-10B6-4D38-A300-3727FF61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E885-E17A-416C-96A1-3DABB432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FF3D-F909-442A-B731-FEDB49C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F489-1CCE-4A07-8671-DEDEB572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D500-5B18-4017-9768-8D170653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493-A3DA-4CCB-88A0-77ED49D5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A9C-2167-41ED-BBCD-296BD53F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7C01-BBA4-42E9-AA41-7F980814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2B60-C068-49EF-BDD8-3DEB701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2B00-B8D6-4571-B08F-EBFF4B62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98A9-41B3-4800-90F9-5E56ABF7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B59B-5EB8-457E-BD2E-0B1DC4009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1DFC-4AED-45BC-AC9E-9CA2A32A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5B4-326B-45CE-BF94-CE478BC8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004-DD24-46AA-9EDC-6FCE936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D27-91FE-451D-9223-F12383F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CDCD-5DED-46E1-8A8C-B8AB4A36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803-266F-4665-BAA8-4982C2F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0B3-275D-4450-AD93-8A2B21BA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2767-38A3-4984-80A4-F7A99C7D49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9A2-71DB-449C-9341-D8BB6E6A0716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bilités 1. Automath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votre nom 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us disposer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y a neuf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ème : 2 points gratuits et deux points par questions exactes. Il n’est pas tenu compte de la rédaction, seule la réponse m’importe mais des calculs intermédiaires sont parfois nécess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4720" y="5805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164360" y="537372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34000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59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640" y="321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263700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14172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0920" y="3933360"/>
            <a:ext cx="936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29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53880" y="3645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09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2240" y="306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24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492280"/>
            <a:ext cx="6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640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160" y="522936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terminer P(A     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0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400536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87640" y="4581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544500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deux événements A et B indépendants et p(A  B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3933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3816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645000"/>
            <a:ext cx="861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221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71640" y="321300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371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43280" y="443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797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84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0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860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221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242100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6920" y="299736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0" y="2205000"/>
            <a:ext cx="43210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 totales permettant de calculer p(B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19640" y="3860280"/>
            <a:ext cx="8622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50864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15772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72360" y="472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328428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789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5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86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224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0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240" y="551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537372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573408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01120" y="2781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1168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512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6560" y="24210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9480" y="429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1628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93080" y="256500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92428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80360" y="3789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414972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52472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88508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168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296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168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8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712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429264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4941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le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ra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060640"/>
            <a:ext cx="36738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: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43280" y="4797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 deux événements A et B indépend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   B) = 0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372360" y="3357720"/>
                <a:ext cx="317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8000" y="234936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,7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072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3080" y="285264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03640" y="3573360"/>
                <a:ext cx="762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 flipV="1">
            <a:off x="521964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22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149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4370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515772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5589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4760" y="522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14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2240" y="4941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2240" y="558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353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06064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es permettant de calculer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5640" y="364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50846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0760" y="33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068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733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076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653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50920" y="33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95640" y="4365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653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64500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7-08T04:03:37Z</dcterms:modified>
  <cp:revision>28</cp:revision>
  <dc:subject/>
  <dc:title>Calcul mental 1</dc:title>
</cp:coreProperties>
</file>