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BD6-EAF7-481D-8286-946379DD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DD6-B0DA-4013-8CD9-C552926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33B-2121-421D-BF55-70F07450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7B1-07FD-488A-BB70-5C6A03EF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6EF-9EE4-4A8E-9E88-417882AF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62B5-05D0-408E-A710-F7EC94F4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523-721A-40B2-A5C4-4156311D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771-9582-487C-8DA3-242E682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DCD-0318-4D17-BB68-C258D4FB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B90-574C-4259-B5CF-81FA03BF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122-9659-40DF-951D-AD9B3246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577A-E230-4A99-B21F-A0F3DA1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E257-1AA6-4AF9-9EC9-124D1FC26C1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6 - 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 30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916280"/>
            <a:ext cx="4427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8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48240" y="1916280"/>
            <a:ext cx="4595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droite (AB) cou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en A et elle 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le à 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1,1,1) et B(4,5,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équation de P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134640" y="1773360"/>
            <a:ext cx="4640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doit vér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pour qu’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soit orthog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)parallèle à un pla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5440" y="1755720"/>
            <a:ext cx="4466160" cy="4054680"/>
            <a:chOff x="235440" y="1755720"/>
            <a:chExt cx="4466160" cy="4054680"/>
          </a:xfrm>
        </p:grpSpPr>
        <p:sp>
          <p:nvSpPr>
            <p:cNvPr id="105" name=""/>
            <p:cNvSpPr/>
            <p:nvPr/>
          </p:nvSpPr>
          <p:spPr>
            <a:xfrm>
              <a:off x="235440" y="175572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3200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79640" y="27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4360" y="458100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0000" y="458136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796280" y="177336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240" y="184464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3240" y="1773360"/>
            <a:ext cx="4419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l’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tique du produ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laire dans l’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en fonction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onnée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) à la droit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 : ax+by +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647240" y="1916280"/>
            <a:ext cx="4466160" cy="4054680"/>
            <a:chOff x="4647240" y="1916280"/>
            <a:chExt cx="4466160" cy="4054680"/>
          </a:xfrm>
        </p:grpSpPr>
        <p:sp>
          <p:nvSpPr>
            <p:cNvPr id="131" name=""/>
            <p:cNvSpPr/>
            <p:nvPr/>
          </p:nvSpPr>
          <p:spPr>
            <a:xfrm>
              <a:off x="4647240" y="1916280"/>
              <a:ext cx="4466160" cy="40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Quelle est l’express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e  AB.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en fonction de l’ang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380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440" y="29419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096160" y="4741560"/>
              <a:ext cx="21564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1800" y="4741920"/>
              <a:ext cx="28728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456120" y="1900080"/>
            <a:ext cx="3929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ns un tri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conque do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longueurs d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tés sont a , b et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ors : a² = 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68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43080" y="162864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6160" y="1916280"/>
            <a:ext cx="2575440" cy="3506040"/>
            <a:chOff x="776160" y="1916280"/>
            <a:chExt cx="2575440" cy="3506040"/>
          </a:xfrm>
        </p:grpSpPr>
        <p:grpSp>
          <p:nvGrpSpPr>
            <p:cNvPr id="148" name=""/>
            <p:cNvGrpSpPr/>
            <p:nvPr/>
          </p:nvGrpSpPr>
          <p:grpSpPr>
            <a:xfrm>
              <a:off x="798120" y="1916280"/>
              <a:ext cx="2553480" cy="3506040"/>
              <a:chOff x="798120" y="1916280"/>
              <a:chExt cx="2553480" cy="3506040"/>
            </a:xfrm>
          </p:grpSpPr>
          <p:sp>
            <p:nvSpPr>
              <p:cNvPr id="149" name=""/>
              <p:cNvSpPr/>
              <p:nvPr/>
            </p:nvSpPr>
            <p:spPr>
              <a:xfrm>
                <a:off x="798120" y="1916280"/>
                <a:ext cx="2553480" cy="350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On donne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u( 3 ; 1 ; -5 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Et  v(5 ; 3 ; 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200" spc="-1" strike="noStrike">
                    <a:solidFill>
                      <a:srgbClr val="000000"/>
                    </a:solidFill>
                    <a:latin typeface="Tahoma"/>
                  </a:rPr>
                  <a:t>Calculer u.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288880" y="495792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47800" y="4957920"/>
                <a:ext cx="28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76160" y="30132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52520" y="4022640"/>
              <a:ext cx="21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833000" y="206064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17400" y="1844640"/>
            <a:ext cx="2553480" cy="3506040"/>
            <a:chOff x="5117400" y="1844640"/>
            <a:chExt cx="2553480" cy="3506040"/>
          </a:xfrm>
        </p:grpSpPr>
        <p:sp>
          <p:nvSpPr>
            <p:cNvPr id="160" name=""/>
            <p:cNvSpPr/>
            <p:nvPr/>
          </p:nvSpPr>
          <p:spPr>
            <a:xfrm>
              <a:off x="5117400" y="1844640"/>
              <a:ext cx="25534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On don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u( 3 ; 1 ; -5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Et  v(5 ; 3 ; 1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Tahoma"/>
                </a:rPr>
                <a:t>Calculer u.v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08520" y="488628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7440" y="4886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48360" y="2924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4480" y="1971720"/>
            <a:ext cx="3865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ciser ce que l’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it du plan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x- y + 5z + 5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320" y="1700280"/>
            <a:ext cx="4527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a form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tant de calc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istance du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M(x,y,z)  au plan 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 : ax+by +cz + d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1700280"/>
            <a:ext cx="374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s plans suiv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t-i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llè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thogonaux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:      x-2y+3z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’ : -2x+4y -6z =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14Z</dcterms:modified>
  <cp:revision>28</cp:revision>
  <dc:subject/>
  <dc:title>Donner l'image de -1 par la fonction f définie par </dc:title>
</cp:coreProperties>
</file>