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8130-8F92-4603-B924-8550CFE4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DCB-4D83-407C-8050-7CCC7387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870-E2A7-4496-BA99-8CA891931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F4C-D930-4A8A-970E-B53EF109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645A-4AC6-42F2-8B5F-0A2B3F98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380D-2691-41C5-874B-8174831A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004B-84C7-4F3A-9F10-603336F0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BC6B-4542-45CA-8BDC-ED5691DF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AF3E-109B-4B06-8992-9126ED56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099C-D57D-43F0-AA63-B5F8D382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7FA7-2692-461F-AB7A-26DBDB6B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24B-09D9-4EED-BDC2-323865C5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09B2-B153-49A9-9E78-0C959092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748C-64ED-40B1-A43F-220A1B7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46BD-E134-4F54-8647-E4D5F86E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794C-E977-4462-B4B9-0CBB52D8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094E-970D-4058-9E0A-7B0E5577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925-155B-423F-8313-A791D00F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C8DB-B0BF-4F3C-84A8-4F614E91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BCA4-A096-4CF6-954A-0E52D68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9290-A590-4BF8-A3EF-9B510955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042-8098-4E3B-84BF-76201AAD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782-79FC-4B83-B005-1B6ECBDF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0D7-FEED-46B2-8D59-46E2F93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A437-96A8-4EC7-A82A-931E653C6F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0E28-5583-4F11-B20D-8A379AC340A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4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483920"/>
            <a:ext cx="7634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r la copie, précisez  droite ou gauche suivant votre position dans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403280" y="299736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651640" y="45086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24360" y="5516640"/>
                <a:ext cx="2159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58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, 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076720" y="4724280"/>
                <a:ext cx="3492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60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’approximation affine de ln en 1 ,c’est-à-dire compléte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35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x) = x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11280" y="3645000"/>
                <a:ext cx="34923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 (x) = x +  ln(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ner la dérivée de la fonction  définie  pa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 (x) = ln(x²+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788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835280" y="4149720"/>
                <a:ext cx="175248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012000" y="3068640"/>
                <a:ext cx="1650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332000" y="2852640"/>
                <a:ext cx="1307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435640" y="422100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étez les égalités suivantes et précisez sur quels ensembles elles sont réalisées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5892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b&gt;0 , écrire en fonction de ln(a) et ln (b)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2060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81200" y="3876840"/>
                <a:ext cx="25398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55640" y="4941720"/>
                <a:ext cx="2158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796000" y="4076640"/>
                <a:ext cx="17524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40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ur tout a&gt;0 et tout b&gt;0 , écrire en fonction de ln(a) et ln(b)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87640" y="2017800"/>
            <a:ext cx="416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 dans R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ra le résultat en fonction de ln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4360" y="3933720"/>
                <a:ext cx="2743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588000" y="2708280"/>
                <a:ext cx="130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5:05Z</dcterms:modified>
  <cp:revision>25</cp:revision>
  <dc:subject/>
  <dc:title>CR2</dc:title>
</cp:coreProperties>
</file>