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F2F-2616-4051-B775-803B7BC0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B74-4BC2-4B98-8DF3-A2151613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D9F8-3A9C-4AC8-BE8C-B09BCBA1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F54-1675-4594-BBAD-B67B3DE4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D12D-CD5A-4539-A5F6-7D1EAFA6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F402-979E-486B-B350-6583CD7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145A-E0ED-40F8-B7EC-96B60032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534A-EE98-46E4-977D-84CEF56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3B43-3AEE-4AED-9E41-ABC8BB6E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324D-D35A-4945-8151-4050EAC8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F653-FF5F-4F72-8C43-DA94626E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86CE-BBFA-4649-9852-69A32C7D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4632-D6C6-41CE-AD23-775393A9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6C4A-BB43-4728-9531-D335E59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FE3-2ECD-4923-9422-7D9EC31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8816-906D-4968-A87B-450B84D7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FD67-6680-4074-AE18-7F8A558B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B2F-5131-4922-A83B-B9A18691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56D-E348-4F98-A87F-C21EAA6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701-97B5-43FA-AAEC-FF07B21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12C-2CDA-4F00-AEDB-3A947AB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EE0-1275-4770-9629-238B14B3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F6D-7CA5-46F6-B0B5-0ABFEFE9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64C-7146-48D2-A98D-7EF24836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1ED-B430-4FE0-A538-ED281B3040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836640"/>
            <a:ext cx="9009000" cy="1052640"/>
            <a:chOff x="0" y="836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944640"/>
              <a:ext cx="711360" cy="474840"/>
              <a:chOff x="290520" y="944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94464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944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66920"/>
              <a:ext cx="737640" cy="474840"/>
              <a:chOff x="414360" y="1366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6692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66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93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83664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658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E572-F47E-4DD7-B668-5955311436E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AM5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0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10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427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89000"/>
            <a:ext cx="4105080" cy="41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 signe de ln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20178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464328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84360" y="378936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39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’ = ay +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es solutions de l’équation différentiell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y+y’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g’(x) lorsque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² +  ln(x²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’(x) lors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580000" y="3213000"/>
                <a:ext cx="28321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96000" y="278136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166760" y="2852640"/>
                <a:ext cx="1638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64000" y="285264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les limites en +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et en 0 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(x) = xln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843120" y="2833560"/>
                <a:ext cx="228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0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éterminer les limites de la fo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x) = ln(x)/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 0 et en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ombien y a-t’il de fonctions f  solutions de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y’+4y=5 et f(0)=1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0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7:43Z</dcterms:modified>
  <cp:revision>38</cp:revision>
  <dc:subject/>
  <dc:title>CR2</dc:title>
</cp:coreProperties>
</file>