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A31-0849-4F6E-B103-364A7184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12C-AEA9-4564-A4A6-ECF8B593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5A7-575B-4BA7-815A-506F995D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8BF9-2A9A-47FE-B189-DD0CE2A5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BF45-3F1B-4B69-BCD7-DF41A100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6ACA-72EC-4D8F-9D46-33B15FEA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1A39-17F6-41A3-AF4F-0A9B46E2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1C12-0E87-46C5-B875-9F317134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B02D-EA04-4C81-A6DB-96DA5819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DF7D-5D1A-4EB1-A2CD-A554203C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1953-DF0F-4A46-BD77-C7D25875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3CBC-4C1D-4C15-BCC0-E1B97DEB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1787-F40C-4CCB-90EA-9958883F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2ADF-F9F1-4305-B0A0-FBD0DF4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0A7D-3850-4501-8E2D-D9120E9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635E-A886-4411-8584-C5374BD7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BE10-EA78-4A31-8003-CE24BD2A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3E47-0216-48F2-B4B9-F239798E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12D-7D37-4BE5-B67E-8919AEC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3CA-9A78-4878-811F-B743BB7E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C7E-F56E-43A1-BD25-6EAE0384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CB7-C5F9-4E35-8E47-379D5137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0D3-71BB-4994-8A75-A9E0794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227-74D7-4C1F-83B7-D60095E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6672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89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1592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20F7-7BB2-419F-88D8-DBB36E8F12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04640"/>
            <a:ext cx="9009000" cy="1052640"/>
            <a:chOff x="135000" y="404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12640"/>
              <a:ext cx="711360" cy="474840"/>
              <a:chOff x="425520" y="512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12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1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934920"/>
              <a:ext cx="737640" cy="474840"/>
              <a:chOff x="549360" y="934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934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93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86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04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2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894E-E8C7-49DA-B900-222B5393E46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6 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l y a  10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On notera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Rockwell Extra Bold"/>
              </a:rPr>
              <a:t> 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A ,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B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B , …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2852640"/>
                <a:ext cx="2400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7640" y="1916280"/>
            <a:ext cx="3881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781360"/>
                <a:ext cx="2400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AM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2133720"/>
            <a:ext cx="356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s points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14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1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4365720"/>
                <a:ext cx="16765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4365720"/>
                <a:ext cx="16761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6-30T07:36:08Z</dcterms:modified>
  <cp:revision>39</cp:revision>
  <dc:subject/>
  <dc:title>CR2</dc:title>
</cp:coreProperties>
</file>