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camera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9947275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B9E05-6C7C-4D6C-AA13-5CDBFE707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8946C-8EEB-461C-A85E-9BC70F887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E016D-6BA1-477E-9A85-0452D7E56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BA905-C261-4F27-BA0F-687447E98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BA705-924D-4CE2-9E4B-35A7C3665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9C3A1-8CFF-42DC-81F1-0576CC608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3A638-F49C-4CBB-B1B7-9502F9C24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0D23C-0FC9-4E46-8307-EA10E74BA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EECDA-4569-4CD7-8EFA-70EC720A9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BBF73-10A9-4087-9863-39EBCD130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74605-C016-423F-A39E-2996CFCFA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C2A27-7D39-4C11-AECA-034E7F7B7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B2019-F3B5-4AC7-8DA4-CFD87AD6D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B8698-11AF-48A7-AD5D-2982656D6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592CE-175C-441B-AEC1-C2EF437AE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52053-C9B2-477B-914B-23ED6319F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6EE90-121C-43D0-80EA-222BCBA6D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EBF46-29D1-415C-A3BF-6F4AEB9E9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FC3B6-DB53-429A-8FA5-860F9A9CE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6962B-568B-4964-8FE9-C0DAC56D4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D744D-7420-42DD-AF28-389CCBFA0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0B83C-FCF4-4C36-97FA-72B80A742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8BE1F-0FC9-4AEB-94AA-556DB61B4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206E0-7C89-495E-89A9-AF0AD1073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ece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cea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91afb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8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15f7b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91afb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0c0c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9fcad3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A7CA1-0042-45F0-B157-91D238D24F2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ecea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cea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91afb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15f7b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DD96F-101F-4F8E-B6F7-E31E1AAF83A0}" type="slidenum">
              <a:rPr b="0" lang="en-US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c0c0c0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9fcad3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1128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515f7b"/>
                </a:solidFill>
                <a:latin typeface="Tahoma"/>
              </a:rPr>
              <a:t>IE3  term .S</a:t>
            </a:r>
            <a:br>
              <a:rPr sz="4000"/>
            </a:br>
            <a:endParaRPr b="0" lang="en-US" sz="40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826560" y="1773360"/>
            <a:ext cx="763452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ur 10 point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Vous disposez de  45 secondes  par ques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l y a  9 question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arème : 1 point gratuit, 1 point par réponse exacte, pas de point enlevé par réponse fauss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Relevez le numéro de la question et donner la répons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advTm="45000">
    <p:cover dir="r"/>
    <p:sndAc>
      <p:stSnd>
        <p:snd r:embed="rId1" name="camera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15f7b"/>
                </a:solidFill>
                <a:latin typeface="Tahoma"/>
              </a:rPr>
              <a:t>Question 9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er f ’(x) lorsque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(x) =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140440" y="2017800"/>
            <a:ext cx="3814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Ecrire la formule donnant la dérivée de la fonction v</a:t>
            </a:r>
            <a:r>
              <a:rPr b="0" lang="fr-FR" sz="1600" spc="-1" strike="noStrike">
                <a:solidFill>
                  <a:srgbClr val="000000"/>
                </a:solidFill>
                <a:latin typeface="Tahoma"/>
              </a:rPr>
              <a:t>o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u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5148360" y="1916280"/>
            <a:ext cx="7920" cy="4329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2340000" y="3429000"/>
                <a:ext cx="863640" cy="81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 advTm="45000">
    <p:cover dir="r"/>
    <p:sndAc>
      <p:stSnd>
        <p:snd r:embed="rId1" name="camera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15f7b"/>
                </a:solidFill>
                <a:latin typeface="Tahoma"/>
              </a:rPr>
              <a:t>Question 1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79280" y="2017800"/>
            <a:ext cx="4818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 suppose  que f est dérivable en a. Compléter :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40440" y="2017800"/>
            <a:ext cx="3814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 suppose  que f est dérivable en a.   Alors, pour h voisin de zéro, on peut écrire 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 (a+h)   ≈ ………………..…….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4932360" y="2276640"/>
            <a:ext cx="0" cy="3743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539640" y="4365720"/>
                <a:ext cx="3441960" cy="79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lim>
                    </m:limLow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p:transition advTm="45000">
    <p:cover dir="r"/>
    <p:sndAc>
      <p:stSnd>
        <p:snd r:embed="rId1" name="camera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15f7b"/>
                </a:solidFill>
                <a:latin typeface="Tahoma"/>
              </a:rPr>
              <a:t>Question 2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11280" y="2017800"/>
            <a:ext cx="4386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Ecrire la formule donnant la dérivée de la fonction v</a:t>
            </a:r>
            <a:r>
              <a:rPr b="0" lang="fr-FR" sz="1600" spc="-1" strike="noStrike">
                <a:solidFill>
                  <a:srgbClr val="000000"/>
                </a:solidFill>
                <a:latin typeface="Tahoma"/>
              </a:rPr>
              <a:t>o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u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140440" y="2017800"/>
            <a:ext cx="3814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er f ’(x) lorsqu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(x) =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5003640" y="1844640"/>
            <a:ext cx="7920" cy="4329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588000" y="3500280"/>
                <a:ext cx="9907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p:transition advTm="45000">
    <p:cover dir="r"/>
    <p:sndAc>
      <p:stSnd>
        <p:snd r:embed="rId1" name="camera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15f7b"/>
                </a:solidFill>
                <a:latin typeface="Tahoma"/>
              </a:rPr>
              <a:t>Question 3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50560" y="2017800"/>
            <a:ext cx="4746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 suppose  que f est dérivable en a.   Alors, pour h voisin de zéro, on peut écrire 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 (a+h)   ≈ ………………..…….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976640" y="1989000"/>
            <a:ext cx="4167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 suppose  que f est dérivable en a.   Donner l’équation de la tangente  à la courbe représentative de f au point d’abscisse 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"/>
          <p:cNvSpPr/>
          <p:nvPr/>
        </p:nvSpPr>
        <p:spPr>
          <a:xfrm>
            <a:off x="4716360" y="1844640"/>
            <a:ext cx="7920" cy="4329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5000">
    <p:cover dir="r"/>
    <p:sndAc>
      <p:stSnd>
        <p:snd r:embed="rId1" name="camera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15f7b"/>
                </a:solidFill>
                <a:latin typeface="Tahoma"/>
              </a:rPr>
              <a:t>Question 4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4000" y="2017800"/>
            <a:ext cx="4313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 suppose  que f est dérivable en a.   Alors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 ’(a) a une signification graphique par rapport au graphe de f 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 ’(a) est …………………………………………………………………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003280" y="198900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 suppose  que f est dérivable en a. Compléter :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4932360" y="1773360"/>
            <a:ext cx="7920" cy="4329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5364000" y="3716280"/>
                <a:ext cx="3441960" cy="80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lim>
                    </m:limLow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p:transition advTm="45000">
    <p:cover dir="r"/>
    <p:sndAc>
      <p:stSnd>
        <p:snd r:embed="rId1" name="camera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15f7b"/>
                </a:solidFill>
                <a:latin typeface="Tahoma"/>
              </a:rPr>
              <a:t>Question 5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er f ’(x) lorsqu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(x) =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140440" y="2017800"/>
            <a:ext cx="3814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er f ’(x) lorsque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f(x) =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"/>
          <p:cNvSpPr/>
          <p:nvPr/>
        </p:nvSpPr>
        <p:spPr>
          <a:xfrm>
            <a:off x="4932360" y="1916280"/>
            <a:ext cx="7920" cy="4329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2484360" y="3500280"/>
                <a:ext cx="9907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6588000" y="3500280"/>
                <a:ext cx="863640" cy="81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 advTm="45000">
    <p:cover dir="r"/>
    <p:sndAc>
      <p:stSnd>
        <p:snd r:embed="rId1" name="camera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15f7b"/>
                </a:solidFill>
                <a:latin typeface="Tahoma"/>
              </a:rPr>
              <a:t>Question 6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crire la formule permettant de calculer la dérivée de   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140440" y="2017800"/>
            <a:ext cx="3814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er f ’(x) lorsque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(x) =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4788000" y="1916280"/>
            <a:ext cx="7920" cy="4329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6659640" y="3500280"/>
                <a:ext cx="1117440" cy="4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an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2627280" y="3429000"/>
                <a:ext cx="31752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u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p:transition advTm="45000">
    <p:cover dir="r"/>
    <p:sndAc>
      <p:stSnd>
        <p:snd r:embed="rId1" name="camera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15f7b"/>
                </a:solidFill>
                <a:latin typeface="Tahoma"/>
              </a:rPr>
              <a:t>Question 7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er f ’(x) lorsque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(x) =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140440" y="2017800"/>
            <a:ext cx="3814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crire la formule permettant de calculer la dérivée de   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"/>
          <p:cNvSpPr/>
          <p:nvPr/>
        </p:nvSpPr>
        <p:spPr>
          <a:xfrm>
            <a:off x="4932360" y="1989000"/>
            <a:ext cx="7920" cy="4329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2411280" y="3500280"/>
                <a:ext cx="1117800" cy="4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an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6732720" y="3429000"/>
                <a:ext cx="31752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u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p:transition advTm="45000">
    <p:cover dir="r"/>
    <p:sndAc>
      <p:stSnd>
        <p:snd r:embed="rId1" name="camera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15f7b"/>
                </a:solidFill>
                <a:latin typeface="Tahoma"/>
              </a:rPr>
              <a:t>Question 8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suppose  que f est dérivable en a.   Donner l’équation de la tangente  à la courbe représentative de f au point d’abscisse 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140440" y="2017800"/>
            <a:ext cx="3814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suppose  que f est dérivable en a.   Alors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 ’(a) a une signification graphique par rapport au graphe de f 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 ’(a) est ………………………………………………………………….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"/>
          <p:cNvSpPr/>
          <p:nvPr/>
        </p:nvSpPr>
        <p:spPr>
          <a:xfrm>
            <a:off x="4932360" y="1989000"/>
            <a:ext cx="7920" cy="4329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5000">
    <p:cover dir="r"/>
    <p:sndAc>
      <p:stSnd>
        <p:snd r:embed="rId1" name="camera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22:53:26Z</dcterms:created>
  <dc:creator>CLEMENT ODILE</dc:creator>
  <dc:description/>
  <dc:language>en-US</dc:language>
  <cp:lastModifiedBy>CLEMENT ODILE</cp:lastModifiedBy>
  <dcterms:modified xsi:type="dcterms:W3CDTF">2008-07-08T04:02:46Z</dcterms:modified>
  <cp:revision>17</cp:revision>
  <dc:subject/>
  <dc:title>CR2</dc:title>
</cp:coreProperties>
</file>