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363-239D-454B-8CB3-C621C782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B12-89BB-4310-9D8F-5A6E97F4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7D4-A62C-477C-A17A-BF5686CD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D85-25EB-4105-B810-272B22FB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96C5-A058-4AE0-8B4B-3841858F3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C614-A68F-4E36-B3CF-54992472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13F8-71C0-4C43-8C12-894D252C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82AD-71FA-4165-A3F5-92D26A0A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5FC6-33D3-49A4-BCBB-02F47A00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4DA3-366F-4049-BBA1-E82703F9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8232-04E6-47B4-997C-6377D058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123-DA56-483E-B14D-9AC82039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5F73-E1A9-44EE-A508-C3B75138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1B6D-DA67-4029-9367-3980B379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E3A2-B417-4346-9978-D4B1F653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B58F-7FDF-4F95-B01F-57698971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8FD2-EEF0-4B47-B730-08AEF40E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D2E-9A75-495E-AD2D-7F2DE586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968B-073F-42A2-8949-2D7CD7D8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A5D-0A72-43D6-A7D2-0C1E5787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87B-A618-4AFB-BFEE-DC9DD921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436-BA5F-4128-B2C6-758D8CD3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8B9-7C99-42F6-A4E0-5779D5BE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8CD-35DA-435A-82C4-60AD5947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AA17-768E-43DC-B267-3641442C08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1F17-11FC-48FA-A996-A8633F6CD408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bilités 1. Automath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8270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quez sur votre feuille votre nom e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oi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uc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vant votre place à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us disposerez de 50 secondes par ques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y a neuf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rème : 2 points gratuits et deux points par questions exactes. Il n’est pas tenu compte de la rédaction, seule la réponse m’importe mais des calculs intermédiaires sont parfois nécessa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9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084720" y="5805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7164360" y="537372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34000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3059280" y="44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9640" y="321264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386064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08000" y="263700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314172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050920" y="3933360"/>
            <a:ext cx="9367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292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9236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53880" y="3645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10960" y="24210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82240" y="306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8224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184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0920" y="2492280"/>
            <a:ext cx="6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6400" y="2852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31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5160" y="522936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éterminer P(A      B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00360" y="530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63640" y="40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 (question 1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0,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400536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87640" y="4581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544500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2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deux événements A et B indépendants et p(A  B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76360" y="3933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30072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 (question 3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381636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0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19280" y="3645000"/>
            <a:ext cx="8618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422100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71640" y="3213000"/>
            <a:ext cx="1152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3716280"/>
            <a:ext cx="1152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843280" y="443700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43280" y="4797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48436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67280" y="5084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90240" y="2924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4360" y="458136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342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386064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386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4221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4036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268360" y="2421000"/>
                <a:ext cx="7621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826920" y="299736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572000" y="2205000"/>
            <a:ext cx="432108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 totales permettant de calculer p(B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19640" y="3860280"/>
            <a:ext cx="8622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450864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5157720"/>
            <a:ext cx="934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372360" y="472428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516720" y="328428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378936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3500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4869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49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224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072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90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46240" y="5516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4720" y="551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200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4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e urne contient 8 boules rouges et deux boules ve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ire au hasard une boule de l’urne puis une autre sans avoir remis la premiè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: « la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è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oule tirée est verte 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: « la deuxième boule tirée est rouge »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éterminer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  P(A   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4500720" y="227664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059280" y="537372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76360" y="573408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6801120" y="2781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11680" y="2349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5120" y="40053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06560" y="24210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9480" y="42926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651640" y="306828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371628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093080" y="2565000"/>
            <a:ext cx="115092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4360" y="2924280"/>
            <a:ext cx="115092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380360" y="378900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08720" y="414972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524720" y="5300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7885080" y="5084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1680" y="2997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2960" y="3573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11680" y="4292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836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7120" y="39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9308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5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ner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=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 B) =0,7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alculer : P(A   B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300720" y="4292640"/>
                <a:ext cx="2667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8101080" y="494172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6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quelles conditions les événements A et B sont-ils indépendants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donnera deux défin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2060640"/>
            <a:ext cx="367380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probabilité de A sachant que l’événement B est réalisé vaut : 0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P(B) = 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) =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P(A  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01280" y="415116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43280" y="479736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7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) = 0,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B) = 0,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(A  B) = 0,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es événements A et B sont-ils indépendants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59280" y="198900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donne deux événements A et B indépend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 p(A   B) = 0,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A)= 0,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éterminer P(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372360" y="3357720"/>
                <a:ext cx="3175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92360" y="4076640"/>
                <a:ext cx="2667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Proba(question 8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788000" y="2349360"/>
            <a:ext cx="435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éter l’arbre sachant qu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A ) = 0,4                = 0,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,7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0072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93080" y="2852640"/>
                <a:ext cx="7617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003640" y="3573360"/>
                <a:ext cx="7621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 flipV="1">
            <a:off x="5219640" y="458136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22100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588000" y="4149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4437000"/>
            <a:ext cx="1079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659640" y="515772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59640" y="558972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24760" y="5229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67640" y="3860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4760" y="4149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2240" y="4941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62240" y="558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35320" y="4508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1200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74072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206064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nner la formule des probabi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es permettant de calculer 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55640" y="3645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19640" y="508464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60760" y="3357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3204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59280" y="3068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87640" y="357336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3640" y="407664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3640" y="4653000"/>
            <a:ext cx="3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050920" y="3357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195640" y="4365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4653000"/>
            <a:ext cx="936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3645000"/>
            <a:ext cx="936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59280" y="35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3:50:51Z</dcterms:created>
  <dc:creator>CLEMENT ODILE</dc:creator>
  <dc:description/>
  <dc:language>en-US</dc:language>
  <cp:lastModifiedBy>CLEMENT ODILE</cp:lastModifiedBy>
  <dcterms:modified xsi:type="dcterms:W3CDTF">2008-07-08T04:03:37Z</dcterms:modified>
  <cp:revision>28</cp:revision>
  <dc:subject/>
  <dc:title>Calcul mental 1</dc:title>
</cp:coreProperties>
</file>