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6A2-0832-4C25-992F-C9BB6187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077-16C5-4E5F-8633-3FB67AEA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EE1-8A46-4033-9597-513610AB7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AB8-5315-4FFB-8D06-D4FBF4B6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DE4B-DB39-4A20-BF75-F9902322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5317-2662-4653-B404-45763CC0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AE64-4E85-41D8-A05C-9981E12B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247C-52C2-48DB-94A6-B11D6258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C852-4A90-48F1-9C17-4F083768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33CF-7261-4F25-AB1F-1B37F8CF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7F91-8E2F-409D-A23F-2F3EC2C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EA8-9D50-4ECC-85DE-8E90EB1E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707A-A949-4799-B3FB-A18D86CA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8008-BE55-4E57-9C35-D29FEA78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4D9F-0511-484E-9CF6-BDF6AD6D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EE4F-3ECB-4DD8-936C-EB316A8B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492C-FA4F-4A6B-80F0-3EC261D5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E2E-F5AD-4B98-9FE3-0F17AE48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04BA-657B-4C63-9749-13686A35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3C6-00D7-4219-8647-10F68A30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FAF-A27B-4288-8036-FE1669A3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268-07E2-4AC3-BF39-449D59D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CA1C-2FB4-4D0A-A2FD-64603320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387-AFB9-4838-9459-613CBB48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2B78-D9F0-4938-B11C-C7045F922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6F25-86AB-436D-853A-A31EC75ABDC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3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r 10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 point gratuit, 1 point par réponse exacte, pas de point enlevé par réponse fauss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40000" y="342900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4818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39640" y="4365720"/>
                <a:ext cx="34419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2017800"/>
            <a:ext cx="43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Ecrire la formule donnant la dérivée de la fonction v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58800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2017800"/>
            <a:ext cx="474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 pour h voisin de zéro, on peut écrire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(a+h)   ≈ ………………..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6640" y="1989000"/>
            <a:ext cx="416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17800"/>
            <a:ext cx="4313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03280" y="1989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suppose  que f est dérivable en a. Compléter :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64000" y="3716280"/>
                <a:ext cx="34419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484360" y="3500280"/>
                <a:ext cx="99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588000" y="3500280"/>
                <a:ext cx="863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659640" y="3500280"/>
                <a:ext cx="11174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62728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er f ’(x) lorsqu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crire la formule permettant de calculer la dérivée de  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3500280"/>
                <a:ext cx="11178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732720" y="3429000"/>
                <a:ext cx="317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Donner l’équation de la tangente  à la courbe représentative de f au point d’abscisse 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suppose  que f est dérivable en a.   Alor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a une signification graphique par rapport au graphe de f 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’(a) est …………………………………………………………………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46Z</dcterms:modified>
  <cp:revision>17</cp:revision>
  <dc:subject/>
  <dc:title>CR2</dc:title>
</cp:coreProperties>
</file>