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B2FE-AEDA-447D-93B7-DC92690A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21B-1E82-488D-BDCE-086C63E7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09E-EF21-4A6B-85F5-C9F6E506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927-58FF-4907-85EC-43D6AC8F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5E56-BBD8-4204-8A6D-345BFDFC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6E22-48A1-40FB-A212-D585851D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87DC-5526-4A9A-B799-DE6320AB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3283-7FDE-4832-9071-66DA41FD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54ED-2F02-4695-A2F3-5A09B151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9260-70BD-4F5E-9304-ADAB0376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B411-F3BB-420A-850C-FABB6E17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58AE-B919-4711-8A53-57658875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FE56-D4D3-4C76-8998-3477A3F3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4AC3-B54A-4649-AB04-78A3A2AC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CE8F-BF32-4748-8F1C-FD9DF86C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9BC3-8143-4E50-8AC9-F782AFC8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60A6-1158-4C72-A32A-A828D9D8D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4612-D6D4-4197-8C9F-F40C3A32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4993-2316-4412-B665-1B375C70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6E3C-0A1C-4027-AA81-0955DC46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8D5F-59E7-413F-8436-E14A465D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82F-9659-4BD0-A424-3D757D03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2AFC-4183-43D0-A7FA-4F6F1AF6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DA87-BF2E-40E2-84B7-324E58A9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CB84-CDC7-49B8-B902-A7AA10060E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3534-BC09-4A63-848A-CFED0D820E19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IE4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560" y="1483920"/>
            <a:ext cx="7634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r 10 poi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r la copie, précisez  droite ou gauche suivant votre position dans la 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z de  45 secondes  par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l y a  9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rème : 1 point gratuit, 1 point par réponse exacte, pas de point enlevé par réponse fauss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levez le numéro de la question et donner la répo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étez les égalités suivantes et précisez sur quels ensembles elles sont réalisée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28472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403280" y="2997360"/>
                <a:ext cx="165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651640" y="4508640"/>
                <a:ext cx="25398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724360" y="5516640"/>
                <a:ext cx="2159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4818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 (x) = ln(x²+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 (x) = x + 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227664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2017800"/>
            <a:ext cx="43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(x) = x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58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’approximation affine de ln en 1, c’est-à-dire compléte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076720" y="4724280"/>
                <a:ext cx="3492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60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74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’approximation affine de ln en 1 ,c’est-à-dire compléte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6640" y="1989000"/>
            <a:ext cx="35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(x) = x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11280" y="3645000"/>
                <a:ext cx="34923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 (x) = x + 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 (x) = ln(x²+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tout a&gt;0 et b&gt;0 , écrire en fonction de ln(a) et ln (b)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835280" y="4149720"/>
                <a:ext cx="175248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012000" y="3068640"/>
                <a:ext cx="165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onnera le résultat en fonction de ln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58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tout a&gt;0 et tout b&gt;0 , écrire en fonction de ln(a) et ln(b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332000" y="2852640"/>
                <a:ext cx="13078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435640" y="4221000"/>
                <a:ext cx="2743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étez les égalités suivantes et précisez sur quels ensembles elles sont réalisée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58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tout a&gt;0 et b&gt;0 , écrire en fonction de ln(a) et ln (b)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2060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81200" y="3876840"/>
                <a:ext cx="25398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755640" y="4941720"/>
                <a:ext cx="2158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796000" y="4076640"/>
                <a:ext cx="17524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tout a&gt;0 et tout b&gt;0 , écrire en fonction de ln(a) et ln(b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7640" y="2017800"/>
            <a:ext cx="416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onnera le résultat en fonction de ln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84360" y="3933720"/>
                <a:ext cx="2743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588000" y="2708280"/>
                <a:ext cx="1308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7-08T04:05:05Z</dcterms:modified>
  <cp:revision>25</cp:revision>
  <dc:subject/>
  <dc:title>CR2</dc:title>
</cp:coreProperties>
</file>