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37C8-F3F3-4CB5-92CB-6AC39D00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156-CD4E-442B-911E-CC692246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8E6-0920-4647-9366-81F202A5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F97-FCDE-4CAC-BEAA-59605741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3ADB-1010-4006-9A70-AF64B193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FAB1-97AC-4CB9-8A01-FCCA10C0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8814-E753-423B-BB4E-AD9F9CF7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1708-7FD8-45C5-B83C-3B467CC6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2475-85A6-41EC-9E06-31EF88AE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54EA-29CB-483B-B5A6-367181D3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E1C7-FCA4-458C-AD3F-29551367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E09-7723-4777-8C74-2AAFC6F0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D903-AA89-478E-B8AF-34AE49DD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70A9-AEA7-455B-ABC9-00720490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D1BB-D2A8-4E6E-AB2E-591C95F0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6561-41AB-4D37-9C31-DEE4BE01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79A7-92E0-4918-BCB0-F2C0A7BC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2EB8-CE34-4321-8CEC-34B0490F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651-2AD3-4BD0-9EEA-BEFF06BC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7D94-EFDD-4A99-9953-B7E6269A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F0F-3884-4823-B3B2-DE180636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4D41-06BE-4D94-8EE7-9005961C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82C-D8D7-4823-B636-4F2DCFA1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665-CC32-47DC-B10E-54444BC3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3413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2225-0497-4FC4-88DD-B6942C8F03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E47A-0A38-44F2-BAEF-C74D9349362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515f7b"/>
                </a:solidFill>
                <a:latin typeface="Tahoma"/>
              </a:rPr>
              <a:t>IE2  term .S</a:t>
            </a:r>
            <a:br>
              <a:rPr sz="4000"/>
            </a:b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345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mière partie sur 15 poi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z de  45 secondes  par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l y a  9 question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rème : 1,5 point gratuit, 1,5 point par réponse exacte, 0,5 point enlevé par réponse fausse , 0 point pour non réponse. Relevez le numéro de la question et donner la répo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uxième partie sur 5 points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ous disposerez alors de  5 min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2017800"/>
            <a:ext cx="445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259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Le final sur 5 points et en 5  minute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s nombres complexes z et z’ sont donnés sous forme trigonométri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onner alors la forme trigonométrique du produit zz’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émontrer cette form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932360" y="227664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-ce que la forme algébrique d’un complexe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162864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5f7b"/>
                </a:solidFill>
                <a:latin typeface="Tahoma"/>
              </a:rPr>
              <a:t>Question 3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elles sont les formules permettant de passer de la forme algébrique à la forme trigonométriqu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onner une interprétation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ahoma"/>
              </a:rPr>
              <a:t>géométrique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 du module d’un complex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?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57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crire 1/z  en fonction du module de z et de son conjugué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réel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88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Compléter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Z est un imaginaire pur non nul si et seulement si :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Tahoma"/>
              </a:rPr>
              <a:t>Arg(Z)=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Qu’est ce que la forme trigonométrique d’un complexe non nul ?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armi ces  4 nombres , quels sont les complexes qui ont même module qu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2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e conjugué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opposé de z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l’inverse de z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 le module de z est r et qu’un argument de z est a , préciser alors le module et un argument  du complexe z²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1989000"/>
            <a:ext cx="7920" cy="432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cover dir="r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7-08T04:02:21Z</dcterms:modified>
  <cp:revision>14</cp:revision>
  <dc:subject/>
  <dc:title>CR2</dc:title>
</cp:coreProperties>
</file>