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41D8-BBE4-4A2D-A4F4-5A8639CE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167B-AA98-4499-803B-E3747180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6824-AF31-45F4-B955-8AD009EB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F010-4CE4-4B31-8EA5-947F4475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4714-FBB4-4008-B2CE-6BF36E0A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64FE-7615-40D6-833D-CE167D00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CDC0-BA55-42B6-89FB-D6C04552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D99E-32FD-4061-BB80-4BC2495C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D38F-2F8A-407B-A248-7C64A82D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F027-50EB-4BA2-9A6A-3ADD02E6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FF73-7249-4B39-AF98-EBDBD549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BA3A-AEB5-4039-A74E-34F9CB23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6C0A-85F0-4371-BAE1-FD03E516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9067-55D7-456C-A88C-12BD82FC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FB23-A4A6-4AFE-9D05-43CA19DD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EF10-F068-4D8C-AED0-069A2369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3CF1-B2C8-45AB-96F4-77507392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89E5-6CB8-4F97-8B4E-54AF0C1C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DEC4-3BC2-45F0-B17E-65E7342B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1A02-12FE-4812-9046-0B9B735A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6424-0572-4000-95F5-160D4BBE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A2A6-83A9-4CA3-BC62-1830D834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6514-EE4B-4639-BB64-3562CB8A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2A1A-66A5-4D56-8F12-DCD42BBC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1C5A-B286-445F-91C5-E49C3DAB6F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836640"/>
            <a:ext cx="9009000" cy="1052640"/>
            <a:chOff x="0" y="836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944640"/>
              <a:ext cx="711360" cy="474840"/>
              <a:chOff x="290520" y="944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94464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944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366920"/>
              <a:ext cx="737640" cy="474840"/>
              <a:chOff x="414360" y="1366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36692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366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293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83664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658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B714-D030-43E5-983D-56375D599F9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5f7b"/>
                </a:solidFill>
                <a:latin typeface="Tahoma"/>
              </a:rPr>
              <a:t>AM5  term .S</a:t>
            </a:r>
            <a:br>
              <a:rPr sz="4000"/>
            </a:b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6560" y="1483920"/>
            <a:ext cx="7634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r 10 poi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r la copie, précisez  droite ou gauche suivant votre position dans la t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ous disposez de  40 secondes  par ques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l y a  10 ques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rème : 1 point par réponse exacte, pas de point enlevé par réponse fauss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levez le numéro de la question et donner la répon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es solutions de l’équation différentiell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y+y’=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terminer les limites de la fon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(x) = ln(x)/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0 et en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0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ombien y a-t’il de fonctions f  solutions de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y’+4y=5 et f(0)=1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éterminer le signe de ln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442764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45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es solutions de l’équation différentiell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’ = ay +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227664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1989000"/>
            <a:ext cx="4105080" cy="41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terminer le signe de ln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201780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’(x) lorsqu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5892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g’(x) lorsque 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 (x) = x² +  ln(x²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84360" y="3789360"/>
                <a:ext cx="283212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439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es solutions de l’équation différentiell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’ = ay +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76640" y="1989000"/>
            <a:ext cx="35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es solutions de l’équation différentiell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y+y’=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g’(x) lorsque 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 (x) = x² +  ln(x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0328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’(x) lors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1773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580000" y="3213000"/>
                <a:ext cx="283212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es limites en +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et en 0 d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F(x) = xln(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796000" y="2781360"/>
                <a:ext cx="1638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58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166760" y="2852640"/>
                <a:ext cx="1638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64000" y="2852640"/>
                <a:ext cx="2286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58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es limites en +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et en 0 d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F(x) = xln(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2060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43120" y="2833560"/>
                <a:ext cx="2286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40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terminer les limites de la fon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(x) = ln(x)/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0 et en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ombien y a-t’il de fonctions f  solutions de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y’+4y=5 et f(0)=1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7-08T04:07:43Z</dcterms:modified>
  <cp:revision>38</cp:revision>
  <dc:subject/>
  <dc:title>CR2</dc:title>
</cp:coreProperties>
</file>