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9F9-AA3F-4803-9F08-0F937CD5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813-3A2C-49C3-80ED-AF246778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1C05-693A-4BBD-B337-C6A62680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71A-F8B2-4D33-BEE2-466E5A36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6686-A99B-4A79-8700-CDB2E53F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80CD-1233-4E0E-80D4-D2012C45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20BE-0340-4E06-B2BE-37D524A1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3C50-1F31-4FA9-AC08-B79C2A88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1732-EF72-4A6E-8A57-A43DF6F0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48F8-E7AA-46A7-A929-10024BBC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F0F6-CBFC-4DE4-8A0A-270AB257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129E-3A5D-41B3-B228-6B455889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E0B7-158B-42A4-B0CB-E9C5CF0F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27C8-459A-4D23-BA9A-3598D700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11F1-5A24-408B-B19A-16DCC576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F2AE-181B-4EEC-9262-6BD4FB91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F1BA-ABF9-478D-B8C5-53AE809C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36E-CDB1-41AA-8E62-94119CF9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86EB-BCBC-48DC-851E-411885C3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7E34-A854-4A30-AAC7-AE10D4E6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8D3-8702-45CD-9A02-15D1F4B3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6B4A-3DB3-47CD-BA08-E3EE2F8D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36FD-708D-44A9-905E-16250529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488-C787-480A-BD53-37E03581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0520" y="666720"/>
            <a:ext cx="438120" cy="474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4080" y="1089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15920"/>
            <a:ext cx="56052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16080" y="13413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A415-8119-4FBB-8E8C-85C38DF49D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35000" y="404640"/>
            <a:ext cx="9009000" cy="1052640"/>
            <a:chOff x="135000" y="404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425520" y="512640"/>
              <a:ext cx="711360" cy="474840"/>
              <a:chOff x="425520" y="512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425520" y="51264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08560" y="512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49360" y="934920"/>
              <a:ext cx="737640" cy="474840"/>
              <a:chOff x="549360" y="934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549360" y="93492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18000" y="934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35000" y="861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0040" y="40464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51080" y="1226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52CE-193B-48CA-95CB-78D6AA179B5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AM6 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360" y="1268280"/>
            <a:ext cx="76341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Sur la copie, précisez  droite ou gauche suivant votre position dans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Vous disposez de  40 secondes  par quest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Il y a  10 ques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On notera z</a:t>
            </a:r>
            <a:r>
              <a:rPr b="0" i="1" lang="fr-FR" sz="1600" spc="-1" strike="noStrike">
                <a:solidFill>
                  <a:srgbClr val="000000"/>
                </a:solidFill>
                <a:latin typeface="Rockwell Extra Bold"/>
              </a:rPr>
              <a:t>A</a:t>
            </a:r>
            <a:r>
              <a:rPr b="0" i="1" lang="fr-FR" sz="3200" spc="-1" strike="noStrike">
                <a:solidFill>
                  <a:srgbClr val="000000"/>
                </a:solidFill>
                <a:latin typeface="Rockwell Extra Bold"/>
              </a:rPr>
              <a:t> 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l’affixe de A , z</a:t>
            </a:r>
            <a:r>
              <a:rPr b="0" i="1" lang="fr-FR" sz="1600" spc="-1" strike="noStrike">
                <a:solidFill>
                  <a:srgbClr val="000000"/>
                </a:solidFill>
                <a:latin typeface="Rockwell Extra Bold"/>
              </a:rPr>
              <a:t>B</a:t>
            </a: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fr-FR" sz="3200" spc="-1" strike="noStrike">
                <a:solidFill>
                  <a:srgbClr val="000000"/>
                </a:solidFill>
                <a:latin typeface="Tahoma"/>
              </a:rPr>
              <a:t>l’affixe de B , …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= 4+3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’affixe z du point M vérifi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 pouvez vous en déduire pour les points A(2i) , B(-2) et M(z)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4500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435640" y="2852640"/>
                <a:ext cx="24001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3810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’affixe z du point M vérifi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pouvez vous en déduire pour les points A(2i) , B(-2) et M(z)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87640" y="1916280"/>
            <a:ext cx="3881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orsqu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&lt;0 , écrire les solutions de l’équatio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z²+bz+c = 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 où l’inconnue z est un complexe , a ,b, c réels et a non nu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1916280"/>
            <a:ext cx="0" cy="43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87280" y="2781360"/>
                <a:ext cx="24004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43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M(z) et A(2+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er AM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32000" y="198900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en fonction des affixes de A et B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l’affixe du vecteur 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 l’affixe du milieu de [AB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213372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386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utilisant les affix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 points M,N,P Comment calculer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MN , MP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42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422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2133720"/>
            <a:ext cx="35640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M(z) et A(2+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r A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en fonction des affixes des points A et B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) l’affixe du vecteur A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) l’affixe du milieu de [AB]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35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plan complexe est rapporté au repère (O,u,v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mment calcul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u , AB ) en utilisant les affixes de A et 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3068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6764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92720" y="479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plan complexe est rapporté au repère (O,u,v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mment calcul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u , AB ) en utilisant les affixes de A et 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utilisant les affix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 points M,N,P Comment calcul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MN , MP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42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414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414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3814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orsque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&lt;0 , écrire les solutions de l’équatio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z²+bz+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( où l’inconnue z est un complexe , a ,b, c réels et a non nu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suppose qu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P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A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peut-on dire du complex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867280" y="4365720"/>
                <a:ext cx="167652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suppose qu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P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A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 peut-on dire du complexe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1640" y="177336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= 4+3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4365720"/>
                <a:ext cx="16761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+3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+3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+3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87640" y="2017800"/>
            <a:ext cx="416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l est l’ensemble des points M d’affixe z vérifia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-2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+3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e droit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cercle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 point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6-30T07:36:08Z</dcterms:modified>
  <cp:revision>39</cp:revision>
  <dc:subject/>
  <dc:title>CR2</dc:title>
</cp:coreProperties>
</file>