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pplause.wav" ContentType="audio/x-wav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D0F5-F76E-49EF-8C8A-72FC7C8AC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0047-97AB-4919-8050-E7209D6B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FF28-0FF0-4C24-81E2-8DC952A8E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B3F5-13B1-430E-AAA5-8E2A9B4C7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42920" y="259920"/>
            <a:ext cx="7772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088C-5959-469D-A732-DB8C8E25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2840-31EE-4D8E-ADEE-6B4E71B9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2EA0-4643-448C-B7E0-EEA28B87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1742-9039-45EB-B5FE-B2670B54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42920" y="259920"/>
            <a:ext cx="7772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E6EC-E297-41D3-B6BB-BD2718948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478B-165F-46F3-AEED-60596A6B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0127-053C-4B88-9261-F4F41B62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9741-FBCF-4615-8B1B-BBBCB7E9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8765-4F0F-40DB-B04A-34B4C2907B03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620640"/>
            <a:ext cx="9009000" cy="1052640"/>
            <a:chOff x="0" y="62064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728640"/>
              <a:ext cx="711360" cy="474840"/>
              <a:chOff x="290520" y="72864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72864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72864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1150920"/>
              <a:ext cx="737640" cy="474840"/>
              <a:chOff x="414360" y="115092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115092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115092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107784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62064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144288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1700280"/>
            <a:ext cx="0" cy="46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M 8 primitives et intégra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éparez une feuille de répon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tez votre nom et en dessous DROITE ou GAUCHE suivant votre position à la ta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 y a  10 questions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us aurez   30   secondes par ques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  <p:sndAc>
      <p:stSnd>
        <p:snd r:embed="rId1" name="applaus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056200" y="2147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962240" y="1660680"/>
            <a:ext cx="3929760" cy="3797280"/>
            <a:chOff x="4962240" y="1660680"/>
            <a:chExt cx="3929760" cy="3797280"/>
          </a:xfrm>
        </p:grpSpPr>
        <p:pic>
          <p:nvPicPr>
            <p:cNvPr id="194" name="" descr=""/>
            <p:cNvPicPr/>
            <p:nvPr/>
          </p:nvPicPr>
          <p:blipFill>
            <a:blip r:embed="rId1"/>
            <a:stretch/>
          </p:blipFill>
          <p:spPr>
            <a:xfrm>
              <a:off x="5076720" y="3429000"/>
              <a:ext cx="2781360" cy="20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4962240" y="1660680"/>
              <a:ext cx="39297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La fonction tracé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est la fonction inver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lculer l’ai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sous la courbe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95280" y="2276640"/>
            <a:ext cx="4176720" cy="3506040"/>
            <a:chOff x="395280" y="2276640"/>
            <a:chExt cx="4176720" cy="3506040"/>
          </a:xfrm>
        </p:grpSpPr>
        <p:sp>
          <p:nvSpPr>
            <p:cNvPr id="197" name=""/>
            <p:cNvSpPr/>
            <p:nvPr/>
          </p:nvSpPr>
          <p:spPr>
            <a:xfrm>
              <a:off x="395280" y="2276640"/>
              <a:ext cx="417672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F est la primitive de f(x)=sin²(x) s’annulant en 2 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Exprimer F(x) ( sans la calculer ) sous la forme d’une intégra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1702080" y="4583160"/>
                  <a:ext cx="279360" cy="63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</p:spTree>
  </p:cSld>
  <p:transition advTm="45000">
    <p:zoom dir="out"/>
    <p:sndAc>
      <p:stSnd>
        <p:snd r:embed="rId2" name="applaus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716360" y="2205000"/>
            <a:ext cx="4176720" cy="3506040"/>
            <a:chOff x="4716360" y="2205000"/>
            <a:chExt cx="4176720" cy="3506040"/>
          </a:xfrm>
        </p:grpSpPr>
        <p:sp>
          <p:nvSpPr>
            <p:cNvPr id="203" name=""/>
            <p:cNvSpPr/>
            <p:nvPr/>
          </p:nvSpPr>
          <p:spPr>
            <a:xfrm>
              <a:off x="4716360" y="2205000"/>
              <a:ext cx="417672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F est la primitive de f(x)=sin²(x) s’annulant en 2 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Exprimer F(x) ( sans la calculer ) sous la forme d’une intégra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6023160" y="4511880"/>
                  <a:ext cx="279360" cy="63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205" name=""/>
          <p:cNvGrpSpPr/>
          <p:nvPr/>
        </p:nvGrpSpPr>
        <p:grpSpPr>
          <a:xfrm>
            <a:off x="374400" y="1989000"/>
            <a:ext cx="3929760" cy="3797280"/>
            <a:chOff x="374400" y="1989000"/>
            <a:chExt cx="3929760" cy="3797280"/>
          </a:xfrm>
        </p:grpSpPr>
        <p:pic>
          <p:nvPicPr>
            <p:cNvPr id="206" name="" descr=""/>
            <p:cNvPicPr/>
            <p:nvPr/>
          </p:nvPicPr>
          <p:blipFill>
            <a:blip r:embed="rId1"/>
            <a:stretch/>
          </p:blipFill>
          <p:spPr>
            <a:xfrm>
              <a:off x="488880" y="3757320"/>
              <a:ext cx="2781360" cy="20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374400" y="1989000"/>
              <a:ext cx="39297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La fonction tracé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est la fonction inver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lculer l’ai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sous la courbe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45000">
    <p:zoom dir="out"/>
    <p:sndAc>
      <p:stSnd>
        <p:snd r:embed="rId2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47920" y="1827360"/>
            <a:ext cx="3038040" cy="2854080"/>
            <a:chOff x="547920" y="1827360"/>
            <a:chExt cx="3038040" cy="2854080"/>
          </a:xfrm>
        </p:grpSpPr>
        <p:sp>
          <p:nvSpPr>
            <p:cNvPr id="105" name=""/>
            <p:cNvSpPr/>
            <p:nvPr/>
          </p:nvSpPr>
          <p:spPr>
            <a:xfrm>
              <a:off x="547920" y="1827360"/>
              <a:ext cx="3038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éterminer l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primitives de 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685800" y="4033800"/>
                  <a:ext cx="214632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4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84360" y="5157720"/>
                <a:ext cx="3289320" cy="14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8" name=""/>
          <p:cNvGrpSpPr/>
          <p:nvPr/>
        </p:nvGrpSpPr>
        <p:grpSpPr>
          <a:xfrm>
            <a:off x="4604400" y="2060640"/>
            <a:ext cx="4356360" cy="3287520"/>
            <a:chOff x="4604400" y="2060640"/>
            <a:chExt cx="4356360" cy="3287520"/>
          </a:xfrm>
        </p:grpSpPr>
        <p:sp>
          <p:nvSpPr>
            <p:cNvPr id="109" name=""/>
            <p:cNvSpPr/>
            <p:nvPr/>
          </p:nvSpPr>
          <p:spPr>
            <a:xfrm>
              <a:off x="4604400" y="2060640"/>
              <a:ext cx="43563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i f est positiv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ur l’intervalle [a , b]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Peut-on affirmer que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4808520" y="4167000"/>
                  <a:ext cx="276840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b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≥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  <p:sndAc>
      <p:stSnd>
        <p:snd r:embed="rId1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138640" y="1916280"/>
            <a:ext cx="3477600" cy="3171600"/>
            <a:chOff x="5138640" y="1916280"/>
            <a:chExt cx="3477600" cy="3171600"/>
          </a:xfrm>
        </p:grpSpPr>
        <p:sp>
          <p:nvSpPr>
            <p:cNvPr id="117" name=""/>
            <p:cNvSpPr/>
            <p:nvPr/>
          </p:nvSpPr>
          <p:spPr>
            <a:xfrm>
              <a:off x="5390640" y="1916280"/>
              <a:ext cx="32256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éterminer u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primitive  sur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[0,5]  de 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5138640" y="3805200"/>
                  <a:ext cx="3073680" cy="12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9" name=""/>
          <p:cNvSpPr/>
          <p:nvPr/>
        </p:nvSpPr>
        <p:spPr>
          <a:xfrm>
            <a:off x="202320" y="2276640"/>
            <a:ext cx="450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ent calcule-t-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valeur moyen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f sur [a , b]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applaus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60520" y="1844640"/>
            <a:ext cx="3477600" cy="3171600"/>
            <a:chOff x="560520" y="1844640"/>
            <a:chExt cx="3477600" cy="3171600"/>
          </a:xfrm>
        </p:grpSpPr>
        <p:sp>
          <p:nvSpPr>
            <p:cNvPr id="126" name=""/>
            <p:cNvSpPr/>
            <p:nvPr/>
          </p:nvSpPr>
          <p:spPr>
            <a:xfrm>
              <a:off x="812520" y="1844640"/>
              <a:ext cx="32256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éterminer u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primitive su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[0,5]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e 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560520" y="3733560"/>
                  <a:ext cx="3073680" cy="12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8" name=""/>
          <p:cNvSpPr/>
          <p:nvPr/>
        </p:nvSpPr>
        <p:spPr>
          <a:xfrm>
            <a:off x="4450320" y="2421000"/>
            <a:ext cx="450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ent calcule-t-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valeur moyen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f sur [a , b]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applaus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104080" y="1989000"/>
            <a:ext cx="3038040" cy="2854080"/>
            <a:chOff x="5104080" y="1989000"/>
            <a:chExt cx="3038040" cy="2854080"/>
          </a:xfrm>
        </p:grpSpPr>
        <p:sp>
          <p:nvSpPr>
            <p:cNvPr id="135" name=""/>
            <p:cNvSpPr/>
            <p:nvPr/>
          </p:nvSpPr>
          <p:spPr>
            <a:xfrm>
              <a:off x="5104080" y="1989000"/>
              <a:ext cx="3038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éterminer l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primitives de 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" name=""/>
                <p:cNvSpPr txBox="1"/>
                <p:nvPr/>
              </p:nvSpPr>
              <p:spPr>
                <a:xfrm>
                  <a:off x="5241960" y="4195440"/>
                  <a:ext cx="214632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4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148360" y="5157720"/>
                <a:ext cx="3289320" cy="14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38" name=""/>
          <p:cNvGrpSpPr/>
          <p:nvPr/>
        </p:nvGrpSpPr>
        <p:grpSpPr>
          <a:xfrm>
            <a:off x="480240" y="1827360"/>
            <a:ext cx="4356360" cy="3287520"/>
            <a:chOff x="480240" y="1827360"/>
            <a:chExt cx="4356360" cy="3287520"/>
          </a:xfrm>
        </p:grpSpPr>
        <p:sp>
          <p:nvSpPr>
            <p:cNvPr id="139" name=""/>
            <p:cNvSpPr/>
            <p:nvPr/>
          </p:nvSpPr>
          <p:spPr>
            <a:xfrm>
              <a:off x="480240" y="1827360"/>
              <a:ext cx="43563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i f est positiv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ur l’intervalle [a , b]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Peut-on affirmer que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0" name=""/>
                <p:cNvSpPr txBox="1"/>
                <p:nvPr/>
              </p:nvSpPr>
              <p:spPr>
                <a:xfrm>
                  <a:off x="684360" y="3933720"/>
                  <a:ext cx="276840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b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≥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  <p:sndAc>
      <p:stSnd>
        <p:snd r:embed="rId1" name="applaus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82400" y="2205000"/>
            <a:ext cx="3786480" cy="3949920"/>
            <a:chOff x="482400" y="2205000"/>
            <a:chExt cx="3786480" cy="3949920"/>
          </a:xfrm>
        </p:grpSpPr>
        <p:sp>
          <p:nvSpPr>
            <p:cNvPr id="146" name=""/>
            <p:cNvSpPr/>
            <p:nvPr/>
          </p:nvSpPr>
          <p:spPr>
            <a:xfrm>
              <a:off x="482400" y="2205000"/>
              <a:ext cx="378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i f est de la forme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4680" y="4598640"/>
              <a:ext cx="3652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ne primitive de f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est de la forme 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1795320" y="3173400"/>
                  <a:ext cx="127008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'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p>
                        <m:e>
                          <m:r>
                            <m:t xml:space="preserve">U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9" name=""/>
          <p:cNvGrpSpPr/>
          <p:nvPr/>
        </p:nvGrpSpPr>
        <p:grpSpPr>
          <a:xfrm>
            <a:off x="4716360" y="2060640"/>
            <a:ext cx="4176720" cy="3268080"/>
            <a:chOff x="4716360" y="2060640"/>
            <a:chExt cx="4176720" cy="3268080"/>
          </a:xfrm>
        </p:grpSpPr>
        <p:sp>
          <p:nvSpPr>
            <p:cNvPr id="150" name=""/>
            <p:cNvSpPr/>
            <p:nvPr/>
          </p:nvSpPr>
          <p:spPr>
            <a:xfrm>
              <a:off x="4716360" y="2060640"/>
              <a:ext cx="417672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Comment calcule-t-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à l’aide d’u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primitive de f 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5292720" y="4128120"/>
                  <a:ext cx="1739880" cy="120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b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  <p:sndAc>
      <p:stSnd>
        <p:snd r:embed="rId1" name="applaus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82400" y="2205000"/>
            <a:ext cx="3786480" cy="3949920"/>
            <a:chOff x="482400" y="2205000"/>
            <a:chExt cx="3786480" cy="3949920"/>
          </a:xfrm>
        </p:grpSpPr>
        <p:sp>
          <p:nvSpPr>
            <p:cNvPr id="157" name=""/>
            <p:cNvSpPr/>
            <p:nvPr/>
          </p:nvSpPr>
          <p:spPr>
            <a:xfrm>
              <a:off x="482400" y="2205000"/>
              <a:ext cx="378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i f est de la forme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4680" y="4598640"/>
              <a:ext cx="3652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ne primitive de f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est de la forme 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2081160" y="2798640"/>
                  <a:ext cx="698400" cy="12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U</m:t>
                          </m:r>
                          <m:r>
                            <m:t xml:space="preserve">'</m:t>
                          </m:r>
                        </m:num>
                        <m:den>
                          <m:sSup>
                            <m:e>
                              <m:r>
                                <m:t xml:space="preserve">U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0" name=""/>
          <p:cNvGrpSpPr/>
          <p:nvPr/>
        </p:nvGrpSpPr>
        <p:grpSpPr>
          <a:xfrm>
            <a:off x="4875120" y="2205000"/>
            <a:ext cx="3786480" cy="3949920"/>
            <a:chOff x="4875120" y="2205000"/>
            <a:chExt cx="3786480" cy="3949920"/>
          </a:xfrm>
        </p:grpSpPr>
        <p:sp>
          <p:nvSpPr>
            <p:cNvPr id="161" name=""/>
            <p:cNvSpPr/>
            <p:nvPr/>
          </p:nvSpPr>
          <p:spPr>
            <a:xfrm>
              <a:off x="4875120" y="2205000"/>
              <a:ext cx="378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i f est de la forme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937400" y="4598640"/>
              <a:ext cx="3652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ne primitive de f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est de la forme 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6276960" y="3173400"/>
                  <a:ext cx="109224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'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U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  <p:sndAc>
      <p:stSnd>
        <p:snd r:embed="rId1" name="applaus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730760" y="2133720"/>
            <a:ext cx="3786480" cy="3949920"/>
            <a:chOff x="4730760" y="2133720"/>
            <a:chExt cx="3786480" cy="3949920"/>
          </a:xfrm>
        </p:grpSpPr>
        <p:sp>
          <p:nvSpPr>
            <p:cNvPr id="169" name=""/>
            <p:cNvSpPr/>
            <p:nvPr/>
          </p:nvSpPr>
          <p:spPr>
            <a:xfrm>
              <a:off x="4730760" y="2133720"/>
              <a:ext cx="378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i f est de la forme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92320" y="4527360"/>
              <a:ext cx="3652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ne primitive de f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est de la forme 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6329160" y="2727360"/>
                  <a:ext cx="698040" cy="12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U</m:t>
                          </m:r>
                          <m:r>
                            <m:t xml:space="preserve">'</m:t>
                          </m:r>
                        </m:num>
                        <m:den>
                          <m:sSup>
                            <m:e>
                              <m:r>
                                <m:t xml:space="preserve">U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2" name=""/>
          <p:cNvGrpSpPr/>
          <p:nvPr/>
        </p:nvGrpSpPr>
        <p:grpSpPr>
          <a:xfrm>
            <a:off x="482400" y="2205000"/>
            <a:ext cx="3786480" cy="3949920"/>
            <a:chOff x="482400" y="2205000"/>
            <a:chExt cx="3786480" cy="3949920"/>
          </a:xfrm>
        </p:grpSpPr>
        <p:sp>
          <p:nvSpPr>
            <p:cNvPr id="173" name=""/>
            <p:cNvSpPr/>
            <p:nvPr/>
          </p:nvSpPr>
          <p:spPr>
            <a:xfrm>
              <a:off x="482400" y="2205000"/>
              <a:ext cx="378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i f est de la forme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4680" y="4598640"/>
              <a:ext cx="3652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ne primitive de f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est de la forme 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1884240" y="3173400"/>
                  <a:ext cx="109224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'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U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  <p:sndAc>
      <p:stSnd>
        <p:snd r:embed="rId1" name="applaus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24000" y="-4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875120" y="1916280"/>
            <a:ext cx="3786480" cy="3949920"/>
            <a:chOff x="4875120" y="1916280"/>
            <a:chExt cx="3786480" cy="3949920"/>
          </a:xfrm>
        </p:grpSpPr>
        <p:sp>
          <p:nvSpPr>
            <p:cNvPr id="181" name=""/>
            <p:cNvSpPr/>
            <p:nvPr/>
          </p:nvSpPr>
          <p:spPr>
            <a:xfrm>
              <a:off x="4875120" y="1916280"/>
              <a:ext cx="378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i f est de la forme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937400" y="4309920"/>
              <a:ext cx="3652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ne primitive de f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est de la forme :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"/>
                <p:cNvSpPr txBox="1"/>
                <p:nvPr/>
              </p:nvSpPr>
              <p:spPr>
                <a:xfrm>
                  <a:off x="6188040" y="2884680"/>
                  <a:ext cx="127008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'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p>
                        <m:e>
                          <m:r>
                            <m:t xml:space="preserve">U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4" name=""/>
          <p:cNvGrpSpPr/>
          <p:nvPr/>
        </p:nvGrpSpPr>
        <p:grpSpPr>
          <a:xfrm>
            <a:off x="179280" y="2043000"/>
            <a:ext cx="4176720" cy="3214800"/>
            <a:chOff x="179280" y="2043000"/>
            <a:chExt cx="4176720" cy="3214800"/>
          </a:xfrm>
        </p:grpSpPr>
        <p:sp>
          <p:nvSpPr>
            <p:cNvPr id="185" name=""/>
            <p:cNvSpPr/>
            <p:nvPr/>
          </p:nvSpPr>
          <p:spPr>
            <a:xfrm>
              <a:off x="179280" y="2043000"/>
              <a:ext cx="417672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Comment calcule-t-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à l’aide d’u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primitive de f 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755640" y="4076640"/>
                  <a:ext cx="173988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b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</p:spTree>
  </p:cSld>
  <p:transition advTm="30000">
    <p:zoom dir="out"/>
    <p:sndAc>
      <p:stSnd>
        <p:snd r:embed="rId1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8-20T02:03:52Z</dcterms:modified>
  <cp:revision>33</cp:revision>
  <dc:subject/>
  <dc:title>Donner l'image de -1 par la fonction f définie par </dc:title>
</cp:coreProperties>
</file>