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camera.wav" ContentType="audio/x-wav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9947275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D4BBE-17E4-490E-894F-6A4E62B0B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0C1B7-97AE-4472-8430-598473D6D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286EA-74AB-4699-8816-93DB2C5AE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480A9-C4E6-48A2-A54A-D4AE04DB7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36D27-1938-4292-987F-D198D9879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5D1C0-FE4A-4C81-A707-D61965D57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4933C-7C90-4038-ABA5-E2D55822F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18EF4-F420-4E71-ACE3-E01D17465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85EC9-A83E-4328-9218-959AA7AF0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9135A-4ACF-4EC7-B654-42C3C3AD9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AAC3C-0366-4CA7-BE9F-FE00F1535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B09E3-F839-4871-A5CB-F1BC153E4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26E73-7873-423C-97DA-960C8B2C8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CCE70-8DC7-4D2F-831F-2801CC522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4B29F-7FFD-4B83-B2A4-2DA5E6E25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B9FEF-E8BD-4FFC-AEA7-94EC56DEA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D7418-3998-4A9B-B26F-48FE84F09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97219-6702-473A-B199-A32EE7900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52EFA-DCCE-46F2-9C1B-3BF9F4CD3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718D1-4EDE-428E-AF6C-9A4398F2C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5A29C-9745-4301-A6BE-F4205BB9A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1E688-3227-4F21-92D9-14B5E4F07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BDC4A-5283-430D-ADB7-07DB25EB9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08113-4A4B-400C-8FD2-6A5DA4398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ece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cea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91afb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24000" y="1268280"/>
            <a:ext cx="8226360" cy="320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8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15f7b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91afb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0c0c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9fcad3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8C86F-ADBE-4F00-93F1-B776E2D49F9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ecea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cea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91afb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15f7b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AE5A8-2E02-4151-A652-29BEA4FBA205}" type="slidenum">
              <a:rPr b="0" lang="en-US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515f7b"/>
                </a:solidFill>
                <a:latin typeface="Tahoma"/>
              </a:rPr>
              <a:t>AM  N°4- second degré 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777240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 devoir est sur 10 poi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’ est une série de 10 questions notées 1 point chacune ; vous disposez de 40 secondes par questio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 calculatrice est interdit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rquez sur votre feuille :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oit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ou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gauch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uivant votre position dans votre ta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advTm="40000">
    <p:zoom dir="out"/>
    <p:sndAc>
      <p:stSnd>
        <p:snd r:embed="rId1" name="camera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Devoir 4       Question 9</a:t>
            </a:r>
            <a:endParaRPr b="0" lang="en-US" sz="36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68000" y="191628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Le trinôme ax²+bx+c est positif ou nul su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[ 3,4 ] et négatif strictement partout ailleurs. Que peut on dire du sig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de </a:t>
            </a:r>
            <a:r>
              <a:rPr b="0" lang="fr-FR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 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Symbol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de a 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146200" y="201780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Dresser le tableau de signes de 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ax² + bx + c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lorsque </a:t>
            </a:r>
            <a:r>
              <a:rPr b="0" lang="fr-FR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 = 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788000" y="1916280"/>
            <a:ext cx="0" cy="403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5000">
    <p:zoom dir="out"/>
    <p:sndAc>
      <p:stSnd>
        <p:snd r:embed="rId1" name="camera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Devoir 4       Question 10</a:t>
            </a:r>
            <a:r>
              <a:rPr b="0" lang="en-US" sz="4000" spc="-1" strike="noStrike">
                <a:solidFill>
                  <a:srgbClr val="515f7b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79280" y="1915920"/>
            <a:ext cx="532944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La courbe tracée a pour équation y = ax²+bx+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3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Déterminer le signe de a 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3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de </a:t>
            </a:r>
            <a:r>
              <a:rPr b="0" lang="fr-FR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 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5866920" y="2017800"/>
            <a:ext cx="3087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La parabole d’équation :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y = -x² + 2x - 1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coupe l’axe des abscisses en : 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2 points ?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1 point ?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aucun point ?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651640" y="1844640"/>
            <a:ext cx="0" cy="403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971640" y="2924280"/>
            <a:ext cx="2257200" cy="3114720"/>
          </a:xfrm>
          <a:prstGeom prst="rect">
            <a:avLst/>
          </a:prstGeom>
          <a:ln w="0">
            <a:noFill/>
          </a:ln>
        </p:spPr>
      </p:pic>
    </p:spTree>
  </p:cSld>
  <p:transition advTm="50000">
    <p:zoom dir="out"/>
    <p:sndAc>
      <p:stSnd>
        <p:snd r:embed="rId2" name="camera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Devoir 4       Question 1</a:t>
            </a:r>
            <a:r>
              <a:rPr b="0" lang="en-US" sz="4000" spc="-1" strike="noStrike">
                <a:solidFill>
                  <a:srgbClr val="515f7b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94920" y="2276280"/>
            <a:ext cx="4032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mment calcule –t-on le discriminant d’un trinôme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67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67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363640" y="2060280"/>
            <a:ext cx="3591000" cy="40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e trinôme 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x²- 5x +7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-t-il des racines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 oui, combien ?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932360" y="1989000"/>
            <a:ext cx="0" cy="403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0000">
    <p:zoom dir="out"/>
    <p:sndAc>
      <p:stSnd>
        <p:snd r:embed="rId1" name="camera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Devoir 4       Question 2</a:t>
            </a:r>
            <a:r>
              <a:rPr b="0" lang="en-US" sz="4000" spc="-1" strike="noStrike">
                <a:solidFill>
                  <a:srgbClr val="515f7b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68000" y="191628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Le trinôme :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900" spc="-1" strike="noStrike">
                <a:solidFill>
                  <a:srgbClr val="000000"/>
                </a:solidFill>
                <a:latin typeface="Comic Sans MS"/>
              </a:rPr>
              <a:t>x²- 5x +7 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mic Sans MS"/>
              </a:rPr>
              <a:t>a-t-il des racines ?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mic Sans MS"/>
              </a:rPr>
              <a:t>Si oui, combien ? 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003640" y="2017800"/>
            <a:ext cx="395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mment calcule –t-on le discriminant d’un trinôme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788000" y="1916280"/>
            <a:ext cx="0" cy="403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0000">
    <p:zoom dir="out"/>
    <p:sndAc>
      <p:stSnd>
        <p:snd r:embed="rId1" name="camera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79292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Devoir 4       Question 3</a:t>
            </a:r>
            <a:r>
              <a:rPr b="0" lang="en-US" sz="4000" spc="-1" strike="noStrike">
                <a:solidFill>
                  <a:srgbClr val="515f7b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95280" y="1916280"/>
            <a:ext cx="438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000000"/>
                </a:solidFill>
                <a:latin typeface="Comic Sans MS"/>
              </a:rPr>
              <a:t>Si </a:t>
            </a:r>
            <a:r>
              <a:rPr b="0" lang="fr-FR" sz="29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fr-FR" sz="2900" spc="-1" strike="noStrike">
                <a:solidFill>
                  <a:srgbClr val="000000"/>
                </a:solidFill>
                <a:latin typeface="Comic Sans MS"/>
              </a:rPr>
              <a:t> &gt;0 , quelles sont les solutions de :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000000"/>
                </a:solidFill>
                <a:latin typeface="Comic Sans MS"/>
              </a:rPr>
              <a:t>ax²+ bx +c =0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46200" y="201780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Si </a:t>
            </a:r>
            <a:r>
              <a:rPr b="0" lang="fr-FR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 &lt; 0 , quelles sont les solutions de 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ax²+ bx +c =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788000" y="1916280"/>
            <a:ext cx="0" cy="403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103480" y="4451400"/>
            <a:ext cx="2252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895480" y="65851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0000">
    <p:zoom dir="out"/>
    <p:sndAc>
      <p:stSnd>
        <p:snd r:embed="rId1" name="camera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Devoir 4       Question 4</a:t>
            </a:r>
            <a:r>
              <a:rPr b="0" lang="en-US" sz="4000" spc="-1" strike="noStrike">
                <a:solidFill>
                  <a:srgbClr val="515f7b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68000" y="191628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000000"/>
                </a:solidFill>
                <a:latin typeface="Comic Sans MS"/>
              </a:rPr>
              <a:t>Si </a:t>
            </a:r>
            <a:r>
              <a:rPr b="0" lang="fr-FR" sz="29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fr-FR" sz="2900" spc="-1" strike="noStrike">
                <a:solidFill>
                  <a:srgbClr val="000000"/>
                </a:solidFill>
                <a:latin typeface="Comic Sans MS"/>
              </a:rPr>
              <a:t> &gt; 0 , quel est le signe du trinôme: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000000"/>
                </a:solidFill>
                <a:latin typeface="Comic Sans MS"/>
              </a:rPr>
              <a:t>ax²+bx +c  ?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4720" y="1844280"/>
            <a:ext cx="4535280" cy="44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000000"/>
                </a:solidFill>
                <a:latin typeface="Comic Sans MS"/>
              </a:rPr>
              <a:t>Si </a:t>
            </a:r>
            <a:r>
              <a:rPr b="0" lang="fr-FR" sz="29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fr-FR" sz="2900" spc="-1" strike="noStrike">
                <a:solidFill>
                  <a:srgbClr val="000000"/>
                </a:solidFill>
                <a:latin typeface="Comic Sans MS"/>
              </a:rPr>
              <a:t> &lt; 0 , quel est le signe du trinôme: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000000"/>
                </a:solidFill>
                <a:latin typeface="Comic Sans MS"/>
              </a:rPr>
              <a:t>ax²+bx +c  ?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140360" y="1989000"/>
            <a:ext cx="0" cy="403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0000">
    <p:zoom dir="out"/>
    <p:sndAc>
      <p:stSnd>
        <p:snd r:embed="rId1" name="camera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9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Devoir 4       Question 5</a:t>
            </a:r>
            <a:r>
              <a:rPr b="0" lang="en-US" sz="4000" spc="-1" strike="noStrike">
                <a:solidFill>
                  <a:srgbClr val="515f7b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95280" y="2060640"/>
            <a:ext cx="3635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omic Sans MS"/>
              </a:rPr>
              <a:t>Si </a:t>
            </a:r>
            <a:r>
              <a:rPr b="0" lang="fr-FR" sz="3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fr-FR" sz="3600" spc="-1" strike="noStrike">
                <a:solidFill>
                  <a:srgbClr val="000000"/>
                </a:solidFill>
                <a:latin typeface="Comic Sans MS"/>
              </a:rPr>
              <a:t> &lt; 0 , quelles sont les solutions de :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omic Sans MS"/>
              </a:rPr>
              <a:t>ax²+ bx +c =0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42920" y="1915920"/>
            <a:ext cx="3673800" cy="44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000000"/>
                </a:solidFill>
                <a:latin typeface="Comic Sans MS"/>
              </a:rPr>
              <a:t>Si </a:t>
            </a:r>
            <a:r>
              <a:rPr b="0" lang="fr-FR" sz="29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fr-FR" sz="2900" spc="-1" strike="noStrike">
                <a:solidFill>
                  <a:srgbClr val="000000"/>
                </a:solidFill>
                <a:latin typeface="Comic Sans MS"/>
              </a:rPr>
              <a:t> &gt;0 , quelles sont les solutions de :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000000"/>
                </a:solidFill>
                <a:latin typeface="Comic Sans MS"/>
              </a:rPr>
              <a:t>ax²+ bx +c =0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067280" y="1989000"/>
            <a:ext cx="0" cy="403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0000">
    <p:zoom dir="out"/>
    <p:sndAc>
      <p:stSnd>
        <p:snd r:embed="rId1" name="camera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9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Devoir 4       Question 6</a:t>
            </a:r>
            <a:r>
              <a:rPr b="0" lang="en-US" sz="4000" spc="-1" strike="noStrike">
                <a:solidFill>
                  <a:srgbClr val="515f7b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68000" y="191628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omic Sans MS"/>
              </a:rPr>
              <a:t>Si </a:t>
            </a:r>
            <a:r>
              <a:rPr b="0" lang="fr-FR" sz="3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fr-FR" sz="3600" spc="-1" strike="noStrike">
                <a:solidFill>
                  <a:srgbClr val="000000"/>
                </a:solidFill>
                <a:latin typeface="Comic Sans MS"/>
              </a:rPr>
              <a:t> &lt; 0 , </a:t>
            </a:r>
            <a:r>
              <a:rPr b="0" lang="fr-FR" sz="2900" spc="-1" strike="noStrike">
                <a:solidFill>
                  <a:srgbClr val="000000"/>
                </a:solidFill>
                <a:latin typeface="Comic Sans MS"/>
              </a:rPr>
              <a:t>quel est le signe du trinôme: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000000"/>
                </a:solidFill>
                <a:latin typeface="Comic Sans MS"/>
              </a:rPr>
              <a:t>ax²+bx +c  ?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46200" y="201780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000000"/>
                </a:solidFill>
                <a:latin typeface="Comic Sans MS"/>
              </a:rPr>
              <a:t>Si </a:t>
            </a:r>
            <a:r>
              <a:rPr b="0" lang="fr-FR" sz="29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fr-FR" sz="2900" spc="-1" strike="noStrike">
                <a:solidFill>
                  <a:srgbClr val="000000"/>
                </a:solidFill>
                <a:latin typeface="Comic Sans MS"/>
              </a:rPr>
              <a:t> &gt; 0 , quel est le signe du trinôme: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000000"/>
                </a:solidFill>
                <a:latin typeface="Comic Sans MS"/>
              </a:rPr>
              <a:t>ax²+bx +c  ?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788000" y="1916280"/>
            <a:ext cx="0" cy="403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0000">
    <p:zoom dir="out"/>
    <p:sndAc>
      <p:stSnd>
        <p:snd r:embed="rId1" name="camera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9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Devoir 4       Question 7</a:t>
            </a:r>
            <a:endParaRPr b="0" lang="en-US" sz="36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68000" y="19162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Dresser le tableau de signes de 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ax² + bx + c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lorsque </a:t>
            </a:r>
            <a:r>
              <a:rPr b="0" lang="fr-FR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 =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932360" y="2017800"/>
            <a:ext cx="4022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Le trinôme ax²+bx+c est positif ou nul su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[ 3,4 ] et négatif strictement partout ailleurs. Que peut on dire du sig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de </a:t>
            </a:r>
            <a:r>
              <a:rPr b="0" lang="fr-FR" sz="3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fr-FR" sz="3600" spc="-1" strike="noStrike">
                <a:solidFill>
                  <a:srgbClr val="000000"/>
                </a:solidFill>
                <a:latin typeface="Comic Sans MS"/>
              </a:rPr>
              <a:t> 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Symbol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de a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788000" y="1916280"/>
            <a:ext cx="0" cy="403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5000">
    <p:zoom dir="out"/>
    <p:sndAc>
      <p:stSnd>
        <p:snd r:embed="rId1" name="camera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Devoir 4       Question 8</a:t>
            </a:r>
            <a:r>
              <a:rPr b="0" lang="en-US" sz="4000" spc="-1" strike="noStrike">
                <a:solidFill>
                  <a:srgbClr val="515f7b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68000" y="1916280"/>
            <a:ext cx="280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a parabole d’équ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y = -x² + 2x -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upe l’axe des abscisses en 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 points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 poi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ucun poi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851280" y="1844640"/>
            <a:ext cx="529272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La courbe tracée a pour équation y = ax²+bx+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06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Déterminer le signe de a 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06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de </a:t>
            </a:r>
            <a:r>
              <a:rPr b="0" lang="fr-FR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 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35280" y="1989000"/>
            <a:ext cx="0" cy="403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5435640" y="3213000"/>
            <a:ext cx="2257560" cy="3114720"/>
          </a:xfrm>
          <a:prstGeom prst="rect">
            <a:avLst/>
          </a:prstGeom>
          <a:ln w="0">
            <a:noFill/>
          </a:ln>
        </p:spPr>
      </p:pic>
    </p:spTree>
  </p:cSld>
  <p:transition advTm="50000">
    <p:zoom dir="out"/>
    <p:sndAc>
      <p:stSnd>
        <p:snd r:embed="rId2" name="camera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5T08:38:38Z</dcterms:created>
  <dc:creator>Admin</dc:creator>
  <dc:description/>
  <dc:language>en-US</dc:language>
  <cp:lastModifiedBy>CLEMENT ODILE</cp:lastModifiedBy>
  <dcterms:modified xsi:type="dcterms:W3CDTF">2008-06-23T22:21:57Z</dcterms:modified>
  <cp:revision>39</cp:revision>
  <dc:subject/>
  <dc:title>Donner l'image de -1 par la fonction f définie par </dc:title>
</cp:coreProperties>
</file>