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CFC-C294-49D5-B67B-FFAC87A3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8DD-8EC7-467E-8FD0-B14DE27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ADE-2E06-49BD-86B3-313970CE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013-7CC2-4ED8-A103-A7279C0D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215-1B74-4CD9-B68C-87A0FA72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0B9-630D-408C-9D23-2BE8E126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928-1240-41A0-809F-B94941A9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116-1744-4F6E-BC3F-7F64D68C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A8C-00F2-4866-8824-6BD262AF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75C-4236-4CDB-9805-58DB82F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810-11E6-4EAF-9F89-5C796A2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E38-E24F-4363-AB2C-EED40B5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8EB-8F55-4098-BF64-07649A597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40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80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"/>
          <p:cNvGrpSpPr/>
          <p:nvPr/>
        </p:nvGrpSpPr>
        <p:grpSpPr>
          <a:xfrm>
            <a:off x="5580000" y="2133720"/>
            <a:ext cx="2881440" cy="2595600"/>
            <a:chOff x="5580000" y="2133720"/>
            <a:chExt cx="2881440" cy="2595600"/>
          </a:xfrm>
        </p:grpSpPr>
        <p:sp>
          <p:nvSpPr>
            <p:cNvPr id="183" name=""/>
            <p:cNvSpPr/>
            <p:nvPr/>
          </p:nvSpPr>
          <p:spPr>
            <a:xfrm>
              <a:off x="558000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81508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89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5219640" y="2060640"/>
            <a:ext cx="3156120" cy="2782440"/>
            <a:chOff x="5219640" y="2060640"/>
            <a:chExt cx="3156120" cy="2782440"/>
          </a:xfrm>
        </p:grpSpPr>
        <p:sp>
          <p:nvSpPr>
            <p:cNvPr id="192" name=""/>
            <p:cNvSpPr/>
            <p:nvPr/>
          </p:nvSpPr>
          <p:spPr>
            <a:xfrm>
              <a:off x="521964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311800" y="356076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05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4932360" y="2060640"/>
            <a:ext cx="3378240" cy="2433600"/>
            <a:chOff x="4932360" y="2060640"/>
            <a:chExt cx="3378240" cy="2433600"/>
          </a:xfrm>
        </p:grpSpPr>
        <p:sp>
          <p:nvSpPr>
            <p:cNvPr id="108" name=""/>
            <p:cNvSpPr/>
            <p:nvPr/>
          </p:nvSpPr>
          <p:spPr>
            <a:xfrm>
              <a:off x="514512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932360" y="39103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640" y="1857240"/>
            <a:ext cx="3416400" cy="2471760"/>
            <a:chOff x="431640" y="1857240"/>
            <a:chExt cx="3416400" cy="2471760"/>
          </a:xfrm>
        </p:grpSpPr>
        <p:sp>
          <p:nvSpPr>
            <p:cNvPr id="116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31640" y="3668760"/>
                  <a:ext cx="3416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5003640" y="1989000"/>
            <a:ext cx="3454200" cy="2465640"/>
            <a:chOff x="5003640" y="1989000"/>
            <a:chExt cx="3454200" cy="2465640"/>
          </a:xfrm>
        </p:grpSpPr>
        <p:sp>
          <p:nvSpPr>
            <p:cNvPr id="119" name=""/>
            <p:cNvSpPr/>
            <p:nvPr/>
          </p:nvSpPr>
          <p:spPr>
            <a:xfrm>
              <a:off x="5254200" y="198900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003640" y="380700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056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48360" y="2060640"/>
            <a:ext cx="3416040" cy="2471760"/>
            <a:chOff x="5148360" y="2060640"/>
            <a:chExt cx="3416040" cy="2471760"/>
          </a:xfrm>
        </p:grpSpPr>
        <p:sp>
          <p:nvSpPr>
            <p:cNvPr id="128" name=""/>
            <p:cNvSpPr/>
            <p:nvPr/>
          </p:nvSpPr>
          <p:spPr>
            <a:xfrm>
              <a:off x="5379840" y="2060640"/>
              <a:ext cx="31557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148360" y="3872160"/>
                  <a:ext cx="3416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808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2920" y="1857240"/>
            <a:ext cx="3454200" cy="2465640"/>
            <a:chOff x="412920" y="1857240"/>
            <a:chExt cx="3454200" cy="2465640"/>
          </a:xfrm>
        </p:grpSpPr>
        <p:sp>
          <p:nvSpPr>
            <p:cNvPr id="132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2920" y="367524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148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292720" y="1916280"/>
            <a:ext cx="3156120" cy="2782440"/>
            <a:chOff x="5292720" y="1916280"/>
            <a:chExt cx="3156120" cy="2782440"/>
          </a:xfrm>
        </p:grpSpPr>
        <p:sp>
          <p:nvSpPr>
            <p:cNvPr id="141" name=""/>
            <p:cNvSpPr/>
            <p:nvPr/>
          </p:nvSpPr>
          <p:spPr>
            <a:xfrm>
              <a:off x="5292720" y="191628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84880" y="341640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"/>
          <p:cNvGrpSpPr/>
          <p:nvPr/>
        </p:nvGrpSpPr>
        <p:grpSpPr>
          <a:xfrm>
            <a:off x="450720" y="1857240"/>
            <a:ext cx="3378240" cy="2433600"/>
            <a:chOff x="450720" y="1857240"/>
            <a:chExt cx="3378240" cy="2433600"/>
          </a:xfrm>
        </p:grpSpPr>
        <p:sp>
          <p:nvSpPr>
            <p:cNvPr id="144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0720" y="37069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13372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34936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205000"/>
            <a:ext cx="33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19640" y="2133720"/>
            <a:ext cx="2881440" cy="2595600"/>
            <a:chOff x="5219640" y="2133720"/>
            <a:chExt cx="2881440" cy="2595600"/>
          </a:xfrm>
        </p:grpSpPr>
        <p:sp>
          <p:nvSpPr>
            <p:cNvPr id="158" name=""/>
            <p:cNvSpPr/>
            <p:nvPr/>
          </p:nvSpPr>
          <p:spPr>
            <a:xfrm>
              <a:off x="521964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45472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13372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66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177336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2349360"/>
            <a:ext cx="435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29T01:18:17Z</dcterms:modified>
  <cp:revision>27</cp:revision>
  <dc:subject/>
  <dc:title>Donner l'image de -1 par la fonction f définie par </dc:title>
</cp:coreProperties>
</file>