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9FC-3A10-45CB-8645-B1F64D96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93D-786C-4D5E-B818-89E381DC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B77-0772-49EB-A275-65125D34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E1A-7282-41A8-8B38-ED23E77E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44D2-E30A-4E0F-B7A8-DFF6699D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B1FC-B52F-4478-9635-26B351F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DBD-5540-4A8E-BFC7-3563F94C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1C6-81A3-4C36-8F59-4FCE791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2E2F-F3F6-4B79-9C6D-21B03FB1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D2A-2729-4662-BCC1-2F1CE9F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1107-BEC4-4BFB-9580-038F9E1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F15-C6F9-4407-A9A4-DE2F0E35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80E-3367-49B6-8A16-72089CA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A1B-CF8C-404F-AAFE-EE8C352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0746-69BD-4FA6-8203-C38ECEA2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967-F18C-4DFE-9228-3E725119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2784-509B-43BD-AB7A-469500D8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789-4244-4740-8B84-E8AF41D7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08B-E8BC-4A77-9917-F7109987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41F-11F4-477B-A184-2AC3815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0F5-5E0B-460E-8945-DD6A342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09C-107F-449E-9085-46083B3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E0F-8D7B-416C-8A43-2F00012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A36-671E-4787-AE6E-B936470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993-B28D-46B5-BE63-51E49C63CB2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3D4-D05D-4A8C-9C42-CD0638F1A55D}" type="slidenum">
              <a:rPr b="0" lang="fr-F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4076"/>
                </a:solidFill>
                <a:latin typeface="Tahoma"/>
              </a:rPr>
              <a:t>CR1 : Question N° 1 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60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et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5280" y="1773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0:22:12Z</dcterms:created>
  <dc:creator>CLEMENT ODILE</dc:creator>
  <dc:description/>
  <dc:language>en-US</dc:language>
  <cp:lastModifiedBy>CLEMENT ODILE</cp:lastModifiedBy>
  <dcterms:modified xsi:type="dcterms:W3CDTF">2008-03-11T06:54:29Z</dcterms:modified>
  <cp:revision>19</cp:revision>
  <dc:subject/>
  <dc:title>Question N° 1 </dc:title>
</cp:coreProperties>
</file>