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B092-B4A9-4D17-B3A5-5E1963D0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F6B-C1D1-433F-AF2F-FBD1F8EB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649B-30FC-4C0E-B206-084B477A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0DA8-4EF8-4719-9048-AB75F551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95CB-5DDD-4D37-BD66-88F85E03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16B8-9D38-405E-A74D-1F4E585D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BB3E-6856-4897-988E-02825133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9E15-5E93-4813-A94F-34A7D9CC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C5EC-1694-4A47-8C4E-D5124463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5E38-8852-452A-8661-F2FD57A9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688F-9FC0-4120-99CA-7A8DAE2E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429E-F67E-4EC4-86D7-A7386C5D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1CAF-D350-49CA-BDA1-124FC940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5EEF-317B-4135-B02A-21CBA6A4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1611-B781-4455-9045-4CFD19D6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C3A0-EFB6-4815-9E58-AB009EE3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1338-B003-47C9-AAC6-104C6313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47B-C01B-4BDA-B547-064AB5E0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019-0AF0-476D-A27E-85ED96B6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E22B-318A-4C34-959F-CFECE838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A643-D134-4762-82A8-92E86A31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2334-7990-4DE6-A6F6-C7D67F6D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A58B-A923-4C04-9A42-B4B99999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276A-D2E7-4DC9-BAFD-B85E9C36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BA5B-0026-47D7-9B1D-69ED16A1689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642F-50E5-4B05-806F-F9F0683DE01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éparez une feuille de répon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tez votre n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érotez dix lignes de 1 à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us aurez 20 secondes par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716360" y="1916280"/>
                <a:ext cx="30355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859280" y="3357720"/>
                <a:ext cx="1015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advTm="2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z le tableau de signes de la déri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4896000" cy="307656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52920" y="3633840"/>
                <a:ext cx="111780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r la  dérivée de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84600" y="3913200"/>
                <a:ext cx="1054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549600" y="3989520"/>
                <a:ext cx="3124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260960" y="3944880"/>
                <a:ext cx="1701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413240" y="3716280"/>
                <a:ext cx="13971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’ 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’ 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 le coefficient directeur de la tangente au point d’abscis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140360" y="1341360"/>
                <a:ext cx="30351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7-08T04:15:21Z</dcterms:modified>
  <cp:revision>23</cp:revision>
  <dc:subject/>
  <dc:title>Donner l'image de -1 par la fonction f définie par </dc:title>
</cp:coreProperties>
</file>