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30B-2B9C-44CD-A4DB-76794DE9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166-9347-486F-BCBD-BD08AEC4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38B-E7AE-454A-8B3E-1155257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CEA-65D9-4F68-8B5C-36CEB5C8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1D7F-6AC9-4A82-8BD6-8AA6AF82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4FD6-6FA6-4BD3-89FB-42ADF781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1141-02CA-4B88-9839-0C5ED8A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A39-4E59-4B4A-84F4-4F44E6A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CE06-8C97-4D95-B700-E2CCE416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78D9-739A-4619-9133-9D72882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76C-C7F5-4518-B32D-C32EB44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329-A448-4833-99D6-AC1365E1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C89-C313-4B99-90A5-AAB7EAD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1F2-745B-41F8-B96F-51027A5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D3B8-4360-4D04-B8FB-173361A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7A24-3C67-4F88-9715-1E53739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241-B70D-4CFB-A151-B71AC4F3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AA4-F822-46E6-ABE4-A0AD2B4A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903-CA9A-42A2-8319-ECFE8D08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212-BDE8-4A85-81D5-30468CC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CFA-491E-4641-B628-ED64558B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1AD-49A8-4ECC-A6E9-B22624F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5D6-99FC-4340-88B4-284E720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537-ED44-49B2-9337-9F94855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35C-8963-473F-AAE7-B1CFF00C73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F17-36FA-47D4-A69C-758D7DF371F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IE N°3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5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64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 Pourquoi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= 0,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3T23:08:56Z</dcterms:modified>
  <cp:revision>33</cp:revision>
  <dc:subject/>
  <dc:title>Donner l'image de -1 par la fonction f définie par </dc:title>
</cp:coreProperties>
</file>