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7A7D-5203-463F-9F5E-E2FF2732E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3397-7B58-4EE7-8AEF-202DDB34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8061-3F8E-4191-A896-CD9A3399B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8152-3AE2-4DA3-B9BC-CCCC1D65D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E78C-2951-4276-BEE3-5EE0170A0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3D16E-2378-450F-B5D8-E7A2EBAD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9482-EB19-437D-9E65-9490B879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BF77-A3A4-4F91-A44E-237400E8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D01F-70AF-4A56-BB88-B4FCA562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FF8F-30BE-4C8B-A782-14927065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86E18-C7CE-4CE9-B938-C0AFA84B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C27D-7D16-48C7-9722-EBF3BAFE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B4CDA-38D1-4A6C-8050-3401F829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5298-601F-4439-9149-2DF7E972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227F-A57A-4BEF-B197-DBEB8C5F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B153-D5F6-49B9-B0B9-63A6AACD9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7262-65BA-49CA-A20A-B94590B61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238A-E08E-489E-A69C-869B37DE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5F9D-76F3-47BD-837F-9A423525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1C50-BDF3-4854-9C99-99EC679F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E45D-F32B-4EF5-96C4-A8284617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FB90-6392-43D5-8A46-076D3861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652B-7748-410F-BDED-99E0A6D4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016F-A6D5-472D-B417-EBF14471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e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ea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91afb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2E66-4468-4F77-A42F-5D146CD92C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ecea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cea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91afb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0811-C442-498A-A689-F106252516AC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Devoir N°3( une heure ) 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 devoir est en deux parties sur 10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première partie est une série de 10 questions notées 1 point chacune ; vous disposez de 50 secondes par ques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ur cette première partie, la calculatrice est interdi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quez sur votre feuille :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roi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auch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uivant votre position dans votre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deuxième partie, vous disposerez de la calculatrice et du temps res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9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On donne la variance d’une série : V = 0,36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Que vaut son écart type ?Donner sa valeur décimal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La fonction f est donnée sur [0 ; 5]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par :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En utilisant des fonctions connues , donner le sens de variation de f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f est ……. sur [0 ; 5]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6084720" y="2852640"/>
                <a:ext cx="22482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10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Donner l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urcentage de la population dont les modalités sont  comprises entre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premier décile et le neuvième décile.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fonction f est donnée sur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[1 ; 5]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 :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utilisant des fonctions connues , donner le sens de variation de 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 est ……. sur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[1 ; 5]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6012000" y="2852640"/>
                <a:ext cx="25192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1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4032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connaitre les deux fonc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uge  et Ble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63640" y="2060280"/>
            <a:ext cx="35910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donne le diagramme en boî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 représent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=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32360" y="198900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187280" y="2421000"/>
            <a:ext cx="3616560" cy="4248000"/>
          </a:xfrm>
          <a:prstGeom prst="rect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067360" y="2852640"/>
            <a:ext cx="4076640" cy="1447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017160" y="51577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1;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68120" y="357336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1;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70036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700360" y="3933720"/>
            <a:ext cx="216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11280" y="4508640"/>
            <a:ext cx="287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00360" y="4508640"/>
            <a:ext cx="0" cy="86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40000" y="5373720"/>
            <a:ext cx="360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2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onnaitre les deux fo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uge :……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eu : ……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 donne le diagramme en boît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ment calculer l’intervalle interquartile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124000" y="2781360"/>
            <a:ext cx="2648160" cy="3241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859280" y="2924280"/>
            <a:ext cx="4076640" cy="14475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419640" y="5805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2;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91080" y="587700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0,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058920" y="5734080"/>
            <a:ext cx="14436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635280" y="573408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3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438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On donne le diagramme en boîte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Que représentent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c= ?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= ?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 donne le diagramme en boît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 représ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- a=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03480" y="4451400"/>
            <a:ext cx="225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95480" y="6585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859280" y="2997360"/>
            <a:ext cx="4076640" cy="14475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95280" y="2708280"/>
            <a:ext cx="40766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4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On donne le diagramme en boîte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Comment calculer l’intervalle interquartile ?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4720" y="1844280"/>
            <a:ext cx="453528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connaitre les deux fonc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uge :……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eu : ……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40360" y="198900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724360" y="2492280"/>
            <a:ext cx="2648160" cy="32418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2781360"/>
            <a:ext cx="4076640" cy="1447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7093080" y="551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2;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20160" y="551664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0,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659640" y="5445000"/>
            <a:ext cx="14436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7235640" y="544500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5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363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donne le diagramme en  boî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 représ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-a=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7235640" y="1700280"/>
            <a:ext cx="171900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onnaitre les deux fonction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uge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leu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67280" y="198900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067280" y="2133720"/>
            <a:ext cx="3616200" cy="4248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2881440"/>
            <a:ext cx="3995640" cy="1419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292720" y="4221000"/>
            <a:ext cx="287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80000" y="4221000"/>
            <a:ext cx="0" cy="86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219640" y="5084640"/>
            <a:ext cx="360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676480" y="386064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1;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53880" y="48690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1;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5579640" y="414972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5580000" y="5084280"/>
            <a:ext cx="21600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6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La fonction f est donnée sur [0 ; 5]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par :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En utilisant des fonctions connues , donner le sens de variation de f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26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f est ……. sur [0; 5]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ner la formule permettant de calculer la variance d’une série statist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763640" y="2924280"/>
                <a:ext cx="22478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7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La fonction f est donnée sur [1; 5]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par :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En utilisant des fonctions connues , donner le sens de variation de f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26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f est ……. sur [1; 5]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donne la variance d’une série : V = 0,3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e vaut son écart type ?Donner sa valeur décim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692360" y="2852640"/>
                <a:ext cx="25192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8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Donner la formule permettant de calculer la variance d’une série statistiqu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Donn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le pourcentage de la population dont les modalités sont  comprises entre le premier décile et le neuvième déci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6-03T06:52:16Z</dcterms:modified>
  <cp:revision>31</cp:revision>
  <dc:subject/>
  <dc:title>Donner l'image de -1 par la fonction f définie par </dc:title>
</cp:coreProperties>
</file>