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1A08-9876-477C-A78E-D2FBF13EB4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4321-CA2E-403B-A376-987BBD985A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375E-DF55-40C6-94C3-B1DA2B4681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1FB8-A87B-490B-817C-A03879BE7A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D6B-61F9-4516-9926-72D51DCB2E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ACED-668C-4037-9EF6-1CD4E446DE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4EC0-0EAB-4E34-883C-5CDE97A3E8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182D-BBA7-425D-8166-E42F075824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6DAE-6887-430A-A48E-82ECAD0882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EA2A-DA8D-4B54-A669-82A3FCDE1E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EEFB-044F-4833-A768-7CAD6997BE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7C44-FF2A-4C41-BA02-02C9DFC931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DF33-2F48-4A00-BFC6-D0DD4DB973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2E65-301C-46C7-AB03-D64CF7A77D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0A7C-2C89-4C39-8F9C-6A0BDECBA4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2F21-A845-432C-8C5D-3B45BAC132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2131-B706-47E0-9263-34C31976D6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3DD2-1F51-4161-BF64-55560920DC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4A4B-CBB7-4FC8-A6A1-4169C530A8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CF51-E89B-4AFE-8B89-4B1A782AC4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5301-4890-4D9A-9678-1FDF2FDFC8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3979-2002-4FA1-A241-2DF56B2A14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1632-7EFA-4265-B802-05C487E03A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D999-70B2-4D69-9895-3576FB99D2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F09E-EE9C-4538-A43C-C974D0A025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FB7-5CB8-403F-92E4-64210ECB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1AF-46D9-424F-9C16-683A7EEB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ED9-C42A-4B3E-91CE-C4BE1BB4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E2F-FDE1-41C4-B67B-B9099A39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905-1AC4-4869-ABE6-7ECF5A4A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4C4-C9B7-409B-8B68-373D2CD5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999-B0B8-4333-9BA4-F9EA7379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1D0-3190-47F8-B8DA-C5F45FB0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958-1BB5-4E36-A198-E436BC88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692-2CDE-46D8-BB30-39BE1A8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134-0201-4260-AA2F-11535F65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85D-54D8-4830-92ED-9B0DF3F6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475D-B7CA-4930-99ED-57DCD1D1B90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544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347400" y="1557360"/>
            <a:ext cx="47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rectang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périmèt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9131040" cy="41050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347400" y="1557360"/>
            <a:ext cx="47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carré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périmèt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4260960" cy="43927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347400" y="1557360"/>
            <a:ext cx="47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cerc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périmèt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895640" cy="46098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310680" y="1557360"/>
            <a:ext cx="4077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rectang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a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2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9131040" cy="410508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341640" y="1557360"/>
            <a:ext cx="3582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carré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a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4260960" cy="43927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ZoneTexte 5"/>
          <p:cNvSpPr/>
          <p:nvPr/>
        </p:nvSpPr>
        <p:spPr>
          <a:xfrm>
            <a:off x="347400" y="1557360"/>
            <a:ext cx="476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un cerc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 son périmèt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895640" cy="46098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1-16T20:21:25Z</dcterms:modified>
  <cp:revision>20</cp:revision>
  <dc:subject/>
  <dc:title>Diapositive 1</dc:title>
</cp:coreProperties>
</file>