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28DD-9640-48F3-89EE-DCEB22E664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DC26-599C-4AAA-B2F8-BA5F2F83F9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36B0-CC66-4642-9889-0B961CFDB5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303E-584F-4113-9217-68533DCA42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80C-2005-4C98-BC81-1ADF9396C2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0CE4-367B-452A-83E1-A84D00C371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642B-4039-46C8-AD15-AD390C6DD1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9524-B0DF-450C-BB54-B215704AC8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16A7-78AA-46A9-9F95-F93E348673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2BD6-F7BA-425B-B394-5F98D8B6C3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9149-7A81-423E-A22A-A5FDE03784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0584-2B9E-4135-87A3-15F340F723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47BE-60B5-4987-8928-FC658B0041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88C5-89B9-4CB6-B9FF-3CE46DB5B2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FF9F-035D-481D-829C-148F3123B6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51AC-7E8D-4112-832A-8C50E222B6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75EE-AB98-4E14-B05C-63460EA41B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600F-03B9-4E38-812B-1D9B9AF3B1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54B4-54F3-4D29-950C-5EAF7110DA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44B2-8D08-4DDF-B8D8-6569D0ABBB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2392-86E7-4A83-8044-235B6FD6CA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6460-4406-4552-A98F-FE1B427E8D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811E-AC16-41E4-9F14-A4F2A2CC84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3238-4708-42D6-91A9-BCC274D64F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AC02-B788-4060-8E07-46D314AD03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3852-CAAA-4F4C-92D4-000C7A79C7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CF5-C296-4025-99AD-475F408D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AEC-10C8-44AD-9705-7735CFF4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838-3D34-4C75-9B5B-2145B2E9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9BB-BA74-48BC-A002-373BC405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456-6FA5-47E0-8E7F-48E16869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A9C-F38D-4677-9A50-70303B43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3ED-A0D9-4F14-BEB1-7E68C103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09D-D20F-4455-B629-0784FB03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464-264D-4A38-BC7C-350F7817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532-3156-4910-A3A0-80148B96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279-1AE6-4F7B-82D8-EAA83EB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24F-4753-4675-A869-91D4F0C9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2A91-80AE-4913-922F-90C2DCCE9C2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7"/>
          <p:cNvGraphicFramePr/>
          <p:nvPr/>
        </p:nvGraphicFramePr>
        <p:xfrm>
          <a:off x="4427640" y="2060640"/>
          <a:ext cx="1726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0640"/>
                    <a:ext cx="172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8"/>
          <p:cNvGraphicFramePr/>
          <p:nvPr/>
        </p:nvGraphicFramePr>
        <p:xfrm>
          <a:off x="4356000" y="4149720"/>
          <a:ext cx="1359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359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7"/>
          <p:cNvGraphicFramePr/>
          <p:nvPr/>
        </p:nvGraphicFramePr>
        <p:xfrm>
          <a:off x="4356000" y="2133720"/>
          <a:ext cx="17020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702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"/>
          <p:cNvGraphicFramePr/>
          <p:nvPr/>
        </p:nvGraphicFramePr>
        <p:xfrm>
          <a:off x="4211640" y="4292640"/>
          <a:ext cx="17906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292640"/>
                    <a:ext cx="1790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4356000" y="2133720"/>
          <a:ext cx="17146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7146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4140360" y="4149720"/>
          <a:ext cx="1676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676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5"/>
          <p:cNvGraphicFramePr/>
          <p:nvPr/>
        </p:nvGraphicFramePr>
        <p:xfrm>
          <a:off x="3851280" y="2060640"/>
          <a:ext cx="2857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57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6"/>
          <p:cNvGraphicFramePr/>
          <p:nvPr/>
        </p:nvGraphicFramePr>
        <p:xfrm>
          <a:off x="3924360" y="4221000"/>
          <a:ext cx="2870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2870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3780000" y="2060640"/>
          <a:ext cx="2844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844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780000" y="4149720"/>
          <a:ext cx="2869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5"/>
          <p:cNvGraphicFramePr/>
          <p:nvPr/>
        </p:nvGraphicFramePr>
        <p:xfrm>
          <a:off x="3780000" y="2060640"/>
          <a:ext cx="27684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7684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6"/>
          <p:cNvGraphicFramePr/>
          <p:nvPr/>
        </p:nvGraphicFramePr>
        <p:xfrm>
          <a:off x="3851280" y="4221000"/>
          <a:ext cx="28195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221000"/>
                    <a:ext cx="28195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3851280" y="2060640"/>
          <a:ext cx="28954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60640"/>
                    <a:ext cx="2895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"/>
          <p:cNvGraphicFramePr/>
          <p:nvPr/>
        </p:nvGraphicFramePr>
        <p:xfrm>
          <a:off x="3780000" y="4149720"/>
          <a:ext cx="29080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149720"/>
                    <a:ext cx="2908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15"/>
          <p:cNvGraphicFramePr/>
          <p:nvPr/>
        </p:nvGraphicFramePr>
        <p:xfrm>
          <a:off x="3708360" y="206064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6"/>
          <p:cNvGraphicFramePr/>
          <p:nvPr/>
        </p:nvGraphicFramePr>
        <p:xfrm>
          <a:off x="3708360" y="4149720"/>
          <a:ext cx="2527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2527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5"/>
          <p:cNvGraphicFramePr/>
          <p:nvPr/>
        </p:nvGraphicFramePr>
        <p:xfrm>
          <a:off x="3780000" y="2060640"/>
          <a:ext cx="2869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869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6"/>
          <p:cNvGraphicFramePr/>
          <p:nvPr/>
        </p:nvGraphicFramePr>
        <p:xfrm>
          <a:off x="3995640" y="4149720"/>
          <a:ext cx="28321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14972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15"/>
          <p:cNvGraphicFramePr/>
          <p:nvPr/>
        </p:nvGraphicFramePr>
        <p:xfrm>
          <a:off x="3708360" y="1989000"/>
          <a:ext cx="288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9000"/>
                    <a:ext cx="288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6"/>
          <p:cNvGraphicFramePr/>
          <p:nvPr/>
        </p:nvGraphicFramePr>
        <p:xfrm>
          <a:off x="3708360" y="4149720"/>
          <a:ext cx="3251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3251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15"/>
          <p:cNvGraphicFramePr/>
          <p:nvPr/>
        </p:nvGraphicFramePr>
        <p:xfrm>
          <a:off x="3708360" y="2060640"/>
          <a:ext cx="2819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19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3851280" y="4149720"/>
          <a:ext cx="24512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149720"/>
                    <a:ext cx="2451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3995640" y="2060640"/>
          <a:ext cx="2806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280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6"/>
          <p:cNvGraphicFramePr/>
          <p:nvPr/>
        </p:nvGraphicFramePr>
        <p:xfrm>
          <a:off x="3564000" y="4221000"/>
          <a:ext cx="328932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21000"/>
                    <a:ext cx="32893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15"/>
          <p:cNvGraphicFramePr/>
          <p:nvPr/>
        </p:nvGraphicFramePr>
        <p:xfrm>
          <a:off x="3708360" y="2060640"/>
          <a:ext cx="28447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060640"/>
                    <a:ext cx="2844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16"/>
          <p:cNvGraphicFramePr/>
          <p:nvPr/>
        </p:nvGraphicFramePr>
        <p:xfrm>
          <a:off x="3635280" y="4149720"/>
          <a:ext cx="27939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149720"/>
                    <a:ext cx="2793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28"/>
          <p:cNvGraphicFramePr/>
          <p:nvPr/>
        </p:nvGraphicFramePr>
        <p:xfrm>
          <a:off x="4284720" y="2060640"/>
          <a:ext cx="17272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727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29"/>
          <p:cNvGraphicFramePr/>
          <p:nvPr/>
        </p:nvGraphicFramePr>
        <p:xfrm>
          <a:off x="4356000" y="4149720"/>
          <a:ext cx="17654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4149720"/>
                    <a:ext cx="1765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7"/>
          <p:cNvGraphicFramePr/>
          <p:nvPr/>
        </p:nvGraphicFramePr>
        <p:xfrm>
          <a:off x="4284720" y="2060640"/>
          <a:ext cx="17143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060640"/>
                    <a:ext cx="1714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8"/>
          <p:cNvGraphicFramePr/>
          <p:nvPr/>
        </p:nvGraphicFramePr>
        <p:xfrm>
          <a:off x="4140360" y="4149720"/>
          <a:ext cx="172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4149720"/>
                    <a:ext cx="172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4356000" y="2133720"/>
          <a:ext cx="16765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676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6"/>
          <p:cNvGraphicFramePr/>
          <p:nvPr/>
        </p:nvGraphicFramePr>
        <p:xfrm>
          <a:off x="4067280" y="4149720"/>
          <a:ext cx="172692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149720"/>
                    <a:ext cx="1726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5"/>
          <p:cNvGraphicFramePr/>
          <p:nvPr/>
        </p:nvGraphicFramePr>
        <p:xfrm>
          <a:off x="4140360" y="2060640"/>
          <a:ext cx="18032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18032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4067280" y="4221000"/>
          <a:ext cx="179064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221000"/>
                    <a:ext cx="179064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7"/>
          <p:cNvGraphicFramePr/>
          <p:nvPr/>
        </p:nvGraphicFramePr>
        <p:xfrm>
          <a:off x="4356000" y="2133720"/>
          <a:ext cx="17528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17528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8"/>
          <p:cNvGraphicFramePr/>
          <p:nvPr/>
        </p:nvGraphicFramePr>
        <p:xfrm>
          <a:off x="4643280" y="4149720"/>
          <a:ext cx="13845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49720"/>
                    <a:ext cx="1384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4427640" y="1989000"/>
          <a:ext cx="17269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1726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4284720" y="4221000"/>
          <a:ext cx="172728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221000"/>
                    <a:ext cx="17272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356000" y="2060640"/>
          <a:ext cx="1739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060640"/>
                    <a:ext cx="1739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4211640" y="4149720"/>
          <a:ext cx="18162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149720"/>
                    <a:ext cx="1816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17T19:59:28Z</dcterms:modified>
  <cp:revision>15</cp:revision>
  <dc:subject/>
  <dc:title>Diapositive 1</dc:title>
</cp:coreProperties>
</file>