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3B2C-CD76-4C54-B24A-1D6CD230E1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F48A-E5A1-4830-9B6E-A3FDE8A5CD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4EC1-34A3-48B0-A10A-712A5B0A2F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33D0-012F-4A03-9798-08A22A3197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8268-8ACF-4654-9EE3-9FD4EFF175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B897-BF4C-4AE2-9363-6A01E1AAFE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69DA-05FD-44F7-B44F-F836975D16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2492-55A5-4DE1-97D5-5B45BCBCB1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B813-B402-4FF1-89A2-85B810A75F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D5CF-62D5-4F63-BE58-5E898BB505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04C4-476A-46C6-972E-293E968D63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047D-4863-4933-8E07-CE93EFA679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67D5-78F5-4CBA-AFFC-AAB287210F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479F-D681-4B51-A758-3091D39178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5F44-67A3-4C44-9954-324692FB35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9B51-2EC1-4C34-9CAC-765AC35D2C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7752-72A5-4DF6-86D4-FC42EB7F22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ADEF-4577-4B05-A69C-09014C5D93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F56A-607B-4A1A-9CD1-E06EC72491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5B83-9AD2-42DA-8B8F-AD63C1D559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E5CA-5505-4178-8D75-B6B9F484D8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7F49-5CF2-4439-820D-E3C946576A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91F1-DAAF-489D-BA15-D245BB79AF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48AD-4DC1-4EDC-B4D3-4472A21746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F48F-831D-446C-97B6-CBBFFC64B6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536D-CDD0-402E-B7C5-5BF0D84DF7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609-0D98-4381-8927-951A5842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321-B2B3-4E45-AB7A-5AB93A32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7E2-7B4F-4EFD-9BAC-49B81F63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247-7943-430F-A94C-BAA82431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922-3946-4EEB-AD4E-4DA2B4C9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395-5D2B-4FA7-94D1-30FAF9BD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84B-9F9C-4067-A714-F7A573F3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BBC-BD24-488E-B314-22D86092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A67-C0EC-42DF-8EC3-0E6246AD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F03-EA13-4254-8C79-57E00B4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F67-409D-43C0-A19E-67911288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B9A-C723-4AF0-BA9A-964537B8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61B6-30D5-467A-94DB-85CEF67879D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509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140360" y="1413000"/>
          <a:ext cx="1655640" cy="20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413000"/>
                    <a:ext cx="165564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211640" y="3500280"/>
          <a:ext cx="1471680" cy="186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500280"/>
                    <a:ext cx="147168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284720" y="3429000"/>
          <a:ext cx="1655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429000"/>
                    <a:ext cx="1655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284720" y="1413000"/>
          <a:ext cx="165564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413000"/>
                    <a:ext cx="165564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140360" y="1484280"/>
          <a:ext cx="1584000" cy="19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484280"/>
                    <a:ext cx="158400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4211640" y="3500280"/>
          <a:ext cx="158436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500280"/>
                    <a:ext cx="158436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924360" y="1557360"/>
          <a:ext cx="244800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557360"/>
                    <a:ext cx="244800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924360" y="3500280"/>
          <a:ext cx="262404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00280"/>
                    <a:ext cx="262404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348000" y="1484280"/>
          <a:ext cx="338472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338472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635280" y="3357720"/>
          <a:ext cx="3048120" cy="20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357720"/>
                    <a:ext cx="304812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924360" y="1557360"/>
          <a:ext cx="26636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557360"/>
                    <a:ext cx="2663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851280" y="3500280"/>
          <a:ext cx="2681280" cy="18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00280"/>
                    <a:ext cx="26812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995640" y="1484280"/>
          <a:ext cx="259236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484280"/>
                    <a:ext cx="259236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924360" y="3429000"/>
          <a:ext cx="2798640" cy="20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429000"/>
                    <a:ext cx="279864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492360" y="1484280"/>
          <a:ext cx="295128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2951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3492360" y="3500280"/>
          <a:ext cx="300060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500280"/>
                    <a:ext cx="30006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203640" y="1413000"/>
          <a:ext cx="331308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413000"/>
                    <a:ext cx="33130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276720" y="3500280"/>
          <a:ext cx="3240000" cy="19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00280"/>
                    <a:ext cx="32400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348000" y="1484280"/>
          <a:ext cx="316872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316872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419640" y="3500280"/>
          <a:ext cx="308736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3500280"/>
                    <a:ext cx="308736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419640" y="1484280"/>
          <a:ext cx="30970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30970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564000" y="3645000"/>
          <a:ext cx="2808360" cy="17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645000"/>
                    <a:ext cx="280836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6"/>
          <p:cNvGraphicFramePr/>
          <p:nvPr/>
        </p:nvGraphicFramePr>
        <p:xfrm>
          <a:off x="3780000" y="3716280"/>
          <a:ext cx="276372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716280"/>
                    <a:ext cx="276372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7"/>
          <p:cNvGraphicFramePr/>
          <p:nvPr/>
        </p:nvGraphicFramePr>
        <p:xfrm>
          <a:off x="3564000" y="1484280"/>
          <a:ext cx="3168720" cy="18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484280"/>
                    <a:ext cx="31687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851280" y="1484280"/>
          <a:ext cx="259236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84280"/>
                    <a:ext cx="259236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851280" y="3573360"/>
          <a:ext cx="2592360" cy="177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73360"/>
                    <a:ext cx="2592360" cy="17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284720" y="1557360"/>
          <a:ext cx="1404720" cy="17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140472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356000" y="3500280"/>
          <a:ext cx="158436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00280"/>
                    <a:ext cx="158436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211640" y="1484280"/>
          <a:ext cx="2089080" cy="18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208908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356000" y="3573360"/>
          <a:ext cx="1511280" cy="18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73360"/>
                    <a:ext cx="151128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3203640" y="1700280"/>
          <a:ext cx="432108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700280"/>
                    <a:ext cx="432108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3276720" y="3716280"/>
          <a:ext cx="382896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38289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3851280" y="1557360"/>
          <a:ext cx="302436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557360"/>
                    <a:ext cx="302436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3780000" y="3500280"/>
          <a:ext cx="2952720" cy="19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500280"/>
                    <a:ext cx="295272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3995640" y="1484280"/>
          <a:ext cx="1440000" cy="17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484280"/>
                    <a:ext cx="144000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3851280" y="3500280"/>
          <a:ext cx="1657440" cy="19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500280"/>
                    <a:ext cx="16574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211640" y="1413000"/>
          <a:ext cx="169848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16984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284720" y="3573360"/>
          <a:ext cx="1439640" cy="17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573360"/>
                    <a:ext cx="143964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356000" y="1484280"/>
          <a:ext cx="151128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484280"/>
                    <a:ext cx="151128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8"/>
          <p:cNvGraphicFramePr/>
          <p:nvPr/>
        </p:nvGraphicFramePr>
        <p:xfrm>
          <a:off x="4427640" y="3500280"/>
          <a:ext cx="1512720" cy="18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3500280"/>
                    <a:ext cx="151272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1-31T19:49:03Z</dcterms:modified>
  <cp:revision>21</cp:revision>
  <dc:subject/>
  <dc:title>Diapositive 1</dc:title>
</cp:coreProperties>
</file>