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25E8-DDC4-40B1-B42F-2D579A3432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AA69-6E1D-4CE8-B2DE-604EC9579D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E53F-2FA3-420B-95DE-0BA9B14ABF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3F9A-6A91-4C94-8A15-8336055E97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474A-EBDC-42EB-8997-472E931EA7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1A17-B00C-4EA3-8F86-41CE5CCD9F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EED3-DE1E-45FB-BEE4-24A7AFB062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B97F-47AB-4096-A724-BEE1137396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F288-86B8-4E89-9575-47DFE3EE54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A522-998B-464D-B1DB-9243934C15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79F2-0564-42A3-A4B0-7FB764A790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126E-D395-40ED-A9DF-17A78E667A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907A-8C29-4C92-8906-0D01A9FDD7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5232-5810-4CCD-B337-8A4BB47C07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D6BC-D34D-4FA4-A100-E1800145FB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997D-021F-4EE0-8E28-CA2EFD9DCD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FFF1-8ED6-444F-8846-85CE5C892B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3D46-78C7-4BAD-8C07-AAC81BECD8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1377-627C-4974-8A85-7D8769CDFD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4C4-B40F-4DA3-9E14-35A2FA084E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D77B-7CFE-4DC7-998A-D05FA425C6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0646-3478-4C33-8048-C175E9E59C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724A-86BA-434E-8546-67C7646A17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32F0-DF61-45A3-894D-9EB6C67FAD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0BCA-1725-4D01-BAF8-A450F53BA2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2B6-5F8F-4294-8884-A7222D4D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DF1-74CA-4696-AE45-A7182415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889-6232-47E0-9FF7-FBADC7A5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014-857B-4C8E-8875-1DA136E0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0BD-7B01-4B25-B7D9-82B4E8C6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102-46AD-48C2-BE1E-910D5EF7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A98-0DD3-41FC-87FE-028CD1F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B88-7312-4FDA-BBF1-63D6AE22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466-EBB8-45E1-9548-A20EFA5E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C03-2803-483B-903A-1956A1F4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04F-EE0E-4148-A273-C1CBCC4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C50-8145-4385-942A-D1A9DFEB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C57D-C20F-4F23-ACA6-7A64644B4E1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55080" y="1412640"/>
            <a:ext cx="90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ableau donne la répartition des élè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i-pensionnaires et externes selon les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2637000"/>
          <a:ext cx="8281800" cy="272232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1"/>
          <p:cNvSpPr/>
          <p:nvPr/>
        </p:nvSpPr>
        <p:spPr>
          <a:xfrm>
            <a:off x="158760" y="5413320"/>
            <a:ext cx="93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demi-pensionn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55080" y="1412640"/>
            <a:ext cx="90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ableau donne la répartition des élè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i-pensionnaires et externes selon les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637000"/>
          <a:ext cx="8281800" cy="272232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61"/>
          <p:cNvSpPr/>
          <p:nvPr/>
        </p:nvSpPr>
        <p:spPr>
          <a:xfrm>
            <a:off x="272880" y="5484960"/>
            <a:ext cx="89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xtern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2196720" y="5589720"/>
            <a:ext cx="49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8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ont vu 3 fil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2196720" y="5589720"/>
            <a:ext cx="492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ont vu 5 fil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7"/>
          <p:cNvSpPr/>
          <p:nvPr/>
        </p:nvSpPr>
        <p:spPr>
          <a:xfrm>
            <a:off x="1527840" y="5629320"/>
            <a:ext cx="61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n’ont vu aucun fil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6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1980720" y="5589720"/>
            <a:ext cx="51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ont vu 4 fil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37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38"/>
          <p:cNvSpPr/>
          <p:nvPr/>
        </p:nvSpPr>
        <p:spPr>
          <a:xfrm>
            <a:off x="231840" y="59166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L’océan pacifiqu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le plus grand océ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6"/>
          <p:cNvSpPr/>
          <p:nvPr/>
        </p:nvSpPr>
        <p:spPr>
          <a:xfrm>
            <a:off x="158760" y="5987880"/>
            <a:ext cx="824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L’océan arctiqu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est le plus petit océ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3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4"/>
          <p:cNvSpPr/>
          <p:nvPr/>
        </p:nvSpPr>
        <p:spPr>
          <a:xfrm>
            <a:off x="1116360" y="6156360"/>
            <a:ext cx="70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ont vu 3 fil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26"/>
          <p:cNvGraphicFramePr/>
          <p:nvPr/>
        </p:nvGraphicFramePr>
        <p:xfrm>
          <a:off x="324000" y="1341360"/>
          <a:ext cx="8459640" cy="43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596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27"/>
          <p:cNvSpPr/>
          <p:nvPr/>
        </p:nvSpPr>
        <p:spPr>
          <a:xfrm>
            <a:off x="90000" y="5845320"/>
            <a:ext cx="68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 4ans, une fille mesur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0 cm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5280" y="1557360"/>
          <a:ext cx="8282160" cy="272268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520"/>
                <a:gridCol w="993600"/>
                <a:gridCol w="993600"/>
                <a:gridCol w="1283040"/>
              </a:tblGrid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58"/>
          <p:cNvSpPr/>
          <p:nvPr/>
        </p:nvSpPr>
        <p:spPr>
          <a:xfrm>
            <a:off x="344160" y="4836960"/>
            <a:ext cx="648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91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de 4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ont exter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628640"/>
          <a:ext cx="8281800" cy="286704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107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59"/>
          <p:cNvSpPr/>
          <p:nvPr/>
        </p:nvSpPr>
        <p:spPr>
          <a:xfrm>
            <a:off x="344160" y="4979880"/>
            <a:ext cx="877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8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demi-pensionnaire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84280"/>
          <a:ext cx="8281800" cy="272268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58"/>
          <p:cNvSpPr/>
          <p:nvPr/>
        </p:nvSpPr>
        <p:spPr>
          <a:xfrm>
            <a:off x="1301040" y="4653000"/>
            <a:ext cx="66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78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extern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9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900360" y="6156360"/>
            <a:ext cx="70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ont vu 5 fil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7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9"/>
          <p:cNvSpPr/>
          <p:nvPr/>
        </p:nvSpPr>
        <p:spPr>
          <a:xfrm>
            <a:off x="231840" y="5987880"/>
            <a:ext cx="82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n’ont vu aucun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5400" y="126828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demandé à des élèves le nombre de fil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’ils ont vus au cinéma depuis la rentré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7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980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8"/>
          <p:cNvSpPr/>
          <p:nvPr/>
        </p:nvSpPr>
        <p:spPr>
          <a:xfrm>
            <a:off x="1043280" y="6156360"/>
            <a:ext cx="70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d’élèves ont vu 4 fil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28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30"/>
          <p:cNvSpPr/>
          <p:nvPr/>
        </p:nvSpPr>
        <p:spPr>
          <a:xfrm>
            <a:off x="377280" y="6060960"/>
            <a:ext cx="83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plus grand océan de la ter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28"/>
          <p:cNvGraphicFramePr/>
          <p:nvPr/>
        </p:nvGraphicFramePr>
        <p:xfrm>
          <a:off x="0" y="1268280"/>
          <a:ext cx="88200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8200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29"/>
          <p:cNvSpPr/>
          <p:nvPr/>
        </p:nvSpPr>
        <p:spPr>
          <a:xfrm>
            <a:off x="303840" y="591660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 est le plus petit océan de la ter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9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28"/>
          <p:cNvGraphicFramePr/>
          <p:nvPr/>
        </p:nvGraphicFramePr>
        <p:xfrm>
          <a:off x="324000" y="1341360"/>
          <a:ext cx="8459640" cy="43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596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0"/>
          <p:cNvSpPr/>
          <p:nvPr/>
        </p:nvSpPr>
        <p:spPr>
          <a:xfrm>
            <a:off x="303120" y="5772240"/>
            <a:ext cx="82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a taillle d’une fille de 4 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55080" y="1412640"/>
            <a:ext cx="90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ableau donne la répartition des élè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i-pensionnaires et externes selon les cl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2637000"/>
          <a:ext cx="8281800" cy="2722320"/>
        </p:xfrm>
        <a:graphic>
          <a:graphicData uri="http://schemas.openxmlformats.org/drawingml/2006/table">
            <a:tbl>
              <a:tblPr/>
              <a:tblGrid>
                <a:gridCol w="3025800"/>
                <a:gridCol w="993600"/>
                <a:gridCol w="992160"/>
                <a:gridCol w="993960"/>
                <a:gridCol w="993600"/>
                <a:gridCol w="128268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i-pensionnair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153"/>
          <p:cNvSpPr/>
          <p:nvPr/>
        </p:nvSpPr>
        <p:spPr>
          <a:xfrm>
            <a:off x="199440" y="5556240"/>
            <a:ext cx="87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xterne en 4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3-16T17:17:05Z</dcterms:modified>
  <cp:revision>20</cp:revision>
  <dc:subject/>
  <dc:title>Diapositive 1</dc:title>
</cp:coreProperties>
</file>