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37D5-6CEE-4F94-9CC8-FEA9FA8A56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D016-2E5B-4957-ACDF-B33D4EA27A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F774-DE4A-495A-BABA-5A2B05B055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3C4A-528C-4632-AFD9-4336908787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429-9F35-4090-94A6-CB9AE2E967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922-256F-40C8-95E4-7D3F975AB9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EC9-E6C9-4A20-A516-724CB44F56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8137-08D2-40B2-9B16-6B48C1AB84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445-62F1-4B3F-80AA-5EB0314B08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9F3A-A11B-4EEE-A884-5E000C3221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0DFB-8526-468C-808D-D6F075AF0F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87E-0ED5-4CDB-9341-03822EAC77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2350-9FFF-4FC4-B1F9-E9F3A45284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0B0-52CC-4953-8E76-CB518D52EF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EC20-A242-4501-A1F4-5A7E301BB1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9FB4-B8C8-4579-BE40-A64F7B3881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95F-104C-42C1-8655-5AFD16879C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C392-110D-4F81-B149-19C735F881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E985-EA2F-42B0-8373-C7B70C1E3A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A84-CF52-4C20-BF0E-4A11BCC03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355C-A2EE-4696-834A-481A50645A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87B9-0F4F-4486-88A4-409649A988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2765-B75A-4024-B853-15793D478E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F063-33FF-4642-8296-1C0D7EED0D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113-6A32-4A57-BFEA-C7B47CF399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D10-E00B-45ED-9C74-674D6FA7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0D1-C367-49BF-8561-3BAC595B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ABC-D677-4CE4-8C7C-D12153FC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419-19E5-44F3-B46B-8811B010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D52-7494-4FD6-AEAB-FEE4EC73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72E-DF09-4088-B453-8F3A8733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A75-7E87-450E-921D-B9168924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E65-8889-4A87-95EB-DE0D5423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E23-7D5F-4751-86C6-81DE17CB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3C7-6E27-409C-90E8-28E5C47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8E4-CAC5-4C4C-BF62-E852CF3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C32-CFDF-4176-B4F4-3063DB6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7E14-4047-47B4-B328-4FF4F182FC8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544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28"/>
          <p:cNvGraphicFramePr/>
          <p:nvPr/>
        </p:nvGraphicFramePr>
        <p:xfrm>
          <a:off x="3708360" y="2492280"/>
          <a:ext cx="20876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92280"/>
                    <a:ext cx="20876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28"/>
          <p:cNvGraphicFramePr/>
          <p:nvPr/>
        </p:nvGraphicFramePr>
        <p:xfrm>
          <a:off x="4140360" y="2565360"/>
          <a:ext cx="180000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565360"/>
                    <a:ext cx="180000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6"/>
          <p:cNvGraphicFramePr/>
          <p:nvPr/>
        </p:nvGraphicFramePr>
        <p:xfrm>
          <a:off x="250920" y="2205000"/>
          <a:ext cx="85690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85690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6"/>
          <p:cNvGraphicFramePr/>
          <p:nvPr/>
        </p:nvGraphicFramePr>
        <p:xfrm>
          <a:off x="611280" y="2060640"/>
          <a:ext cx="817560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17560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26"/>
          <p:cNvGraphicFramePr/>
          <p:nvPr/>
        </p:nvGraphicFramePr>
        <p:xfrm>
          <a:off x="179280" y="2349360"/>
          <a:ext cx="878544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8785440" cy="33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26"/>
          <p:cNvGraphicFramePr/>
          <p:nvPr/>
        </p:nvGraphicFramePr>
        <p:xfrm>
          <a:off x="179280" y="1844640"/>
          <a:ext cx="89060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9060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37"/>
          <p:cNvGraphicFramePr/>
          <p:nvPr/>
        </p:nvGraphicFramePr>
        <p:xfrm>
          <a:off x="179280" y="1989000"/>
          <a:ext cx="87854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7854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179280" y="2060640"/>
          <a:ext cx="8785440" cy="34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878544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2"/>
          <p:cNvGraphicFramePr/>
          <p:nvPr/>
        </p:nvGraphicFramePr>
        <p:xfrm>
          <a:off x="3780000" y="2781360"/>
          <a:ext cx="18316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781360"/>
                    <a:ext cx="18316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26"/>
          <p:cNvGraphicFramePr/>
          <p:nvPr/>
        </p:nvGraphicFramePr>
        <p:xfrm>
          <a:off x="179280" y="2205000"/>
          <a:ext cx="88678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88678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26"/>
          <p:cNvGraphicFramePr/>
          <p:nvPr/>
        </p:nvGraphicFramePr>
        <p:xfrm>
          <a:off x="250920" y="2349360"/>
          <a:ext cx="864216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6421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26"/>
          <p:cNvGraphicFramePr/>
          <p:nvPr/>
        </p:nvGraphicFramePr>
        <p:xfrm>
          <a:off x="250920" y="2060640"/>
          <a:ext cx="85690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60640"/>
                    <a:ext cx="85690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6"/>
          <p:cNvGraphicFramePr/>
          <p:nvPr/>
        </p:nvGraphicFramePr>
        <p:xfrm>
          <a:off x="468360" y="2349360"/>
          <a:ext cx="80154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80154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8"/>
          <p:cNvGraphicFramePr/>
          <p:nvPr/>
        </p:nvGraphicFramePr>
        <p:xfrm>
          <a:off x="3635280" y="2492280"/>
          <a:ext cx="21258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92280"/>
                    <a:ext cx="21258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6"/>
          <p:cNvGraphicFramePr/>
          <p:nvPr/>
        </p:nvGraphicFramePr>
        <p:xfrm>
          <a:off x="3708360" y="2565360"/>
          <a:ext cx="2050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565360"/>
                    <a:ext cx="2050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26"/>
          <p:cNvGraphicFramePr/>
          <p:nvPr/>
        </p:nvGraphicFramePr>
        <p:xfrm>
          <a:off x="3348000" y="2565360"/>
          <a:ext cx="208764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565360"/>
                    <a:ext cx="20876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3851280" y="2421000"/>
          <a:ext cx="21621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162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8"/>
          <p:cNvGraphicFramePr/>
          <p:nvPr/>
        </p:nvGraphicFramePr>
        <p:xfrm>
          <a:off x="3780000" y="2492280"/>
          <a:ext cx="216036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492280"/>
                    <a:ext cx="216036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2151000" y="1773360"/>
            <a:ext cx="543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28"/>
          <p:cNvGraphicFramePr/>
          <p:nvPr/>
        </p:nvGraphicFramePr>
        <p:xfrm>
          <a:off x="3492360" y="2565360"/>
          <a:ext cx="2640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2640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2142720" y="1773360"/>
            <a:ext cx="56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mplifie la fraction pa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9"/>
          <p:cNvGraphicFramePr/>
          <p:nvPr/>
        </p:nvGraphicFramePr>
        <p:xfrm>
          <a:off x="3492360" y="2565360"/>
          <a:ext cx="25005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565360"/>
                    <a:ext cx="25005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1-31T20:14:23Z</dcterms:modified>
  <cp:revision>20</cp:revision>
  <dc:subject/>
  <dc:title>Diapositive 1</dc:title>
</cp:coreProperties>
</file>