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722F-A6AC-4F6B-B99A-33D2AEFC38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1EDA-543F-4EDE-A7EA-C5D68CAF29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46DC-0C6F-4880-87C0-B7888F87A9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E4E4-2DE0-47AE-B7AE-789280D5D3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7A87-4D85-41DB-9D3B-EC366D7374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68E2-30D4-481D-8E07-EBD349591E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09F5-9A7E-4281-9A72-A4187C2924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8B0A-5790-4F71-961E-CC2469FDAE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B533-405E-4783-B143-F1E1329ECC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7FAC-F0CA-4EBB-B303-196D45BDC5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FC89-BF00-4499-A969-7CB8D56DDA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93BF-E55B-46E8-A50E-EEEA6DBFDB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59DC-E088-4B61-B5D4-4CCAFC552A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1E65-D64E-4D6F-AE4B-C31406C88E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C8FD-9DF9-4C33-8BD2-AE0C7A8950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5F39-26AE-4299-A174-0D358A6261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9B30-7DF1-494B-B768-ABDB677676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DC2-FD23-44E8-AA6E-7F44C39273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ACFD-BF28-4C3B-BF87-7C3F1B4990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30DE-1032-47A4-9472-A0B573FD0B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5C23-503C-4318-97A5-99ACD85E09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14BC-9A3E-44B3-92E2-AE43A0D19B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A4BD-4FD5-4988-963F-46B963B4F3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4C32-53AF-4C78-97C4-5EDA41013F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6858-F7F0-48B8-B3F2-AAAC36A467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968-C52E-4111-B51C-3FE55F9B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6E7-5B20-43D3-A8C2-11C5EEBE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08B-13CD-43EC-8F24-E7719C59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6E6-443D-4F9A-89E9-35BAD15E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9EF-01AE-4B24-91BB-0DB64A5F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0E7-8220-49BC-BA66-0F437FE9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D6A-3E56-442D-9D63-D733EC68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0DE-2F18-4931-8AAE-4F756280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58C-7CD5-45F3-8E94-0744CFCF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9A8-8C7A-494B-AF57-1EC9D926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301-EC07-40A2-94E8-B69AE03C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EBE-A40C-4F05-AF03-EDB6742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39D5-A134-45CA-8CE6-F5486B13EE4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508320" y="2276640"/>
            <a:ext cx="876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ibliothèque peut contenir 123 livr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livres peuvent contenir 4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ibliothèqu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ZoneTexte 5"/>
          <p:cNvSpPr/>
          <p:nvPr/>
        </p:nvSpPr>
        <p:spPr>
          <a:xfrm>
            <a:off x="509400" y="2276640"/>
            <a:ext cx="871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atre paquets contiennent 20 bill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billes y’a-t-il dans un paqu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692360" y="1916280"/>
          <a:ext cx="561636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6163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1979640" y="1916280"/>
          <a:ext cx="45687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4568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340000" y="2637000"/>
          <a:ext cx="420048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37000"/>
                    <a:ext cx="42004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2484360" y="2060640"/>
          <a:ext cx="47516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47516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835280" y="1916280"/>
          <a:ext cx="482436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16280"/>
                    <a:ext cx="48243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ZoneTexte 3"/>
          <p:cNvSpPr/>
          <p:nvPr/>
        </p:nvSpPr>
        <p:spPr>
          <a:xfrm>
            <a:off x="2554200" y="2781360"/>
            <a:ext cx="419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NE SAIT PA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71440" y="2205000"/>
            <a:ext cx="866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boîte de biscuit coûte 245F, combie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3 boîtes de biscu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979640" y="2637000"/>
          <a:ext cx="54990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37000"/>
                    <a:ext cx="54990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619280" y="2924280"/>
          <a:ext cx="531972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24280"/>
                    <a:ext cx="5319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258920" y="2708280"/>
          <a:ext cx="648180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08280"/>
                    <a:ext cx="6481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340000" y="2924280"/>
          <a:ext cx="43070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43070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268920" y="213372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inq pommes coûtent 550F, combi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ûtent  deux  pom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9 enfants par jou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32760" y="1628640"/>
            <a:ext cx="876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ois enfants vident 2 bouteilles d’eau pa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jour, combien de bouteilles d’eau sera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nécessaire pour 4 j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35600" y="2133720"/>
            <a:ext cx="801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ur faire un gâteau pour 4 personn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faut 300g de beur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quantité de beurre faut-il pou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faire un gâteau pour 6 person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89800" y="2205000"/>
            <a:ext cx="77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enfant mesure 95cm à 1an, quell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era sa taille à 2 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506160" y="2276640"/>
            <a:ext cx="782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10m² peut contenir 15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lan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e plantes pourra conteni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champs de 30m²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ZoneTexte 5"/>
          <p:cNvSpPr/>
          <p:nvPr/>
        </p:nvSpPr>
        <p:spPr>
          <a:xfrm>
            <a:off x="395280" y="234936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ZoneTexte 5"/>
          <p:cNvSpPr/>
          <p:nvPr/>
        </p:nvSpPr>
        <p:spPr>
          <a:xfrm>
            <a:off x="499680" y="2276640"/>
            <a:ext cx="811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voiture consomme 10L pour fair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100 km, combien de km fait-elle avec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30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3-30T21:21:38Z</dcterms:modified>
  <cp:revision>28</cp:revision>
  <dc:subject/>
  <dc:title>Diapositive 1</dc:title>
</cp:coreProperties>
</file>