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C6F-8DE4-4639-BE9F-16A9EC42E1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7028-B827-4C53-A75A-2862BCDF18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D255-7C64-49EF-A7E3-941A087F2D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C6F9-4519-4D1E-9055-231FFEE381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02D0-F462-4103-8C78-8D399D4901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FBB6-BB5F-45E3-BD7D-B40C46F54A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1CBB-CE40-4932-BC22-FA245E000B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D60-8788-4BEF-8D3D-7A6D1EB50A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5FA-D80B-4840-BA99-BBF74EECC1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044-6842-4D3A-92DE-AB354217A7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3D8F-7436-402B-80AC-B5CE14BCC6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72E-49E7-4DC4-B5BB-3AF27E8514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782-19F5-472C-BEEF-F275D40454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90ED-3A4E-43D8-951C-DF75C0B161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26C1-583D-4A3D-B36E-0C9A5C9AEC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B8BC-7B3B-4AB4-B43C-F7150B88BF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B6C-DAC0-4891-B3D1-2423EB1A84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B801-83DC-4186-88B0-20D56E2E2D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250F-669A-46DB-8C9B-1DD9E33FAA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7A4-518B-4ACD-954F-8BE5E06830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5779-A58C-45CF-A79C-4ACE5B7E6A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7F7-8428-42DB-AB58-7193B8E3F8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CEA6-6D7B-4E0B-9A4C-7F7D1F9B4D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63CB-44F6-44A8-AB9D-5C9E479A1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B084-1435-4CD3-AFE0-AFBAD93A78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EEA1-B0CE-4582-A41E-3EF58E24A3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969-4E3D-42BF-87D6-6FB049EA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825-50B9-4300-A72D-310451F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CE1-F18F-4F47-BEC2-072FD6A8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B65-4B95-4222-8C1C-18B99D8D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10D-B3A8-4451-A451-D74B55B1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2C7-8A0F-4175-93A8-8846D33C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FA4-09C9-42F7-8BA6-3145DC2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F33-9258-409A-B2CF-3F77D406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03F-5C75-4DE2-9563-2F2D230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E2D-9010-4C5E-BE23-87DB6FA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49C-AE51-4597-AA1B-0C62710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5D8-92AD-4EF3-B844-19D83D0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C7D-BCB0-49B1-B047-DB677B9E09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919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307800" y="2060640"/>
            <a:ext cx="80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69840" y="2421000"/>
            <a:ext cx="800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erpendiculaires 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3"/>
          <p:cNvSpPr/>
          <p:nvPr/>
        </p:nvSpPr>
        <p:spPr>
          <a:xfrm>
            <a:off x="102960" y="2060640"/>
            <a:ext cx="899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à la fois un carré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est à la fois un rectangle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2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580320" y="2205000"/>
            <a:ext cx="824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cô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295200" y="1989000"/>
            <a:ext cx="895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5"/>
          <p:cNvSpPr/>
          <p:nvPr/>
        </p:nvSpPr>
        <p:spPr>
          <a:xfrm>
            <a:off x="223920" y="2060640"/>
            <a:ext cx="89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1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rectangl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ZoneTexte 3"/>
          <p:cNvSpPr/>
          <p:nvPr/>
        </p:nvSpPr>
        <p:spPr>
          <a:xfrm>
            <a:off x="41760" y="2205000"/>
            <a:ext cx="864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1"/>
          <p:cNvSpPr/>
          <p:nvPr/>
        </p:nvSpPr>
        <p:spPr>
          <a:xfrm>
            <a:off x="27720" y="1125360"/>
            <a:ext cx="920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nsign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ur chaque diapositive seront notées deux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hrases. Une sera VRAI et l’autre FAUSSE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u noteras sur ta feuille l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oposition qui te paraîtra VRA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ZoneTexte 3"/>
          <p:cNvSpPr/>
          <p:nvPr/>
        </p:nvSpPr>
        <p:spPr>
          <a:xfrm>
            <a:off x="294480" y="2060640"/>
            <a:ext cx="861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losange a les diagonales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ZoneTexte 3"/>
          <p:cNvSpPr/>
          <p:nvPr/>
        </p:nvSpPr>
        <p:spPr>
          <a:xfrm>
            <a:off x="307800" y="2060640"/>
            <a:ext cx="807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oneTexte 3"/>
          <p:cNvSpPr/>
          <p:nvPr/>
        </p:nvSpPr>
        <p:spPr>
          <a:xfrm>
            <a:off x="69840" y="2421000"/>
            <a:ext cx="800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ngueur et perpendiculaires  en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ZoneTexte 3"/>
          <p:cNvSpPr/>
          <p:nvPr/>
        </p:nvSpPr>
        <p:spPr>
          <a:xfrm>
            <a:off x="102960" y="2060640"/>
            <a:ext cx="899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à la fois un carré et u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ff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Un carré est à la fois un rectangle et un 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los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ZoneTexte 5"/>
          <p:cNvSpPr/>
          <p:nvPr/>
        </p:nvSpPr>
        <p:spPr>
          <a:xfrm>
            <a:off x="580320" y="2205000"/>
            <a:ext cx="824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quadrilatère est une figu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95200" y="1989000"/>
            <a:ext cx="895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angles dro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ZoneTexte 5"/>
          <p:cNvSpPr/>
          <p:nvPr/>
        </p:nvSpPr>
        <p:spPr>
          <a:xfrm>
            <a:off x="223920" y="2060640"/>
            <a:ext cx="89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ZoneTexte 3"/>
          <p:cNvSpPr/>
          <p:nvPr/>
        </p:nvSpPr>
        <p:spPr>
          <a:xfrm>
            <a:off x="22356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rectangl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41760" y="2205000"/>
            <a:ext cx="864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 quadrilatère qui 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est une figure qui a quat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ôtés de même longu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3"/>
          <p:cNvSpPr/>
          <p:nvPr/>
        </p:nvSpPr>
        <p:spPr>
          <a:xfrm>
            <a:off x="294480" y="2060640"/>
            <a:ext cx="861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quatre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deux axes de symét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3"/>
          <p:cNvSpPr/>
          <p:nvPr/>
        </p:nvSpPr>
        <p:spPr>
          <a:xfrm>
            <a:off x="44280" y="2421000"/>
            <a:ext cx="936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de mêm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ngueur et qui se coupent en 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losange a les diagonal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erpendiculaires et qui  se coupent 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ur mili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1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5-06T19:39:54Z</dcterms:modified>
  <cp:revision>25</cp:revision>
  <dc:subject/>
  <dc:title>Diapositive 1</dc:title>
</cp:coreProperties>
</file>