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0A30-5BA6-4DC3-8A85-846F12D69E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F48B-03F6-42AE-AFC4-EF1BE65F6E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506C-C99B-42D6-BB64-99319C4B0A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BE4F-7283-4B9A-8D54-00257CEFD9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4CB1-1DBE-4CEF-AAED-05400C23C4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EEA0-E6DE-4976-B43B-03D94F74BC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F954-E071-48B9-8808-48674CDC1A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1A6E-2A47-49E0-896A-CA353F6B93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5889-59E2-4F3B-8720-6B3932B8CC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B322-3787-41A6-83BE-77907B2D72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4634-98C1-49FD-BC98-9A5F674675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BE5A-1D3D-4ECC-8256-3B92151648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BE24-0EE1-4FE9-925E-336828ABA0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44D1-C27F-4135-93CF-BA2C5DE757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051C-28E8-4BA7-8585-77708E93BB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2AAC-6373-4137-B273-4C347FD44F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9BAA-DF63-4987-8A23-F27AB5F41B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A781-9D69-4E95-8917-3FD5B9C954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6A1A-C597-4F08-8AD6-20BA6B90C0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ACE4-270A-4BBF-8C3E-7495179807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D446-1516-42EC-80A5-EC8CC01CEB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4B13-93DB-4C38-84B7-3EA885F49E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69BD-D8C3-48EE-A84D-ACFADB61F3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2CE6-5052-4EB4-97EE-465268B386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D0D7-91A1-4057-8C4F-7AB7734A84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5EF-31F2-442C-8EF6-8CFC57DA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79F-8469-433B-BDDF-246553C6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95C-D6DE-4367-A892-3FDC3EB1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228-18F8-451E-BA4E-EA720835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8C8-FE3D-4E4F-84DC-66170509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B03-B8F5-4D10-9CB5-37E3B35C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76C-79BF-4B0F-91CE-01CD9F93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2CC-9168-4E97-9B91-F929BBD5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690-7F16-48B3-BA4B-7D8E56B4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A8A-F6F1-45E2-B313-2F410933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C74-B51C-43C4-878C-0DBA120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F15-FEDF-45C0-8F7B-9A9C1E54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1E2A-6315-45F6-958E-253509F9602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02"/>
          <p:cNvSpPr/>
          <p:nvPr/>
        </p:nvSpPr>
        <p:spPr>
          <a:xfrm>
            <a:off x="42480" y="5589720"/>
            <a:ext cx="907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garçon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65"/>
          <p:cNvSpPr/>
          <p:nvPr/>
        </p:nvSpPr>
        <p:spPr>
          <a:xfrm>
            <a:off x="376200" y="5556240"/>
            <a:ext cx="72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au tot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1662120" y="6156360"/>
            <a:ext cx="569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65"/>
          <p:cNvSpPr/>
          <p:nvPr/>
        </p:nvSpPr>
        <p:spPr>
          <a:xfrm>
            <a:off x="1662480" y="5589720"/>
            <a:ext cx="605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garçon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65"/>
          <p:cNvSpPr/>
          <p:nvPr/>
        </p:nvSpPr>
        <p:spPr>
          <a:xfrm>
            <a:off x="1591200" y="5516640"/>
            <a:ext cx="63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26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09" name="Text Box 65"/>
          <p:cNvSpPr/>
          <p:nvPr/>
        </p:nvSpPr>
        <p:spPr>
          <a:xfrm>
            <a:off x="2052000" y="5516640"/>
            <a:ext cx="53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5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garçons au tot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74"/>
          <p:cNvSpPr/>
          <p:nvPr/>
        </p:nvSpPr>
        <p:spPr>
          <a:xfrm>
            <a:off x="634680" y="5556240"/>
            <a:ext cx="594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25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54"/>
          <p:cNvSpPr/>
          <p:nvPr/>
        </p:nvSpPr>
        <p:spPr>
          <a:xfrm>
            <a:off x="1736280" y="5373720"/>
            <a:ext cx="54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206"/>
          <p:cNvSpPr/>
          <p:nvPr/>
        </p:nvSpPr>
        <p:spPr>
          <a:xfrm>
            <a:off x="726120" y="5516640"/>
            <a:ext cx="81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65"/>
          <p:cNvSpPr/>
          <p:nvPr/>
        </p:nvSpPr>
        <p:spPr>
          <a:xfrm>
            <a:off x="1520280" y="5516640"/>
            <a:ext cx="58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PLU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5"/>
          <p:cNvSpPr/>
          <p:nvPr/>
        </p:nvSpPr>
        <p:spPr>
          <a:xfrm>
            <a:off x="1025280" y="5484960"/>
            <a:ext cx="47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5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illes au tot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65"/>
          <p:cNvSpPr/>
          <p:nvPr/>
        </p:nvSpPr>
        <p:spPr>
          <a:xfrm>
            <a:off x="1086120" y="5516640"/>
            <a:ext cx="65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garçon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d0b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65"/>
          <p:cNvSpPr/>
          <p:nvPr/>
        </p:nvSpPr>
        <p:spPr>
          <a:xfrm>
            <a:off x="2124720" y="5589720"/>
            <a:ext cx="52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Il y a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10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élèves au tot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65"/>
          <p:cNvSpPr/>
          <p:nvPr/>
        </p:nvSpPr>
        <p:spPr>
          <a:xfrm>
            <a:off x="345600" y="5556240"/>
            <a:ext cx="84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garçon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63"/>
          <p:cNvSpPr/>
          <p:nvPr/>
        </p:nvSpPr>
        <p:spPr>
          <a:xfrm>
            <a:off x="201240" y="5340240"/>
            <a:ext cx="85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U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63"/>
          <p:cNvSpPr/>
          <p:nvPr/>
        </p:nvSpPr>
        <p:spPr>
          <a:xfrm>
            <a:off x="1187280" y="5516640"/>
            <a:ext cx="752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 t-il de garçon au tot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65"/>
          <p:cNvSpPr/>
          <p:nvPr/>
        </p:nvSpPr>
        <p:spPr>
          <a:xfrm>
            <a:off x="344880" y="5556240"/>
            <a:ext cx="819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’élèv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65"/>
          <p:cNvSpPr/>
          <p:nvPr/>
        </p:nvSpPr>
        <p:spPr>
          <a:xfrm>
            <a:off x="345960" y="5556240"/>
            <a:ext cx="81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S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65"/>
          <p:cNvSpPr/>
          <p:nvPr/>
        </p:nvSpPr>
        <p:spPr>
          <a:xfrm>
            <a:off x="561600" y="5484960"/>
            <a:ext cx="81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en 6</a:t>
            </a:r>
            <a:r>
              <a:rPr b="0" lang="fr-FR" sz="4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PL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713800" cy="3908520"/>
        </p:xfrm>
        <a:graphic>
          <a:graphicData uri="http://schemas.openxmlformats.org/drawingml/2006/table">
            <a:tbl>
              <a:tblPr/>
              <a:tblGrid>
                <a:gridCol w="1800000"/>
                <a:gridCol w="1513080"/>
                <a:gridCol w="1401840"/>
                <a:gridCol w="1190520"/>
                <a:gridCol w="1152360"/>
                <a:gridCol w="16560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U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L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fr-FR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ç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76"/>
          <p:cNvSpPr/>
          <p:nvPr/>
        </p:nvSpPr>
        <p:spPr>
          <a:xfrm>
            <a:off x="879480" y="5484960"/>
            <a:ext cx="71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mbien y’a-t-il de filles au tot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3-09T17:18:28Z</dcterms:modified>
  <cp:revision>20</cp:revision>
  <dc:subject/>
  <dc:title>Diapositive 1</dc:title>
</cp:coreProperties>
</file>