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46CB-BA57-4D35-9793-0DAAD5F23B1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21DB-AD4E-4EB6-BFC0-4462D87366F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D6D6-BD24-4324-97E2-1267047EFB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49D1-EBD0-4EB7-A13F-71B14A27B4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BC4F-45AE-42B7-B172-84FE8594A3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901D-3C98-482F-8B5A-1CE217E5E2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0D55-C2AA-4B26-B922-A2FD54803B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E993-059B-4936-B2E0-42244034F8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9A9F-F93C-4BF4-8831-734C20C7F4F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7180-DDE7-4413-9A67-6802119506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FFF8-3D25-4CFC-949C-E9C8A6E0B1A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0FE2-613F-4B6E-ADB0-E64459782AB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7361-0B96-47A4-A71A-64048458A1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1A90-1CB3-40F3-B5C5-D6EA686AEFC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EF18-84C0-45AB-9980-6F4D21FF732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84E7-0592-4E00-8BED-C4B1DC5A64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8068-4E8F-48FB-AEC4-91976A92F1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DF46-3704-4E93-A4A1-E31BA5E3CA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E8DC-0351-4402-8C12-69AA0570D5F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650B-7AE4-4DFE-9153-E1D45B3203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44FD-BF9C-4661-891C-0E74EECAF84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EE0E-6186-4526-AB19-2D098917751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AD20-ADB5-4A0C-A924-1AAFDD8427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E0E5-C029-4E31-B568-77D5A999A2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9902-8C90-446D-BBC6-CB5BED66C33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1F10-DA4C-41DA-824E-0F9895D82C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CE12-E433-4DF5-818D-BD52D9D7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2320-19AF-40A5-A9A7-1DD6BFB3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0CCB-5D48-4213-B31D-3CD14144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1104-1EA1-458B-9A2D-0BFABB01D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0C63-087D-4002-98BF-FCD15500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76BE-AE69-48FF-8285-79932329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BF51-E554-4D52-8B66-4E786BBC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DDD9-7DA0-4145-9C6C-75A30090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0B14-140A-4567-A57F-FEC5E2B6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0AF2-6308-45EA-96A2-ECD80F27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2D88-341C-4677-A015-F8D96434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6854-5EC6-4AAB-B1A9-9B12FB3B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B473-F1DE-4777-B789-3BB0429B98B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015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6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9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4854600" cy="505620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28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950240" cy="50371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8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3552840" cy="504360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6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357520" cy="49579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7"/>
          <p:cNvSpPr/>
          <p:nvPr/>
        </p:nvSpPr>
        <p:spPr>
          <a:xfrm>
            <a:off x="1043640" y="6156360"/>
            <a:ext cx="696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BC est un triangle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isocèle en 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6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799400" cy="47088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7"/>
          <p:cNvSpPr/>
          <p:nvPr/>
        </p:nvSpPr>
        <p:spPr>
          <a:xfrm>
            <a:off x="827640" y="5950080"/>
            <a:ext cx="741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BC est un triangle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ectangle en B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6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902200" cy="50688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7"/>
          <p:cNvSpPr/>
          <p:nvPr/>
        </p:nvSpPr>
        <p:spPr>
          <a:xfrm>
            <a:off x="951120" y="6321600"/>
            <a:ext cx="663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BC est un triangle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équilatér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7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888240" cy="5038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8"/>
          <p:cNvSpPr/>
          <p:nvPr/>
        </p:nvSpPr>
        <p:spPr>
          <a:xfrm>
            <a:off x="360" y="6156360"/>
            <a:ext cx="93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BC est un triangle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ectangle et isocèle en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7"/>
          <p:cNvSpPr/>
          <p:nvPr/>
        </p:nvSpPr>
        <p:spPr>
          <a:xfrm>
            <a:off x="1116360" y="6156360"/>
            <a:ext cx="663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BC est un triangle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équilatér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8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5084640" cy="503892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23640" y="2492280"/>
            <a:ext cx="881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r à vue d’œil, la nature des triang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uiva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5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769000" cy="50389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6"/>
          <p:cNvSpPr/>
          <p:nvPr/>
        </p:nvSpPr>
        <p:spPr>
          <a:xfrm>
            <a:off x="756360" y="6156360"/>
            <a:ext cx="741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BC est un triangle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ectangle en B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6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888240" cy="5040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7"/>
          <p:cNvSpPr/>
          <p:nvPr/>
        </p:nvSpPr>
        <p:spPr>
          <a:xfrm>
            <a:off x="720" y="6156360"/>
            <a:ext cx="948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BC est un triangle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ectangle et isocèle en 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6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4854600" cy="50562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7"/>
          <p:cNvSpPr/>
          <p:nvPr/>
        </p:nvSpPr>
        <p:spPr>
          <a:xfrm>
            <a:off x="900360" y="6156360"/>
            <a:ext cx="663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BC est un triangle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équilatér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6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950240" cy="5037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7"/>
          <p:cNvSpPr/>
          <p:nvPr/>
        </p:nvSpPr>
        <p:spPr>
          <a:xfrm>
            <a:off x="735840" y="6060960"/>
            <a:ext cx="741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BC est un triangle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ectangle en B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6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3552840" cy="50436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27"/>
          <p:cNvSpPr/>
          <p:nvPr/>
        </p:nvSpPr>
        <p:spPr>
          <a:xfrm>
            <a:off x="592920" y="5987880"/>
            <a:ext cx="696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BC est un triangle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isocèle en 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2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357520" cy="49579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8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799400" cy="470844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6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902200" cy="506880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6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888240" cy="50389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8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5084640" cy="50389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8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769000" cy="503892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8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888240" cy="504036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2-10T19:28:24Z</dcterms:modified>
  <cp:revision>18</cp:revision>
  <dc:subject/>
  <dc:title>Diapositive 1</dc:title>
</cp:coreProperties>
</file>