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A51-98B6-492F-B4AE-CAF7CC70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79C-86F5-4D37-9FC6-57DBFBEF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E6C-8D16-4F22-888C-C3D9E76D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397-9757-4BAD-B64E-8AC040B3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75C-889D-4758-8973-2DBC1BE8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682-5F46-4F33-A90A-2DAB89FD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3A0-2D50-4656-A94E-39EAB2A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6AD-38E3-417A-978F-5792D51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56D-CBB6-447A-8241-B625ED58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CEA-988D-4522-BD4C-4E305E4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2A4-45C1-495E-AC73-C31D3A5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05E-2A63-4675-82FD-CD5FC765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66B-F902-4059-B661-EA30C614C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411280" y="2529000"/>
            <a:ext cx="4467240" cy="43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3080" y="1355760"/>
            <a:ext cx="778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gment [CI] 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" y="1355760"/>
            <a:ext cx="89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H et P sont symétriques par rapport 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d), comment appelle-t-on encore c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xe de symétr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064480" cy="3801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134136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4320" y="5877000"/>
            <a:ext cx="74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1116000" y="1268280"/>
            <a:ext cx="7329600" cy="456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4680" y="5877000"/>
            <a:ext cx="75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H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3800" cy="469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1400" y="5950080"/>
            <a:ext cx="88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ymétrique du segment [CD] est le segmen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[FH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2050920" y="1268280"/>
            <a:ext cx="5276880" cy="422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7120" y="5460840"/>
            <a:ext cx="90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GP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d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DE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132160" cy="433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0960" y="558324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ercle bl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9240" y="567684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B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06064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8880" y="5676840"/>
            <a:ext cx="88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F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8880" y="567684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195640" y="1268280"/>
            <a:ext cx="4467240" cy="432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00" y="5667480"/>
            <a:ext cx="88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IC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JO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FK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641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720" y="5268960"/>
            <a:ext cx="79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 [HP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29068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1843200"/>
            <a:ext cx="6815160" cy="50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520" y="1284120"/>
            <a:ext cx="87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CD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1979640" y="26370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800" y="128412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GP] par rapport à la droite (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2521080"/>
            <a:ext cx="5132520" cy="433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4160" y="1284120"/>
            <a:ext cx="84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cer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ge par rapport à la droite (AB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2520" y="1284120"/>
            <a:ext cx="86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1284120"/>
            <a:ext cx="85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2160" y="1284120"/>
            <a:ext cx="86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09T02:21:26Z</dcterms:modified>
  <cp:revision>20</cp:revision>
  <dc:subject/>
  <dc:title>Diapositive 1</dc:title>
</cp:coreProperties>
</file>