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475A-3216-4DA9-A471-8E701ABE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E56B-52CF-4885-BB9B-4F32FC05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2CDB-7636-4F65-A7ED-DFF36CA5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EFE7-5C4C-4E38-8236-EB9D15DB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113E-527C-4122-9605-BDCE399E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4150-23CC-4B11-B682-E5FA1EFB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42F6-E385-4606-96E9-5B5E9F09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0562-1972-4D13-B21D-7B2DD1E1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1EE6-C7D8-4C0C-A713-5AAC69D9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A1C1-1D1A-4397-8AB1-770308E8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647E-23FE-446A-95A5-DAFA5737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C5C3-493C-49B1-B89D-6C2F7699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4DB8-98F8-4F8B-AFB4-2F418CD29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9280" y="1523880"/>
            <a:ext cx="8212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 groupe de 3 filles et de 4 garçons 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ndent au cinéma et rejoignent leurs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mis là-b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combien de personnes est compos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 grou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2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9840" y="1884240"/>
            <a:ext cx="839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ui est ravie. Son frère vient de lu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heter 3 timbres qu’elle va ajouter à 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llection de 1546 timbr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en de timbres possède-t-el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inten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2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340000" y="2708280"/>
          <a:ext cx="47750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708280"/>
                    <a:ext cx="4775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2637000"/>
          <a:ext cx="48387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637000"/>
                    <a:ext cx="48387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627280" y="2708280"/>
          <a:ext cx="38354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2708280"/>
                    <a:ext cx="3835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700360" y="2708280"/>
          <a:ext cx="3898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708280"/>
                    <a:ext cx="3898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55640" y="2781360"/>
          <a:ext cx="75182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781360"/>
                    <a:ext cx="7518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68360" y="2708280"/>
          <a:ext cx="52452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708280"/>
                    <a:ext cx="52452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6720" y="1844640"/>
            <a:ext cx="874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eva a 250F en poche. Son père lui don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100F de plus. Combien Teva possède t-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mainten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2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979640" y="2708280"/>
          <a:ext cx="51814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708280"/>
                    <a:ext cx="5181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476360" y="2708280"/>
          <a:ext cx="6184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08280"/>
                    <a:ext cx="6184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700360" y="2708280"/>
          <a:ext cx="35942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708280"/>
                    <a:ext cx="3594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340000" y="2708280"/>
          <a:ext cx="4660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708280"/>
                    <a:ext cx="4660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440" y="1773360"/>
            <a:ext cx="916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nia se rend au magasin avec 500F p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heter un paquet de biscuit qui coûte 280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en lui-reste-t-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2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1739880"/>
            <a:ext cx="9023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ui possède 6 billes bleus, 3 billes rou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t 2 billes jaunes. Combien de bil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sède-t-il en t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2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6720" y="1812960"/>
            <a:ext cx="8253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Hereiti aime les fleurs. Dans son jardi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elle compte 6 roses, 7 tulipes et 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rchidées. Combien de fleurs y’a-t-i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ans  son jard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2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720" y="1668600"/>
            <a:ext cx="8774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Moana fait du « va’a ». Il rame depuis l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inte venus jusqu’à Arue où il fait demi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our. Sachant qu’il met 20 minutes p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rriver à Arue, et 27 minutes pour reven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 est le temps total de sa cou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2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42920" y="3933720"/>
            <a:ext cx="6675480" cy="2573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0720" y="1379520"/>
            <a:ext cx="877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=5cm et PB=2cm. Quelle est le me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u segment [AB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2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4360" y="3357720"/>
            <a:ext cx="7931160" cy="2282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9280" y="1379520"/>
            <a:ext cx="738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M=3cm et BC=9cm. Quelle est 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sure du segment [MC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2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3840" y="1379520"/>
            <a:ext cx="749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 jardinier doit clôturer un terra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iangulai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32000" y="2060640"/>
            <a:ext cx="4357800" cy="3611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3120" y="5629320"/>
            <a:ext cx="791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en de mètres de grillage doit-i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évo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2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7-13T19:44:10Z</dcterms:modified>
  <cp:revision>17</cp:revision>
  <dc:subject/>
  <dc:title>Diapositive 1</dc:title>
</cp:coreProperties>
</file>