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5B7-B5AB-48B5-8CEC-BCB6CC1D18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9DC-31A8-4C71-A532-A67A01B537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76A-284B-47FC-8ADE-7D36AD6A8F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E106-B402-4F01-A7AA-5ADD4D533B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652-47A6-46B2-86D2-6873362541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1552-B756-4D0D-9E80-4D6CEAFBDF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AD9-E783-444A-8411-1A8677E65A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3234-ED80-4941-98BE-97254DE693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8C05-DD05-41F8-9288-C9A1B6DE96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C139-7BAB-4910-AABC-B004A08592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0360-FAAC-4707-A9DD-D53B8988A8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A2A-CB98-443A-B650-0EC298E52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F1E7-7EF7-400D-BF1A-7E4E267C8B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9638-F74A-454F-BB4E-868AA0717B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5B9-BA54-4931-868E-4B44D563CA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8AD-0077-4D46-B57E-FFBEDF0913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4EBA-5973-4BB4-A96B-770D5BCD80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4F0-C48D-46ED-AB36-471B6E38C4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43B-C7DB-4607-A0BB-AF23625150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DA5-D056-426B-9CCB-014F1006B6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EDF8-1719-4EEE-B83E-3A7954FE41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FC53-3A53-4B3E-9932-EB50E2E7E3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E53-1160-4D28-A9C7-747715814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398-6780-4284-8201-CABF1C89BA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489-A097-4F1E-9F97-4750C49D3D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3A71-824D-4CF2-8BFA-FA450EF353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ABE-210B-4908-A69B-1DAC952C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F5E-7F3B-4606-9EF9-B1B0996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0CB-2A85-4A1F-96BC-A5ADFF47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DEE-CCB5-41E3-A79F-1D9F272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C5B-24FD-4B19-89B9-AA99D36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3F0-AC2C-4498-BF5B-4A73630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42E-23DE-47A0-B7B7-445C826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B76-05AA-402B-B803-997992F1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77-6FCF-4A5E-AB8F-777989B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2D1-D879-4CBD-B6B0-47C1128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7FA-8E97-4272-A1B0-4D8E1E1E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47E-6298-46EF-B1D8-E985BF6E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631-702A-46B6-9811-1B026E5B2C6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9"/>
          <p:cNvGraphicFramePr/>
          <p:nvPr/>
        </p:nvGraphicFramePr>
        <p:xfrm>
          <a:off x="1619280" y="3429000"/>
          <a:ext cx="589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89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8"/>
          <p:cNvGraphicFramePr/>
          <p:nvPr/>
        </p:nvGraphicFramePr>
        <p:xfrm>
          <a:off x="1619280" y="3429000"/>
          <a:ext cx="55627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562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28"/>
          <p:cNvGraphicFramePr/>
          <p:nvPr/>
        </p:nvGraphicFramePr>
        <p:xfrm>
          <a:off x="1403280" y="3429000"/>
          <a:ext cx="594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594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1473120" y="3067200"/>
          <a:ext cx="6197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67200"/>
                    <a:ext cx="6197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7"/>
          <p:cNvGraphicFramePr/>
          <p:nvPr/>
        </p:nvGraphicFramePr>
        <p:xfrm>
          <a:off x="1204920" y="3429000"/>
          <a:ext cx="6121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429000"/>
                    <a:ext cx="612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26"/>
          <p:cNvGraphicFramePr/>
          <p:nvPr/>
        </p:nvGraphicFramePr>
        <p:xfrm>
          <a:off x="1168560" y="3067200"/>
          <a:ext cx="68068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3067200"/>
                    <a:ext cx="68068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216160" y="3067200"/>
          <a:ext cx="47116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067200"/>
                    <a:ext cx="47116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37"/>
          <p:cNvGraphicFramePr/>
          <p:nvPr/>
        </p:nvGraphicFramePr>
        <p:xfrm>
          <a:off x="2692440" y="3067200"/>
          <a:ext cx="37591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3067200"/>
                    <a:ext cx="37591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32920" y="1308240"/>
            <a:ext cx="846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chaque multiplication, plac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irgule correctement dans le chiffre éc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rou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5"/>
          <p:cNvGraphicFramePr/>
          <p:nvPr/>
        </p:nvGraphicFramePr>
        <p:xfrm>
          <a:off x="2305080" y="3067200"/>
          <a:ext cx="453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067200"/>
                    <a:ext cx="453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6"/>
          <p:cNvGraphicFramePr/>
          <p:nvPr/>
        </p:nvGraphicFramePr>
        <p:xfrm>
          <a:off x="1860480" y="3067200"/>
          <a:ext cx="54230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067200"/>
                    <a:ext cx="54230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26"/>
          <p:cNvGraphicFramePr/>
          <p:nvPr/>
        </p:nvGraphicFramePr>
        <p:xfrm>
          <a:off x="1689120" y="3067200"/>
          <a:ext cx="5765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067200"/>
                    <a:ext cx="5765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1619280" y="3429000"/>
          <a:ext cx="593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93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8"/>
          <p:cNvGraphicFramePr/>
          <p:nvPr/>
        </p:nvGraphicFramePr>
        <p:xfrm>
          <a:off x="1332000" y="3429000"/>
          <a:ext cx="586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586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6"/>
          <p:cNvGraphicFramePr/>
          <p:nvPr/>
        </p:nvGraphicFramePr>
        <p:xfrm>
          <a:off x="1258920" y="3429000"/>
          <a:ext cx="65660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566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6"/>
          <p:cNvGraphicFramePr/>
          <p:nvPr/>
        </p:nvGraphicFramePr>
        <p:xfrm>
          <a:off x="2124000" y="3429000"/>
          <a:ext cx="4597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59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8"/>
          <p:cNvGraphicFramePr/>
          <p:nvPr/>
        </p:nvGraphicFramePr>
        <p:xfrm>
          <a:off x="2268360" y="3357720"/>
          <a:ext cx="35053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505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2050920" y="3429000"/>
          <a:ext cx="4368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429000"/>
                    <a:ext cx="436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28"/>
          <p:cNvGraphicFramePr/>
          <p:nvPr/>
        </p:nvGraphicFramePr>
        <p:xfrm>
          <a:off x="1763640" y="3429000"/>
          <a:ext cx="518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429000"/>
                    <a:ext cx="518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1T18:19:34Z</dcterms:modified>
  <cp:revision>19</cp:revision>
  <dc:subject/>
  <dc:title>Diapositive 1</dc:title>
</cp:coreProperties>
</file>