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0D7-7031-4BF7-B554-7FF4FC9F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7A6-E29F-4A53-AB12-1C288B46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61E-798D-461E-B6E8-B23DDCD5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FCF-D5FD-4569-A39A-8CDF9EF9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D49-0DF3-4387-88FF-58C358D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F59-1875-4423-B169-7C36ED0A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B80-AD8E-4D77-8777-B30E4E48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31F-F390-4012-A042-AEA4B828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34B-BD7E-43A1-B1EF-59AD6094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87C-CFB4-45A4-9CAB-CF4543CA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BA6-551B-428A-8212-6FFAAF8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612-6C1E-46D6-B1AC-A5B03182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8DCD-B02C-4535-A473-9B89B6B4A08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21164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284720" y="4221000"/>
          <a:ext cx="21844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21844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211640" y="198900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140360" y="4221000"/>
          <a:ext cx="17906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221000"/>
                    <a:ext cx="17906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472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284720" y="4149720"/>
          <a:ext cx="1778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778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708360" y="206064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08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95640" y="198900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48000" y="2133720"/>
          <a:ext cx="3949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348000" y="4221000"/>
          <a:ext cx="3898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98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8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348000" y="2060640"/>
          <a:ext cx="3632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348000" y="4221000"/>
          <a:ext cx="36702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6702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780000" y="1989000"/>
          <a:ext cx="3288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780000" y="4221000"/>
          <a:ext cx="3213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13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708360" y="2060640"/>
          <a:ext cx="3225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225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780000" y="4149720"/>
          <a:ext cx="3288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1164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46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84720" y="213372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133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11640" y="414972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2133720"/>
          <a:ext cx="2197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133720"/>
                    <a:ext cx="2197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95640" y="4221000"/>
          <a:ext cx="2108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108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567,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345, quel est le chiff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5,67 quel est le nomb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986,12 quel est le nomb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68,92 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136,087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9,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49,06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4T21:25:15Z</dcterms:modified>
  <cp:revision>18</cp:revision>
  <dc:subject/>
  <dc:title>Diapositive 1</dc:title>
</cp:coreProperties>
</file>