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985-F4B3-4E9B-834F-A96CC4F3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2F8-DD78-4965-9587-0168086F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FA4-3A2F-45C1-9169-023E3C62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44F-FA40-4212-B3EA-33124564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A82-5CFD-4813-A8F7-5986C0A2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FB0-7AC4-4575-AF1C-18F2DBF8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083-6283-4CF1-86CE-F967B440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79A-93DD-4F75-98C7-B265997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31B-12D3-4BE9-927C-9EA4F390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4BE-7B25-4F6F-87D4-21F9BB9D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828-8C7D-42A3-8B4A-1E373CBA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869-057B-4393-AECA-62B11D5D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BF32-3D85-4C59-8D3F-DC85D7E6B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7280" y="5268960"/>
            <a:ext cx="70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esure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02720" cy="4692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1080" y="5950080"/>
            <a:ext cx="70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esure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619280" y="1268280"/>
            <a:ext cx="6143760" cy="4507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4880" y="5629320"/>
            <a:ext cx="83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et angle se nomme             ou          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27640" y="5589720"/>
          <a:ext cx="1562040" cy="85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5589720"/>
                    <a:ext cx="15620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516720" y="5589720"/>
          <a:ext cx="140976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720" y="5589720"/>
                    <a:ext cx="14097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459640" y="5589720"/>
          <a:ext cx="52092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9640" y="5589720"/>
                    <a:ext cx="520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763640" y="1268280"/>
            <a:ext cx="6143760" cy="450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2360" y="5805360"/>
            <a:ext cx="79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sommet de cet angle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le poin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692360" y="1268280"/>
            <a:ext cx="6143400" cy="4507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20" y="5546880"/>
            <a:ext cx="920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de cet angles sont les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emi-dro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[BA) et [BC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85320" y="5556240"/>
            <a:ext cx="86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et angle se nomme             ou            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40360" y="5589720"/>
          <a:ext cx="1600200" cy="85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5589720"/>
                    <a:ext cx="16002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372360" y="5589720"/>
          <a:ext cx="152388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72360" y="5589720"/>
                    <a:ext cx="15238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8458200" y="5734080"/>
          <a:ext cx="68580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8200" y="5734080"/>
                    <a:ext cx="685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5445000"/>
            <a:ext cx="79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sommet de cet angle est l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oint 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91440" y="5484960"/>
            <a:ext cx="90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de cet angle sont les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emi-dro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[HG) et [HT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06064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1341360"/>
            <a:ext cx="58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 un nom de cet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19800" cy="401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3440" y="548496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3440" y="5629320"/>
            <a:ext cx="10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O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70160" y="5373720"/>
            <a:ext cx="46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 mesur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9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02720" cy="4692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2360" y="5877000"/>
            <a:ext cx="49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 mesur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11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35116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17440" y="134136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ommet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20500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360" y="1341360"/>
            <a:ext cx="69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s sont les côtés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0000" y="1341360"/>
            <a:ext cx="58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 un nom de cet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7440" y="134136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ommet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16360" y="1341360"/>
            <a:ext cx="69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s sont les côtés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19800" cy="4019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8920" y="52689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rapporteur est-il bien placé pour mesu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600" y="530064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rapporteur est-il bien placé pour mesu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8-09T16:16:32Z</dcterms:modified>
  <cp:revision>20</cp:revision>
  <dc:subject/>
  <dc:title>Diapositive 1</dc:title>
</cp:coreProperties>
</file>