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413-B41A-490F-9F1C-079BE2F9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276-A80D-4CAC-A5E6-F7E5B73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07E-F02D-4154-B5DF-B7B92CF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D6E-56B8-4F26-AC62-53B5896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563-4EE3-44D8-AC0F-36B9F890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E8B-4672-41B9-82E0-FF6C7070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048-702F-42DC-8F50-89F0565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055-E20D-44F8-AE3C-E7764AD2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862-4E35-4538-90C9-25710E7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AFE-7E52-47B0-AE10-6255E00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A41-22A1-4D25-88BA-C5211BF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D22-A8EA-40D5-8A9D-7DC92A7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906-FD80-4BF1-A8B6-9B4849CA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87640" y="3645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10360" y="1739880"/>
            <a:ext cx="79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par une phrase en français, 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es mathématiques suivant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200" y="1884240"/>
            <a:ext cx="77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points A, B et C sont-ils aligné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400640" cy="3557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3202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5840" y="5916600"/>
            <a:ext cx="81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 leur point d’inter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05620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987640" y="5734080"/>
          <a:ext cx="289548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5734080"/>
                    <a:ext cx="289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32000" y="1700280"/>
          <a:ext cx="2781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700280"/>
                    <a:ext cx="2781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9080" y="1557360"/>
            <a:ext cx="32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5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13440" y="1700280"/>
            <a:ext cx="393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14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360" y="2060640"/>
            <a:ext cx="720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32000" y="3645000"/>
          <a:ext cx="2324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645000"/>
                    <a:ext cx="2324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87640" y="2421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80" y="4221000"/>
            <a:ext cx="89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F appartient à la demi-droite [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55736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les points A, B et C ne sont pas align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000320" cy="4186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234144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" y="1211400"/>
            <a:ext cx="90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 la figure ci-dessous, se trouvent deux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écantes, quel est leur point d’inters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…….(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79640" y="2540160"/>
            <a:ext cx="5056200" cy="4317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…..[BC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360" y="145260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AB=10cm, compléter AI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440" y="1557360"/>
            <a:ext cx="80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IB=7cm, compléter AB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560" y="2028960"/>
            <a:ext cx="720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cris en symbole mathémati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2:52Z</dcterms:modified>
  <cp:revision>27</cp:revision>
  <dc:subject/>
  <dc:title>Diapositive 1</dc:title>
</cp:coreProperties>
</file>