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8.wmf" ContentType="image/x-wmf"/>
  <Override PartName="/ppt/media/image13.png" ContentType="image/png"/>
  <Override PartName="/ppt/media/image7.wmf" ContentType="image/x-wmf"/>
  <Override PartName="/ppt/media/image12.png" ContentType="image/png"/>
  <Override PartName="/ppt/media/image6.wmf" ContentType="image/x-wmf"/>
  <Override PartName="/ppt/media/image11.png" ContentType="image/png"/>
  <Override PartName="/ppt/media/image5.wmf" ContentType="image/x-wmf"/>
  <Override PartName="/ppt/media/image10.png" ContentType="image/png"/>
  <Override PartName="/ppt/media/image28.wmf" ContentType="image/x-wmf"/>
  <Override PartName="/ppt/media/image4.wmf" ContentType="image/x-wmf"/>
  <Override PartName="/ppt/media/image27.wmf" ContentType="image/x-wmf"/>
  <Override PartName="/ppt/media/image3.wmf" ContentType="image/x-wmf"/>
  <Override PartName="/ppt/media/image26.wmf" ContentType="image/x-wmf"/>
  <Override PartName="/ppt/media/image23.wmf" ContentType="image/x-wmf"/>
  <Override PartName="/ppt/media/image22.wmf" ContentType="image/x-wmf"/>
  <Override PartName="/ppt/media/image20.wmf" ContentType="image/x-wmf"/>
  <Override PartName="/ppt/media/image21.wmf" ContentType="image/x-wmf"/>
  <Override PartName="/ppt/media/image19.wmf" ContentType="image/x-wmf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wmf" ContentType="image/x-wmf"/>
  <Override PartName="/ppt/media/image25.wmf" ContentType="image/x-wmf"/>
  <Override PartName="/ppt/media/image1.wmf" ContentType="image/x-wmf"/>
  <Override PartName="/ppt/media/image2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ED9C8-225B-47BB-81FA-1F15FD89682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4FD16-EA28-4787-8A6E-E14BCD3DFE5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F7CA4-122A-4192-B7C4-F70C59D35D5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34469-7ACF-435A-B4D2-6AA8319E6A9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D2621-156F-4C7F-AB2A-54C6CB7A3D8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FD4E5-FE74-4B0B-B0A1-43F2E445688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E795E-61DA-4B1D-B95D-7370EFB665E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F452F-DD77-451E-8F47-0BD9112747F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B0596-2ABC-4D56-8ED3-B2BFE17C448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D6100-FE49-470F-9FB4-D9AF328698A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EFD69-BEDD-4E24-84F4-1CCBC7CD54C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7D125-95DC-4CA2-BE3C-A5A9CC5A6FC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2BF9B-3E1D-45FF-9F0B-0A579D7CEC6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17817-F499-45CD-BB75-2F5550A1D47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0C179-9F9D-4FFE-9F0F-7A4D5DEF8FE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F5B8B-07F7-47CF-8C94-6A7085A5EFE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7152E-3B86-474D-A2DA-BEF0BC5DAF1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F00F4-850E-42A4-94B3-37FBE099C1F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75B86-C9A7-440E-8F4E-7CA8422AD11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AF8D9-6FA9-4AAE-8A5F-06D8FFE8765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902C4-441A-4C19-A749-F4DD0A7AEFA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48C80-5836-4A34-B852-40C70EFA405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9F232-FFD7-41E9-9710-5A44192812D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B9E09-42C0-4878-AD50-1876522C652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7D188-F638-4F2B-8EED-720ED51FCF1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5C435-2BC2-4020-A1B4-55059E314EB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3D2D5-0584-4AD6-8176-A7083A70C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FB010-A2A0-4235-B535-F6426F4AC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8E535-E5C8-4851-8C41-DFFE13621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556F0-295C-434B-9FF3-6A7590E9F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0A31C-6FA5-4CF4-8137-4BE9D3304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2A1BA-F01B-4D0E-A7E5-9B959D298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CC057-F7C2-446F-A51A-69C3303EB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7B2D3-73F6-4DCA-A007-804B7A897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6F588-B264-4D85-9125-354BD19CF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BBC85-67F3-44E5-B34E-74F182438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17A50-93A7-49A8-B6FE-9EBCEF913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8F62A-3A45-4DD8-BE87-1E5DEA420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D937A-3C9A-44AA-9B93-9B267FD419D0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7"/>
          <p:cNvSpPr/>
          <p:nvPr/>
        </p:nvSpPr>
        <p:spPr>
          <a:xfrm>
            <a:off x="100800" y="1484280"/>
            <a:ext cx="8982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</a:rPr>
              <a:t>Activités mentales 6</a:t>
            </a:r>
            <a:r>
              <a:rPr b="1" lang="fr-FR" sz="6600" spc="-1" strike="noStrike" baseline="30000">
                <a:solidFill>
                  <a:srgbClr val="000000"/>
                </a:solidFill>
                <a:latin typeface="Times New Roman"/>
              </a:rPr>
              <a:t>ème</a:t>
            </a:r>
            <a:r>
              <a:rPr b="1" lang="fr-FR" sz="6600" spc="-1" strike="noStrike">
                <a:solidFill>
                  <a:srgbClr val="000000"/>
                </a:solidFill>
                <a:latin typeface="Times New Roman"/>
              </a:rPr>
              <a:t>  6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8"/>
          <p:cNvSpPr/>
          <p:nvPr/>
        </p:nvSpPr>
        <p:spPr>
          <a:xfrm>
            <a:off x="2407320" y="4100400"/>
            <a:ext cx="4739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imes New Roman"/>
              </a:rPr>
              <a:t>Prenez un stylo ble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120"/>
                                  </p:iterate>
                                  <p:childTnLst>
                                    <p:set>
                                      <p:cBhvr>
                                        <p:cTn id="6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7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8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520"/>
                            </p:stCondLst>
                            <p:childTnLst>
                              <p:par>
                                <p:cTn id="1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4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179280" y="1397160"/>
          <a:ext cx="8856720" cy="4063680"/>
        </p:xfrm>
        <a:graphic>
          <a:graphicData uri="http://schemas.openxmlformats.org/drawingml/2006/table">
            <a:tbl>
              <a:tblPr/>
              <a:tblGrid>
                <a:gridCol w="1656000"/>
                <a:gridCol w="72007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re l’abscisse du point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re l’abscisse du point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5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21" descr=""/>
          <p:cNvPicPr/>
          <p:nvPr/>
        </p:nvPicPr>
        <p:blipFill>
          <a:blip r:embed="rId1"/>
          <a:stretch/>
        </p:blipFill>
        <p:spPr>
          <a:xfrm>
            <a:off x="2195640" y="2205000"/>
            <a:ext cx="6262560" cy="10875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2" descr=""/>
          <p:cNvPicPr/>
          <p:nvPr/>
        </p:nvPicPr>
        <p:blipFill>
          <a:blip r:embed="rId2"/>
          <a:stretch/>
        </p:blipFill>
        <p:spPr>
          <a:xfrm>
            <a:off x="2124000" y="4292640"/>
            <a:ext cx="6175440" cy="866880"/>
          </a:xfrm>
          <a:prstGeom prst="rect">
            <a:avLst/>
          </a:prstGeom>
          <a:ln w="0">
            <a:noFill/>
          </a:ln>
        </p:spPr>
      </p:pic>
    </p:spTree>
  </p:cSld>
  <p:transition advTm="23000">
    <p:cover dir="r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81" dur="20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199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4"/>
          <p:cNvSpPr/>
          <p:nvPr/>
        </p:nvSpPr>
        <p:spPr>
          <a:xfrm>
            <a:off x="3636000" y="260280"/>
            <a:ext cx="22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9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179280" y="1397160"/>
          <a:ext cx="8785440" cy="4063680"/>
        </p:xfrm>
        <a:graphic>
          <a:graphicData uri="http://schemas.openxmlformats.org/drawingml/2006/table">
            <a:tbl>
              <a:tblPr/>
              <a:tblGrid>
                <a:gridCol w="1728720"/>
                <a:gridCol w="70567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re l’abscisse du point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re l’abscisse du point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0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icture 23" descr=""/>
          <p:cNvPicPr/>
          <p:nvPr/>
        </p:nvPicPr>
        <p:blipFill>
          <a:blip r:embed="rId1"/>
          <a:stretch/>
        </p:blipFill>
        <p:spPr>
          <a:xfrm>
            <a:off x="2195640" y="2276640"/>
            <a:ext cx="6046560" cy="917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24" descr=""/>
          <p:cNvPicPr/>
          <p:nvPr/>
        </p:nvPicPr>
        <p:blipFill>
          <a:blip r:embed="rId2"/>
          <a:stretch/>
        </p:blipFill>
        <p:spPr>
          <a:xfrm>
            <a:off x="2124000" y="4292640"/>
            <a:ext cx="6305760" cy="871560"/>
          </a:xfrm>
          <a:prstGeom prst="rect">
            <a:avLst/>
          </a:prstGeom>
          <a:ln w="0">
            <a:noFill/>
          </a:ln>
        </p:spPr>
      </p:pic>
    </p:spTree>
  </p:cSld>
  <p:transition advTm="23000">
    <p:cover dir="r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88" dur="20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199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4"/>
          <p:cNvSpPr/>
          <p:nvPr/>
        </p:nvSpPr>
        <p:spPr>
          <a:xfrm>
            <a:off x="3636000" y="260280"/>
            <a:ext cx="26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179280" y="1397160"/>
          <a:ext cx="8856720" cy="4063680"/>
        </p:xfrm>
        <a:graphic>
          <a:graphicData uri="http://schemas.openxmlformats.org/drawingml/2006/table">
            <a:tbl>
              <a:tblPr/>
              <a:tblGrid>
                <a:gridCol w="1728720"/>
                <a:gridCol w="712800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re l’abscisse du point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re l’abscisse du point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5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icture 21" descr=""/>
          <p:cNvPicPr/>
          <p:nvPr/>
        </p:nvPicPr>
        <p:blipFill>
          <a:blip r:embed="rId1"/>
          <a:stretch/>
        </p:blipFill>
        <p:spPr>
          <a:xfrm>
            <a:off x="2268360" y="2276640"/>
            <a:ext cx="6110640" cy="8953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22" descr=""/>
          <p:cNvPicPr/>
          <p:nvPr/>
        </p:nvPicPr>
        <p:blipFill>
          <a:blip r:embed="rId2"/>
          <a:stretch/>
        </p:blipFill>
        <p:spPr>
          <a:xfrm>
            <a:off x="2124000" y="4221000"/>
            <a:ext cx="6089760" cy="1022400"/>
          </a:xfrm>
          <a:prstGeom prst="rect">
            <a:avLst/>
          </a:prstGeom>
          <a:ln w="0">
            <a:noFill/>
          </a:ln>
        </p:spPr>
      </p:pic>
    </p:spTree>
  </p:cSld>
  <p:transition advTm="23000">
    <p:cover dir="r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95" dur="20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199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4"/>
          <p:cNvSpPr/>
          <p:nvPr/>
        </p:nvSpPr>
        <p:spPr>
          <a:xfrm>
            <a:off x="3566880" y="549360"/>
            <a:ext cx="245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On s’arrê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2484720" y="2276640"/>
            <a:ext cx="465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Posez votre stylo bleu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6"/>
          <p:cNvSpPr/>
          <p:nvPr/>
        </p:nvSpPr>
        <p:spPr>
          <a:xfrm>
            <a:off x="2125080" y="4149720"/>
            <a:ext cx="513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Prenez votre stylo </a:t>
            </a:r>
            <a:r>
              <a:rPr b="0" lang="fr-FR" sz="4000" spc="-1" strike="noStrike">
                <a:solidFill>
                  <a:srgbClr val="cc0000"/>
                </a:solidFill>
                <a:latin typeface="Times New Roman"/>
              </a:rPr>
              <a:t>rou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155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" dur="1155" fill="hold"/>
                                        <p:tgtEl>
                                          <p:spTgt spid="10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5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6" dur="1155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7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8" dur="1155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155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5" dur="1155" fill="hold"/>
                                        <p:tgtEl>
                                          <p:spTgt spid="10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6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7" dur="1155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8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9" dur="1155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0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155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6" dur="1155" fill="hold"/>
                                        <p:tgtEl>
                                          <p:spTgt spid="11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7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8" dur="1155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0" dur="1155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1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4"/>
          <p:cNvSpPr/>
          <p:nvPr/>
        </p:nvSpPr>
        <p:spPr>
          <a:xfrm>
            <a:off x="2050200" y="2155680"/>
            <a:ext cx="496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cc0000"/>
                </a:solidFill>
                <a:latin typeface="Comic Sans MS"/>
              </a:rPr>
              <a:t>CORRECT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3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3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3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44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4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5" name="Object 15"/>
          <p:cNvGraphicFramePr/>
          <p:nvPr/>
        </p:nvGraphicFramePr>
        <p:xfrm>
          <a:off x="3419640" y="1557360"/>
          <a:ext cx="3835080" cy="170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19640" y="1557360"/>
                    <a:ext cx="3835080" cy="170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7" name="Object 16"/>
          <p:cNvGraphicFramePr/>
          <p:nvPr/>
        </p:nvGraphicFramePr>
        <p:xfrm>
          <a:off x="3419640" y="3573360"/>
          <a:ext cx="3886200" cy="1702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8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19640" y="3573360"/>
                    <a:ext cx="3886200" cy="170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50" dur="5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250920" y="1397160"/>
          <a:ext cx="8642160" cy="4063680"/>
        </p:xfrm>
        <a:graphic>
          <a:graphicData uri="http://schemas.openxmlformats.org/drawingml/2006/table">
            <a:tbl>
              <a:tblPr/>
              <a:tblGrid>
                <a:gridCol w="1728720"/>
                <a:gridCol w="691344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1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2" name="Object 15"/>
          <p:cNvGraphicFramePr/>
          <p:nvPr/>
        </p:nvGraphicFramePr>
        <p:xfrm>
          <a:off x="2411280" y="1989000"/>
          <a:ext cx="624852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11280" y="1989000"/>
                    <a:ext cx="624852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4" name="Object 19"/>
          <p:cNvGraphicFramePr/>
          <p:nvPr/>
        </p:nvGraphicFramePr>
        <p:xfrm>
          <a:off x="2287440" y="4221000"/>
          <a:ext cx="6286680" cy="597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5" name="Object 1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7440" y="4221000"/>
                    <a:ext cx="6286680" cy="59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8000">
    <p:cover dir="r"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57" dur="15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149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8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Object 15"/>
          <p:cNvGraphicFramePr/>
          <p:nvPr/>
        </p:nvGraphicFramePr>
        <p:xfrm>
          <a:off x="3182760" y="2133720"/>
          <a:ext cx="397512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82760" y="2133720"/>
                    <a:ext cx="397512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Object 16"/>
          <p:cNvGraphicFramePr/>
          <p:nvPr/>
        </p:nvGraphicFramePr>
        <p:xfrm>
          <a:off x="3708360" y="4221000"/>
          <a:ext cx="3124080" cy="597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2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08360" y="4221000"/>
                    <a:ext cx="3124080" cy="59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64" dur="5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5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6" name="Object 15"/>
          <p:cNvGraphicFramePr/>
          <p:nvPr/>
        </p:nvGraphicFramePr>
        <p:xfrm>
          <a:off x="3851280" y="2060640"/>
          <a:ext cx="288288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51280" y="2060640"/>
                    <a:ext cx="288288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8" name="Object 16"/>
          <p:cNvGraphicFramePr/>
          <p:nvPr/>
        </p:nvGraphicFramePr>
        <p:xfrm>
          <a:off x="3924360" y="4149720"/>
          <a:ext cx="2819520" cy="59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9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24360" y="4149720"/>
                    <a:ext cx="281952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71" dur="5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2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3" name="Object 15"/>
          <p:cNvGraphicFramePr/>
          <p:nvPr/>
        </p:nvGraphicFramePr>
        <p:xfrm>
          <a:off x="3564000" y="2060640"/>
          <a:ext cx="3187800" cy="58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64000" y="2060640"/>
                    <a:ext cx="3187800" cy="5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5" name="Object 16"/>
          <p:cNvGraphicFramePr/>
          <p:nvPr/>
        </p:nvGraphicFramePr>
        <p:xfrm>
          <a:off x="3348000" y="4149720"/>
          <a:ext cx="3949560" cy="59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6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348000" y="4149720"/>
                    <a:ext cx="394956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78" dur="5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1476360" y="981000"/>
          <a:ext cx="6095880" cy="12240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1224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 haut: SUJET A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1403280" y="3716280"/>
          <a:ext cx="6096240" cy="136836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1368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 bas: SUJET B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advTm="13000">
    <p:cover dir="r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" dur="3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" dur="3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60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A(4)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60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B(-3)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9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8000">
    <p:cover dir="r"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85" dur="5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2"/>
          <p:cNvSpPr/>
          <p:nvPr/>
        </p:nvSpPr>
        <p:spPr>
          <a:xfrm>
            <a:off x="3636000" y="260280"/>
            <a:ext cx="22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60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A(6)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60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B(1)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2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8000">
    <p:cover dir="r"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92" dur="5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60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A(-5)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60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B(2)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5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8000">
    <p:cover dir="r"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99" dur="5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9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60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A(-1)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60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B(1)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8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8000">
    <p:cover dir="r"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06" dur="5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2"/>
          <p:cNvSpPr/>
          <p:nvPr/>
        </p:nvSpPr>
        <p:spPr>
          <a:xfrm>
            <a:off x="3636000" y="260280"/>
            <a:ext cx="26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60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A(-2,5)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60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B(3,5)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1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8000">
    <p:cover dir="r"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13" dur="5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4"/>
          <p:cNvSpPr/>
          <p:nvPr/>
        </p:nvSpPr>
        <p:spPr>
          <a:xfrm>
            <a:off x="1095480" y="1751400"/>
            <a:ext cx="7508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808080"/>
                </a:solidFill>
                <a:latin typeface="Times New Roman"/>
              </a:rPr>
              <a:t>Compter le nombre de réponses juste et écrire votre note sur 1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9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ner la fraction décimale de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ner la fraction décimale de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Text Box 27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" name="Object 30"/>
          <p:cNvGraphicFramePr/>
          <p:nvPr/>
        </p:nvGraphicFramePr>
        <p:xfrm>
          <a:off x="5724360" y="1989000"/>
          <a:ext cx="1613160" cy="72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Object 3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24360" y="1989000"/>
                    <a:ext cx="161316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Object 31"/>
          <p:cNvGraphicFramePr/>
          <p:nvPr/>
        </p:nvGraphicFramePr>
        <p:xfrm>
          <a:off x="5580000" y="4149720"/>
          <a:ext cx="1650960" cy="723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8" name="Object 3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580000" y="4149720"/>
                    <a:ext cx="165096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xit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32" dur="10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4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1523880" y="1397160"/>
          <a:ext cx="6096240" cy="407340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43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ange les nombres suivants dans l’ordre décroissant: 34,61,78,41, 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43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ange les nombres suivants dans l’ordre croissant: 63, 93, 60, 32, 7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23000">
    <p:cover dir="r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39" dur="20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199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" name="Object 15"/>
          <p:cNvGraphicFramePr/>
          <p:nvPr/>
        </p:nvGraphicFramePr>
        <p:xfrm>
          <a:off x="4211640" y="2060640"/>
          <a:ext cx="218448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11640" y="2060640"/>
                    <a:ext cx="218448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" name="Object 16"/>
          <p:cNvGraphicFramePr/>
          <p:nvPr/>
        </p:nvGraphicFramePr>
        <p:xfrm>
          <a:off x="4427640" y="4221000"/>
          <a:ext cx="1612800" cy="597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27640" y="4221000"/>
                    <a:ext cx="1612800" cy="59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6" dur="10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1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" name="Object 15"/>
          <p:cNvGraphicFramePr/>
          <p:nvPr/>
        </p:nvGraphicFramePr>
        <p:xfrm>
          <a:off x="4067280" y="2060640"/>
          <a:ext cx="176508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67280" y="2060640"/>
                    <a:ext cx="176508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" name="Object 16"/>
          <p:cNvGraphicFramePr/>
          <p:nvPr/>
        </p:nvGraphicFramePr>
        <p:xfrm>
          <a:off x="4140360" y="4149720"/>
          <a:ext cx="1689120" cy="59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40360" y="4149720"/>
                    <a:ext cx="168912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3" dur="10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4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8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9" name="Object 17"/>
          <p:cNvGraphicFramePr/>
          <p:nvPr/>
        </p:nvGraphicFramePr>
        <p:xfrm>
          <a:off x="4356000" y="2060640"/>
          <a:ext cx="1676520" cy="58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56000" y="2060640"/>
                    <a:ext cx="1676520" cy="5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" name="Object 18"/>
          <p:cNvGraphicFramePr/>
          <p:nvPr/>
        </p:nvGraphicFramePr>
        <p:xfrm>
          <a:off x="4140360" y="4149720"/>
          <a:ext cx="2146320" cy="59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2" name="Object 1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40360" y="4149720"/>
                    <a:ext cx="214632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60" dur="10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4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79280" y="1397160"/>
          <a:ext cx="8713800" cy="4063680"/>
        </p:xfrm>
        <a:graphic>
          <a:graphicData uri="http://schemas.openxmlformats.org/drawingml/2006/table">
            <a:tbl>
              <a:tblPr/>
              <a:tblGrid>
                <a:gridCol w="1800360"/>
                <a:gridCol w="691344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re l’abscisse du point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re l’abscisse du point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Picture 22" descr=""/>
          <p:cNvPicPr/>
          <p:nvPr/>
        </p:nvPicPr>
        <p:blipFill>
          <a:blip r:embed="rId1"/>
          <a:stretch/>
        </p:blipFill>
        <p:spPr>
          <a:xfrm>
            <a:off x="2050920" y="2276640"/>
            <a:ext cx="6640560" cy="7189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3" descr=""/>
          <p:cNvPicPr/>
          <p:nvPr/>
        </p:nvPicPr>
        <p:blipFill>
          <a:blip r:embed="rId2"/>
          <a:stretch/>
        </p:blipFill>
        <p:spPr>
          <a:xfrm>
            <a:off x="2124000" y="4292640"/>
            <a:ext cx="6297840" cy="608040"/>
          </a:xfrm>
          <a:prstGeom prst="rect">
            <a:avLst/>
          </a:prstGeom>
          <a:ln w="0">
            <a:noFill/>
          </a:ln>
        </p:spPr>
      </p:pic>
    </p:spTree>
  </p:cSld>
  <p:transition advTm="23000">
    <p:cover dir="r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67" dur="20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199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4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179280" y="1397160"/>
          <a:ext cx="8713800" cy="4063680"/>
        </p:xfrm>
        <a:graphic>
          <a:graphicData uri="http://schemas.openxmlformats.org/drawingml/2006/table">
            <a:tbl>
              <a:tblPr/>
              <a:tblGrid>
                <a:gridCol w="1728720"/>
                <a:gridCol w="698508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re l’abscisse du point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re l’abscisse du point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0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24" descr=""/>
          <p:cNvPicPr/>
          <p:nvPr/>
        </p:nvPicPr>
        <p:blipFill>
          <a:blip r:embed="rId1"/>
          <a:stretch/>
        </p:blipFill>
        <p:spPr>
          <a:xfrm>
            <a:off x="2411280" y="2133720"/>
            <a:ext cx="5783400" cy="9460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5" descr=""/>
          <p:cNvPicPr/>
          <p:nvPr/>
        </p:nvPicPr>
        <p:blipFill>
          <a:blip r:embed="rId2"/>
          <a:stretch/>
        </p:blipFill>
        <p:spPr>
          <a:xfrm>
            <a:off x="2340000" y="4292640"/>
            <a:ext cx="6237360" cy="866880"/>
          </a:xfrm>
          <a:prstGeom prst="rect">
            <a:avLst/>
          </a:prstGeom>
          <a:ln w="0">
            <a:noFill/>
          </a:ln>
        </p:spPr>
      </p:pic>
    </p:spTree>
  </p:cSld>
  <p:transition advTm="23000">
    <p:cover dir="r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74" dur="20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199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2T02:38:06Z</dcterms:created>
  <dc:creator>JESS</dc:creator>
  <dc:description/>
  <dc:language>en-US</dc:language>
  <cp:lastModifiedBy>Valued Packard Bell Customer</cp:lastModifiedBy>
  <dcterms:modified xsi:type="dcterms:W3CDTF">2010-10-26T19:44:59Z</dcterms:modified>
  <cp:revision>26</cp:revision>
  <dc:subject/>
  <dc:title>Diapositive 1</dc:title>
</cp:coreProperties>
</file>