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6810-B197-4EB8-BA0A-F5D7206D56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2E00-0670-4513-835C-B545BA564E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8B22-CB46-437B-8730-B09895ECD6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0C41-B40C-41DB-A00A-C50F43E8BD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1EDB-C315-4909-B76E-1A255FB26B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CD2F-3EA9-4D1F-82F4-D9C90DFF17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01BF-0D62-4664-A8DC-16E372243B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2B26-67EA-487C-91ED-BC79154F76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628B-F82F-4EA5-9E36-992E7BA3F4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725-D08B-4314-A5B1-62980F790A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60EB-966A-4FFC-9CAD-DA3D05AD5F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3C76-97E6-477D-AC02-4D539ECA59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1BAE-FB18-4E36-8AA1-04D448D96E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8B35-6498-4479-9D93-89E36F19FB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486-887D-4153-8B9F-B12A560855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C8C7-F533-4700-B778-64642A6EB3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31CA-3953-4191-8D09-1E4F00F8AC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1DCA-DF67-463B-AB8E-8476F5CC3C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A36-1AA0-40CE-8B9B-91F64E38D2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CBCB-20D3-433E-B70E-5F100B5E99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C021-91D5-40EC-B788-314F4BB420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EC5A-440D-41CA-924C-CF6C03161F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8D71-51AC-4539-B577-2D7D956073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6D7B-B902-4BDA-B750-38B09756A7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62CB-8155-4B16-B732-193C314AB1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AE09-50D5-4AA0-BD9E-24FB8429D5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7D3-06A1-4A06-9782-A8A045EB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587-BAF8-45D6-99A9-9583E9BC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EEE-29E4-45C8-8164-FD11E32E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AFC-1FB5-4836-B044-4F22AA57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065-F935-43E7-8E80-C682BB13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02F-5B21-4E82-8334-E626C20B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FBF-BBA5-4B0E-9B2E-EC17385A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B7B-34B1-4A3D-88EE-DE01112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A14-BA31-4D3B-AFF6-E75E06D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D1F-C747-4053-B863-2A4342C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17E-32AA-41C7-904B-B442505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37B-42EE-4824-8A29-22DB1C17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D50E-146A-4E26-8DD1-A75212A4091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500720" y="213372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50072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427640" y="4149720"/>
          <a:ext cx="1295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284720" y="1989000"/>
          <a:ext cx="167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989000"/>
                    <a:ext cx="167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9"/>
          <p:cNvGraphicFramePr/>
          <p:nvPr/>
        </p:nvGraphicFramePr>
        <p:xfrm>
          <a:off x="4356000" y="4221000"/>
          <a:ext cx="1282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282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85128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4221000"/>
          <a:ext cx="2819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19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70836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8000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85128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85128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851280" y="198900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067280" y="4149720"/>
          <a:ext cx="208260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082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70836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51280" y="2060640"/>
          <a:ext cx="276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6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24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780000" y="1989000"/>
          <a:ext cx="2755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755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708360" y="4149720"/>
          <a:ext cx="2718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18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635280" y="2060640"/>
          <a:ext cx="3187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187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708360" y="4149720"/>
          <a:ext cx="2781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500720" y="213372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427640" y="4149720"/>
          <a:ext cx="13460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46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643280" y="2133720"/>
          <a:ext cx="1333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133720"/>
                    <a:ext cx="1333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788000" y="4149720"/>
          <a:ext cx="1333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149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427640" y="2060640"/>
          <a:ext cx="135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5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2133720"/>
          <a:ext cx="1295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356000" y="4149720"/>
          <a:ext cx="13208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427640" y="206064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572000" y="4149720"/>
          <a:ext cx="10922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092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427640" y="1989000"/>
          <a:ext cx="1320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356000" y="4221000"/>
          <a:ext cx="13208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3208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2T18:23:47Z</dcterms:modified>
  <cp:revision>15</cp:revision>
  <dc:subject/>
  <dc:title>Diapositive 1</dc:title>
</cp:coreProperties>
</file>