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0CF6-29AA-4D98-BC1A-4F374823F4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D9E6-E321-44F4-876D-C500392D25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85B9-6E5C-442C-BEF9-8EBC0BB5F4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0853-FF3D-47AC-B7BB-B1BCF3ECC8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476E-31FC-4791-A2F7-C52E2C5468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BF3B-6DDB-42DE-8FF6-99D598D180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6FC8-B8B3-4A7E-B68A-57E8089476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C6B9-B194-480E-804A-7D33D42514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3EB9-8DBD-4BE7-965B-84FA001B7F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D713-ABE3-44E9-BDB3-21F4C66057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A5DE-63E8-473D-8290-5C4C469F53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E1BA-2EBA-4131-97ED-D01D1940DE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97D5-8409-4227-9693-131B1217E8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8305-3A25-4D01-AE33-B375A43EC6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E0A3-C2D7-48B5-9DDB-A6E5775CCF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C429-EF2E-4386-89BF-19AB31D208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E141-EB9C-4CA1-8B74-4F0D3B06E7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56A5-4B5E-4DA7-B3BE-3EE6D6DF57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91F1-D3A8-4FD4-AB87-F71E5C1846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8C03-29C1-490D-847F-54E5BC66D7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F02A-DEAD-4449-804D-708100720C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1C83-A8F2-4453-95CB-8CD2C70225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6F88-9C25-47AF-BEEF-D0948332A2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A72-0FAA-4248-AA4E-80053032E0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EB51-BB5F-426F-8952-23EA089237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AF2-67F7-4373-9877-F871165B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B08-521C-45D8-8E50-1464A9BB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B84-5420-4497-A40A-353F7EB3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110-C0A7-480F-8437-1E9E0721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16F-DBA0-46C6-9827-163BB7E6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46F-B5FE-4AA8-9367-BC1AA92F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FFF-5593-4C42-9A42-2C0F6FEF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073-AD3C-44C8-B154-0C9E2AF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49A-033B-4B48-A595-7CB339B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373-B527-471B-A3F6-889F4786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E55-2C4A-43FD-BC7E-B0695664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3D5-ED63-4598-9D77-6BD75F86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4A95-0DDE-4E8B-A171-37D4BF9301D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2240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9040" cy="5002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9" descr=""/>
          <p:cNvPicPr/>
          <p:nvPr/>
        </p:nvPicPr>
        <p:blipFill>
          <a:blip r:embed="rId1"/>
          <a:stretch/>
        </p:blipFill>
        <p:spPr>
          <a:xfrm>
            <a:off x="60480" y="1413000"/>
            <a:ext cx="9083520" cy="4294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6" descr=""/>
          <p:cNvPicPr/>
          <p:nvPr/>
        </p:nvPicPr>
        <p:blipFill>
          <a:blip r:embed="rId1"/>
          <a:stretch/>
        </p:blipFill>
        <p:spPr>
          <a:xfrm>
            <a:off x="0" y="1268280"/>
            <a:ext cx="9163080" cy="504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7"/>
          <p:cNvSpPr/>
          <p:nvPr/>
        </p:nvSpPr>
        <p:spPr>
          <a:xfrm>
            <a:off x="3709080" y="615636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6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76920" cy="5031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3112920" y="613260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6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77120" cy="4694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7"/>
          <p:cNvSpPr/>
          <p:nvPr/>
        </p:nvSpPr>
        <p:spPr>
          <a:xfrm>
            <a:off x="3328920" y="598788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1120" cy="4309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7"/>
          <p:cNvSpPr/>
          <p:nvPr/>
        </p:nvSpPr>
        <p:spPr>
          <a:xfrm>
            <a:off x="3257280" y="577224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P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7" descr=""/>
          <p:cNvPicPr/>
          <p:nvPr/>
        </p:nvPicPr>
        <p:blipFill>
          <a:blip r:embed="rId1"/>
          <a:stretch/>
        </p:blipFill>
        <p:spPr>
          <a:xfrm>
            <a:off x="0" y="1413000"/>
            <a:ext cx="9012240" cy="3990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8"/>
          <p:cNvSpPr/>
          <p:nvPr/>
        </p:nvSpPr>
        <p:spPr>
          <a:xfrm>
            <a:off x="3473280" y="584532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5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973400" cy="5037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"/>
          <p:cNvSpPr/>
          <p:nvPr/>
        </p:nvSpPr>
        <p:spPr>
          <a:xfrm>
            <a:off x="3257280" y="59878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63080" cy="50403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6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556080" cy="4869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7"/>
          <p:cNvSpPr/>
          <p:nvPr/>
        </p:nvSpPr>
        <p:spPr>
          <a:xfrm>
            <a:off x="3186000" y="591660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6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929040" cy="491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7"/>
          <p:cNvSpPr/>
          <p:nvPr/>
        </p:nvSpPr>
        <p:spPr>
          <a:xfrm>
            <a:off x="3257280" y="59878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6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9040" cy="5002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7"/>
          <p:cNvSpPr/>
          <p:nvPr/>
        </p:nvSpPr>
        <p:spPr>
          <a:xfrm>
            <a:off x="3112920" y="60609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6" descr=""/>
          <p:cNvPicPr/>
          <p:nvPr/>
        </p:nvPicPr>
        <p:blipFill>
          <a:blip r:embed="rId1"/>
          <a:stretch/>
        </p:blipFill>
        <p:spPr>
          <a:xfrm>
            <a:off x="60480" y="1413000"/>
            <a:ext cx="9083520" cy="4294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7"/>
          <p:cNvSpPr/>
          <p:nvPr/>
        </p:nvSpPr>
        <p:spPr>
          <a:xfrm>
            <a:off x="3257640" y="577224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Dro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9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76920" cy="5031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77120" cy="4694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1120" cy="4309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2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9" descr=""/>
          <p:cNvPicPr/>
          <p:nvPr/>
        </p:nvPicPr>
        <p:blipFill>
          <a:blip r:embed="rId1"/>
          <a:stretch/>
        </p:blipFill>
        <p:spPr>
          <a:xfrm>
            <a:off x="0" y="1413000"/>
            <a:ext cx="9012240" cy="3990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9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973400" cy="5037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9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556080" cy="4869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0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929040" cy="491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1-18T20:12:44Z</dcterms:modified>
  <cp:revision>19</cp:revision>
  <dc:subject/>
  <dc:title>Diapositive 1</dc:title>
</cp:coreProperties>
</file>