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654-1B06-4F39-959D-555A701A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D037-5547-42F9-8112-5EE86A1B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2177-A8F8-4BA7-B708-4463E6C2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79B6-DE76-4D8B-9B97-94CE9C81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C60E-E065-4AC6-B87B-72CA5F6C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9B8-65FB-4742-B1D5-4B931834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C5CC-06E9-48B8-B700-8EDD2386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D63-3746-4DA1-BB4E-E47D04EC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2C74-7A95-4720-8B14-A9BBE848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E96A-E353-49CC-BE6B-D4A5C8F2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E9DC-0399-4D31-93FE-CF25308D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898F-3055-4069-A926-D6F69DE0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23F2-0E0A-45CF-A3E7-54D65B0F548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995640" y="1989000"/>
          <a:ext cx="2158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2158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067280" y="4149720"/>
          <a:ext cx="2158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149720"/>
                    <a:ext cx="2158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95640" y="2060640"/>
          <a:ext cx="20574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060640"/>
                    <a:ext cx="2057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851280" y="4149720"/>
          <a:ext cx="2057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057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356000" y="2060640"/>
          <a:ext cx="13590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060640"/>
                    <a:ext cx="1359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284720" y="4221000"/>
          <a:ext cx="13078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221000"/>
                    <a:ext cx="13078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635280" y="1989000"/>
          <a:ext cx="28321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98900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708360" y="4221000"/>
          <a:ext cx="28702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221000"/>
                    <a:ext cx="28702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708360" y="2060640"/>
          <a:ext cx="31370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3137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564000" y="4221000"/>
          <a:ext cx="32004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221000"/>
                    <a:ext cx="32004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635280" y="2060640"/>
          <a:ext cx="32893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060640"/>
                    <a:ext cx="3289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708360" y="4149720"/>
          <a:ext cx="32893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3289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708360" y="1989000"/>
          <a:ext cx="32767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989000"/>
                    <a:ext cx="32767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780000" y="4221000"/>
          <a:ext cx="328896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221000"/>
                    <a:ext cx="32889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419640" y="2133720"/>
          <a:ext cx="3860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133720"/>
                    <a:ext cx="3860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276720" y="4149720"/>
          <a:ext cx="40510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149720"/>
                    <a:ext cx="4051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492360" y="2060640"/>
          <a:ext cx="3530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60640"/>
                    <a:ext cx="3530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203640" y="4292640"/>
          <a:ext cx="39877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292640"/>
                    <a:ext cx="39877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76720" y="2060640"/>
          <a:ext cx="36576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060640"/>
                    <a:ext cx="3657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348000" y="4221000"/>
          <a:ext cx="392436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221000"/>
                    <a:ext cx="39243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276720" y="2060640"/>
          <a:ext cx="40510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060640"/>
                    <a:ext cx="4051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276720" y="4292640"/>
          <a:ext cx="40384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292640"/>
                    <a:ext cx="4038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492360" y="2060640"/>
          <a:ext cx="3530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60640"/>
                    <a:ext cx="3530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419640" y="4292640"/>
          <a:ext cx="34797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292640"/>
                    <a:ext cx="3479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708360" y="2060640"/>
          <a:ext cx="2882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80000" y="4149720"/>
          <a:ext cx="28065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149720"/>
                    <a:ext cx="2806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43280" y="2060640"/>
          <a:ext cx="1397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060640"/>
                    <a:ext cx="1397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643280" y="4149720"/>
          <a:ext cx="14353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149720"/>
                    <a:ext cx="1435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427640" y="1989000"/>
          <a:ext cx="17143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989000"/>
                    <a:ext cx="1714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00720" y="4149720"/>
          <a:ext cx="17650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4149720"/>
                    <a:ext cx="1765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211640" y="2060640"/>
          <a:ext cx="1790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060640"/>
                    <a:ext cx="1790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211640" y="4149720"/>
          <a:ext cx="1803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149720"/>
                    <a:ext cx="180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211640" y="1989000"/>
          <a:ext cx="1765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989000"/>
                    <a:ext cx="1765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211640" y="4149720"/>
          <a:ext cx="17654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149720"/>
                    <a:ext cx="1765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211640" y="2060640"/>
          <a:ext cx="20574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060640"/>
                    <a:ext cx="2057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851280" y="4149720"/>
          <a:ext cx="218448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1844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851280" y="2133720"/>
          <a:ext cx="2108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133720"/>
                    <a:ext cx="2108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635280" y="4149720"/>
          <a:ext cx="2489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149720"/>
                    <a:ext cx="2489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067280" y="2060640"/>
          <a:ext cx="21841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060640"/>
                    <a:ext cx="2184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780000" y="4149720"/>
          <a:ext cx="2108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149720"/>
                    <a:ext cx="2108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7-12T19:08:12Z</dcterms:modified>
  <cp:revision>14</cp:revision>
  <dc:subject/>
  <dc:title>Diapositive 1</dc:title>
</cp:coreProperties>
</file>