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4.wmf" ContentType="image/x-wmf"/>
  <Override PartName="/ppt/media/image1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D208-2572-4C43-85CB-96DD928A4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7621-D539-4F34-9E86-C515D3A0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8844-E33C-49F9-9AEA-1186A19E7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A5B8-1626-4B94-A979-8155B936D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AA96-BAA9-48B8-ADAF-52F2CCD5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2BFE-CD93-472B-822B-567B4F2C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562B-CA61-49F5-BDB7-3805330A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A8BE-690D-4043-9B55-4BBCFA8A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B84F-0498-4844-B49F-8F7B9C73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E90A-B7A2-4A01-9DE8-1244D572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3D86-C0E0-4D76-9B06-BF26F8B7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403E-8FF3-4F47-B964-6388C082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9E64-0CB1-429B-B6E1-13ECA2223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  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48560" y="1596960"/>
            <a:ext cx="784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duis en symboles mathématiqu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phrase suivant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280" y="3613320"/>
            <a:ext cx="5842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s droites (d1) et (d2) s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pendiculair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8560" y="1596960"/>
            <a:ext cx="784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duis en symboles mathématiqu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phrase suivant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6000" y="3324240"/>
            <a:ext cx="7870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droite (QS) est parallèle à la dro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TG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5610240" cy="466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35800" y="6060960"/>
            <a:ext cx="843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s droites (AB) et (CD) sont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parallèl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08000" y="1341360"/>
            <a:ext cx="5486400" cy="44150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91440" y="5892840"/>
            <a:ext cx="868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 droites (AT) et (AP) sont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perpendicula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627280" y="5969160"/>
          <a:ext cx="414036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5969160"/>
                    <a:ext cx="414036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124000" y="1413000"/>
            <a:ext cx="4927680" cy="449568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411280" y="5969160"/>
          <a:ext cx="406404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5969160"/>
                    <a:ext cx="406404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124000" y="1413000"/>
            <a:ext cx="4927680" cy="449568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124000" y="1413000"/>
            <a:ext cx="4927680" cy="449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2556000" y="5969160"/>
          <a:ext cx="4140000" cy="88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6000" y="5969160"/>
                    <a:ext cx="414000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0" t="0" r="0" b="21411"/>
          <a:stretch/>
        </p:blipFill>
        <p:spPr>
          <a:xfrm>
            <a:off x="2411280" y="1341360"/>
            <a:ext cx="4129200" cy="3963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32920" y="5484960"/>
            <a:ext cx="866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droite (d) est la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médiatric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du seg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[AB]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19280" y="2189160"/>
            <a:ext cx="5610240" cy="4668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79440" y="1379520"/>
            <a:ext cx="842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ment sont les droites (AB) et (CD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5070240" cy="43228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800" y="5546880"/>
            <a:ext cx="799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’est la droite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perpendiculaire à (AB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passant par 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6340320" cy="4654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88920" y="5845320"/>
            <a:ext cx="829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médiatrice du segment [TS] est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(d2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21440" y="1628640"/>
            <a:ext cx="5842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s droites (d1) et (d2) s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pendiculair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56000" y="4076640"/>
          <a:ext cx="358128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4076640"/>
                    <a:ext cx="358128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0880" y="1844640"/>
            <a:ext cx="7870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droite (QS) est parallèle à la dro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TG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411280" y="3933720"/>
          <a:ext cx="396252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3933720"/>
                    <a:ext cx="396252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08000" y="2133720"/>
            <a:ext cx="5486400" cy="4414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35800" y="1236600"/>
            <a:ext cx="833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ment sont les droites (AT) et (AP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24000" y="2362320"/>
            <a:ext cx="4927680" cy="4495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-720" y="1413000"/>
            <a:ext cx="501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lète les pointillé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813200" y="1413000"/>
          <a:ext cx="4330800" cy="88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13200" y="1413000"/>
                    <a:ext cx="433080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124000" y="2362320"/>
            <a:ext cx="4927680" cy="4495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-720" y="1413000"/>
            <a:ext cx="501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lète les pointillé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859280" y="1341360"/>
          <a:ext cx="4064040" cy="88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1341360"/>
                    <a:ext cx="406404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195640" y="2362320"/>
            <a:ext cx="4927320" cy="4495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-720" y="1413000"/>
            <a:ext cx="501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lète les pointillé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016600" y="1341360"/>
          <a:ext cx="4127400" cy="88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16600" y="1341360"/>
                    <a:ext cx="412740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0" t="0" r="0" b="21411"/>
          <a:stretch/>
        </p:blipFill>
        <p:spPr>
          <a:xfrm>
            <a:off x="2843280" y="2637000"/>
            <a:ext cx="4129200" cy="39639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02160" y="1341360"/>
            <a:ext cx="7448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 représente la droite (d) pour 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gment [AB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403280" y="1959120"/>
            <a:ext cx="5746680" cy="48988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32920" y="1452600"/>
            <a:ext cx="77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écris la droite rouge de cette figur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20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03280" y="2203560"/>
            <a:ext cx="6340680" cy="4654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34000" y="1379520"/>
            <a:ext cx="873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lle est la médiatrice du segment [TS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6-30T19:51:00Z</dcterms:modified>
  <cp:revision>20</cp:revision>
  <dc:subject/>
  <dc:title>Diapositive 1</dc:title>
</cp:coreProperties>
</file>