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92BE0-0F3C-4893-B1B1-99BC26513AA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81AB2-48D1-4A00-AA9B-42F6C6D52F5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8E2A4-5B4C-40A8-8C23-60B6A5A0AC5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F33B0-2272-498B-8F24-A45CDEA0A14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DB05A-8BB0-4A51-9CFF-8F42C179673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8ED35-1910-4312-B1D5-B82E62FD700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7CFEE-AB43-4B36-B9F1-01442F2CD4C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EF48E-EE48-4D6B-871D-C72C76B312A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5ABD1-78BC-4F9A-BD67-3FFCB5D498F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07532-7D5C-44A9-A1FF-70A1635EB80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DC031-70B8-48B3-A527-BBFF0090B2A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9FAD0-7CFE-44FA-AE5B-CB421660036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CEE03-A492-47CC-BAF3-DA56B8BF6DF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1DBFF-F5F1-464A-B884-7B0DBC21F61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1D6A9-9AFC-431B-8342-8B63324B33F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1C3F8-9A35-4837-96DB-1F9C6C9C6C6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EB3F4-4D0C-477A-A25E-18668319359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C0F9B-9F4C-45A4-B245-A72193B504B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0D9F1-1650-458D-A871-4DEE794BD44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879B1-06E4-4CA2-AB8A-846335E9FD1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98C7E-645B-4598-BEA9-E1C96EA10D8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DDCEC-280F-4EC9-80BF-AC5AA348F83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B78EC-D38C-429C-A6C3-ED751D85049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149C0-6D8D-4708-8D23-8C0A606AB92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8B35B-0845-48D3-A619-8C73EEAA9CE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6074E-469F-4153-891D-6B3B39F7C7F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0DC7-2254-487C-9858-83C63649A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6E03-90E2-4C59-A730-E448A9E1D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3213-71B1-44D9-BE94-60BD3F7B0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A5DA-D701-4C22-A1F6-67BC74927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FBBC-CBA9-42FB-AC79-8EDE33E29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DEE2-C123-4B50-9984-1614F2873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4D00-BB92-4B82-8232-6E2C798C4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4F9D-0361-469E-AA94-1DECA3081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1BCB-9E19-4163-8513-FA2BD49A6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72A4-2D33-4E03-8FA2-64CFDF3F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62A1-36EA-4C48-A27E-36A8088A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A6FC-D7F7-4850-BDD0-908CB745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48255-8DBF-4AF9-92A4-F55DDA264C0F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101520" y="1484280"/>
            <a:ext cx="898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6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64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Object 39"/>
          <p:cNvGraphicFramePr/>
          <p:nvPr/>
        </p:nvGraphicFramePr>
        <p:xfrm>
          <a:off x="1619280" y="3429000"/>
          <a:ext cx="589284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3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3429000"/>
                    <a:ext cx="589284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10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Object 28"/>
          <p:cNvGraphicFramePr/>
          <p:nvPr/>
        </p:nvGraphicFramePr>
        <p:xfrm>
          <a:off x="1619280" y="3429000"/>
          <a:ext cx="556272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3429000"/>
                    <a:ext cx="556272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10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Object 28"/>
          <p:cNvGraphicFramePr/>
          <p:nvPr/>
        </p:nvGraphicFramePr>
        <p:xfrm>
          <a:off x="1403280" y="3429000"/>
          <a:ext cx="594360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429000"/>
                    <a:ext cx="59436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10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Object 26"/>
          <p:cNvGraphicFramePr/>
          <p:nvPr/>
        </p:nvGraphicFramePr>
        <p:xfrm>
          <a:off x="1473120" y="3067200"/>
          <a:ext cx="6197760" cy="72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3120" y="3067200"/>
                    <a:ext cx="6197760" cy="72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9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Object 27"/>
          <p:cNvGraphicFramePr/>
          <p:nvPr/>
        </p:nvGraphicFramePr>
        <p:xfrm>
          <a:off x="1204920" y="3429000"/>
          <a:ext cx="612144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4920" y="3429000"/>
                    <a:ext cx="612144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Object 26"/>
          <p:cNvGraphicFramePr/>
          <p:nvPr/>
        </p:nvGraphicFramePr>
        <p:xfrm>
          <a:off x="1168560" y="3067200"/>
          <a:ext cx="6806880" cy="72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8560" y="3067200"/>
                    <a:ext cx="6806880" cy="72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3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Object 26"/>
          <p:cNvGraphicFramePr/>
          <p:nvPr/>
        </p:nvGraphicFramePr>
        <p:xfrm>
          <a:off x="2216160" y="3067200"/>
          <a:ext cx="4711680" cy="72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16160" y="3067200"/>
                    <a:ext cx="4711680" cy="72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0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Object 37"/>
          <p:cNvGraphicFramePr/>
          <p:nvPr/>
        </p:nvGraphicFramePr>
        <p:xfrm>
          <a:off x="2692440" y="3067200"/>
          <a:ext cx="3759120" cy="72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3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2440" y="3067200"/>
                    <a:ext cx="3759120" cy="72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7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232920" y="1308240"/>
            <a:ext cx="8466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ans chaque multiplication, place l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virgule correctement dans le chiffre écr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en rou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Object 15"/>
          <p:cNvGraphicFramePr/>
          <p:nvPr/>
        </p:nvGraphicFramePr>
        <p:xfrm>
          <a:off x="2305080" y="3067200"/>
          <a:ext cx="4533840" cy="72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5080" y="3067200"/>
                    <a:ext cx="4533840" cy="72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Object 26"/>
          <p:cNvGraphicFramePr/>
          <p:nvPr/>
        </p:nvGraphicFramePr>
        <p:xfrm>
          <a:off x="1860480" y="3067200"/>
          <a:ext cx="5423040" cy="72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0480" y="3067200"/>
                    <a:ext cx="5423040" cy="72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1" dur="5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Object 26"/>
          <p:cNvGraphicFramePr/>
          <p:nvPr/>
        </p:nvGraphicFramePr>
        <p:xfrm>
          <a:off x="1511280" y="3067200"/>
          <a:ext cx="6121440" cy="72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280" y="3067200"/>
                    <a:ext cx="6121440" cy="72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8" dur="5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Object 26"/>
          <p:cNvGraphicFramePr/>
          <p:nvPr/>
        </p:nvGraphicFramePr>
        <p:xfrm>
          <a:off x="1689120" y="3067200"/>
          <a:ext cx="5765760" cy="72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9120" y="3067200"/>
                    <a:ext cx="5765760" cy="72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5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Object 26"/>
          <p:cNvGraphicFramePr/>
          <p:nvPr/>
        </p:nvGraphicFramePr>
        <p:xfrm>
          <a:off x="1511280" y="3067200"/>
          <a:ext cx="6121440" cy="72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280" y="3067200"/>
                    <a:ext cx="6121440" cy="72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2" dur="5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Object 32"/>
          <p:cNvGraphicFramePr/>
          <p:nvPr/>
        </p:nvGraphicFramePr>
        <p:xfrm>
          <a:off x="1619280" y="3429000"/>
          <a:ext cx="593100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3429000"/>
                    <a:ext cx="59310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10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Object 28"/>
          <p:cNvGraphicFramePr/>
          <p:nvPr/>
        </p:nvGraphicFramePr>
        <p:xfrm>
          <a:off x="1332000" y="3429000"/>
          <a:ext cx="586728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3429000"/>
                    <a:ext cx="586728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10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Object 26"/>
          <p:cNvGraphicFramePr/>
          <p:nvPr/>
        </p:nvGraphicFramePr>
        <p:xfrm>
          <a:off x="1258920" y="3429000"/>
          <a:ext cx="656604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3429000"/>
                    <a:ext cx="656604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10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Object 26"/>
          <p:cNvGraphicFramePr/>
          <p:nvPr/>
        </p:nvGraphicFramePr>
        <p:xfrm>
          <a:off x="2124000" y="3429000"/>
          <a:ext cx="459756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3429000"/>
                    <a:ext cx="45975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10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Object 28"/>
          <p:cNvGraphicFramePr/>
          <p:nvPr/>
        </p:nvGraphicFramePr>
        <p:xfrm>
          <a:off x="2268360" y="3357720"/>
          <a:ext cx="3505320" cy="72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3357720"/>
                    <a:ext cx="3505320" cy="72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10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Object 28"/>
          <p:cNvGraphicFramePr/>
          <p:nvPr/>
        </p:nvGraphicFramePr>
        <p:xfrm>
          <a:off x="2050920" y="3429000"/>
          <a:ext cx="436896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3429000"/>
                    <a:ext cx="43689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Object 28"/>
          <p:cNvGraphicFramePr/>
          <p:nvPr/>
        </p:nvGraphicFramePr>
        <p:xfrm>
          <a:off x="1763640" y="3429000"/>
          <a:ext cx="518184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3429000"/>
                    <a:ext cx="518184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10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1-02-01T18:19:34Z</dcterms:modified>
  <cp:revision>19</cp:revision>
  <dc:subject/>
  <dc:title>Diapositive 1</dc:title>
</cp:coreProperties>
</file>