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421-2776-4E27-B907-7DAF8B66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5C8-DE30-40D2-976A-2B80F3F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074-12C8-4A29-AFE2-B3D59DF2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D7E-0B87-495F-AEFC-33BE11D9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0C4-EC85-492B-BAF4-AEDF975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63B-B445-432A-B1A4-4648624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B30-66CF-49D9-B775-798035F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E6F-E0BF-415E-9959-300C52A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73A-6A52-4348-BCBF-40AF1755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607-625D-4EA0-9034-2C7DCC7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EE7-7849-4F86-A92A-0EA057F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1CD-9127-4636-8FBA-0D0A9F7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66B-5B47-4A42-B48F-C78DF3FF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1523880"/>
            <a:ext cx="82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roupe de 3 filles et de 4 garçons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nt au cinéma et rejoignent leur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s là-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ombien de personnes est com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 grou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" y="1884240"/>
            <a:ext cx="839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i est ravie. Son frère vient de l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3 timbres qu’elle va ajouter à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ction de 1546 timb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timbres possède-t-e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2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708280"/>
          <a:ext cx="477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77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2637000"/>
          <a:ext cx="483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3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27280" y="2708280"/>
          <a:ext cx="383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83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270828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81360"/>
          <a:ext cx="7518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7518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2708280"/>
          <a:ext cx="5245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245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1844640"/>
            <a:ext cx="874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eva a 250F en poche. Son père lui d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F de plus. Combien Teva possède t-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2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708280"/>
          <a:ext cx="5181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181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6360" y="2708280"/>
          <a:ext cx="6184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184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360" y="2708280"/>
          <a:ext cx="3594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594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40000" y="2708280"/>
          <a:ext cx="4660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660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1773360"/>
            <a:ext cx="916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ia se rend au magasin avec 500F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un paquet de biscuit qui coûte 280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lui-reste-t-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1739880"/>
            <a:ext cx="90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ui possède 6 billes bleus, 3 billes rou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2 billes jaunes. Combien de b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ède-t-il en t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20" y="1812960"/>
            <a:ext cx="82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ereiti aime les fleurs. Dans son jard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lle compte 6 roses, 7 tulipes e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rchidées. Combien de fleurs y’a-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 son jar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720" y="1668600"/>
            <a:ext cx="87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oana fait du « va’a ». Il rame depuis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inte venus jusqu’à Arue où il fait dem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our. Sachant qu’il met 20 minutes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rriver à Arue, et 27 minutes pour rev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temps total de sa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6754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720" y="13795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=5cm et PB=2cm. Quelle est l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 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31160" cy="228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280" y="137952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M=3cm et BC=9cm. Quelle est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ure du segment [MC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840" y="137952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jardinier doit clôturer un terr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angula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4357800" cy="361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120" y="5629320"/>
            <a:ext cx="791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mètres de grillage doi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évo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3T19:44:10Z</dcterms:modified>
  <cp:revision>17</cp:revision>
  <dc:subject/>
  <dc:title>Diapositive 1</dc:title>
</cp:coreProperties>
</file>