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CA1D-7BCA-486B-A5C7-0FDB9D9E59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C191-A466-4907-A4C5-7AE9831CC4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2135-494E-40E6-81A7-BE4D62C6D8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A791-4522-4037-B22A-75E0B7E4C8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B7B7-E478-422E-8587-73898C9C63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22EF-C08A-42A1-8BDA-21CD071882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408F-2545-4BD6-B290-30A4862084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CD08-634D-4668-B9FA-3B502271D5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0EA0-E3D3-42D5-AAED-12A46D0EFC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9B87-D13C-4EA6-BE8E-E04BF6040D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AB4B-8262-44BF-9676-C2118E9A9A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756A-695D-42A0-B29D-28670549B4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D36A-41B2-4D9E-9161-4A707411F6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23E6-073F-4741-9017-EBD1965566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7877-6D1A-4567-B60B-BAD19F14BB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6A0A-DBB6-447E-B23A-FC6E89FAD8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CCAE-0B33-43D6-B381-9B9AAACE50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8DFD-C7A6-4AC8-9A8B-489A2BAB5E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B43F-72C4-460F-ABF4-996A92F589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B094-3B33-428C-87CB-CAE39864EA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AAAF-77B4-4B79-976D-508822252B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9376-DED0-412D-ABD7-0151660464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14CF-81B8-4268-A8B7-9021956488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C804-2FF5-4C65-9953-1983ECCCE9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2AB0-87DE-4CB4-94DF-ADB80517BB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5CDC-DF4D-4CED-BFCC-00F37DC814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1A82-3D1D-4014-AA49-28241092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0A1-9368-4A6E-8705-5262C8D4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34E-54C9-4946-AD14-456E0235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7C95-1F53-436D-AF06-B4EB4957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439E-DC06-43BB-9BE2-E9C42B0E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FA6-A454-4DDA-95B9-8F21F571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1F6-F658-4BB8-9166-E6D47DD4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022-E15E-462E-BF61-471B07FE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FEE-0935-4391-9F86-C1D2AFA5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3C6-B25E-43F2-B607-218E6A8B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6ED-C1CD-4230-9B2D-33F587D1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857-B4F5-4BD3-B0F5-22674255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DC09-9C47-456D-807F-D49C574B5B1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1397160"/>
          <a:ext cx="8856720" cy="4063680"/>
        </p:xfrm>
        <a:graphic>
          <a:graphicData uri="http://schemas.openxmlformats.org/drawingml/2006/table">
            <a:tbl>
              <a:tblPr/>
              <a:tblGrid>
                <a:gridCol w="1656000"/>
                <a:gridCol w="7200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1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6262560" cy="1087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175440" cy="86688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397160"/>
          <a:ext cx="878544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7056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3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6046560" cy="91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305760" cy="8715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20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1397160"/>
          <a:ext cx="885672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7128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1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6110640" cy="89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"/>
          <p:cNvPicPr/>
          <p:nvPr/>
        </p:nvPicPr>
        <p:blipFill>
          <a:blip r:embed="rId2"/>
          <a:stretch/>
        </p:blipFill>
        <p:spPr>
          <a:xfrm>
            <a:off x="2124000" y="4221000"/>
            <a:ext cx="6089760" cy="10224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20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15"/>
          <p:cNvGraphicFramePr/>
          <p:nvPr/>
        </p:nvGraphicFramePr>
        <p:xfrm>
          <a:off x="3419640" y="1557360"/>
          <a:ext cx="38350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557360"/>
                    <a:ext cx="38350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6"/>
          <p:cNvGraphicFramePr/>
          <p:nvPr/>
        </p:nvGraphicFramePr>
        <p:xfrm>
          <a:off x="3419640" y="3573360"/>
          <a:ext cx="388620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3573360"/>
                    <a:ext cx="3886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913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15"/>
          <p:cNvGraphicFramePr/>
          <p:nvPr/>
        </p:nvGraphicFramePr>
        <p:xfrm>
          <a:off x="2411280" y="1989000"/>
          <a:ext cx="6248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89000"/>
                    <a:ext cx="6248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9"/>
          <p:cNvGraphicFramePr/>
          <p:nvPr/>
        </p:nvGraphicFramePr>
        <p:xfrm>
          <a:off x="2287440" y="4221000"/>
          <a:ext cx="62866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7440" y="4221000"/>
                    <a:ext cx="62866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1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182760" y="2133720"/>
          <a:ext cx="3975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2760" y="2133720"/>
                    <a:ext cx="3975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708360" y="4221000"/>
          <a:ext cx="31240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221000"/>
                    <a:ext cx="31240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85128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924360" y="4149720"/>
          <a:ext cx="28195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564000" y="2060640"/>
          <a:ext cx="31878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060640"/>
                    <a:ext cx="31878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348000" y="4149720"/>
          <a:ext cx="3949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949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4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-3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6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1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-5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2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-1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1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-2,5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3,5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30"/>
          <p:cNvGraphicFramePr/>
          <p:nvPr/>
        </p:nvGraphicFramePr>
        <p:xfrm>
          <a:off x="5724360" y="1989000"/>
          <a:ext cx="16131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1989000"/>
                    <a:ext cx="1613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1"/>
          <p:cNvGraphicFramePr/>
          <p:nvPr/>
        </p:nvGraphicFramePr>
        <p:xfrm>
          <a:off x="5580000" y="4149720"/>
          <a:ext cx="165096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4149720"/>
                    <a:ext cx="1650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7340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4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décroissant: 34,61,78,41, 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croissant: 63, 93, 60, 32, 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2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5"/>
          <p:cNvGraphicFramePr/>
          <p:nvPr/>
        </p:nvGraphicFramePr>
        <p:xfrm>
          <a:off x="4211640" y="2060640"/>
          <a:ext cx="2184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2184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6"/>
          <p:cNvGraphicFramePr/>
          <p:nvPr/>
        </p:nvGraphicFramePr>
        <p:xfrm>
          <a:off x="4427640" y="4221000"/>
          <a:ext cx="16128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221000"/>
                    <a:ext cx="16128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4067280" y="2060640"/>
          <a:ext cx="1765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1765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4140360" y="4149720"/>
          <a:ext cx="1689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1689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7"/>
          <p:cNvGraphicFramePr/>
          <p:nvPr/>
        </p:nvGraphicFramePr>
        <p:xfrm>
          <a:off x="4356000" y="2060640"/>
          <a:ext cx="16765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6765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8"/>
          <p:cNvGraphicFramePr/>
          <p:nvPr/>
        </p:nvGraphicFramePr>
        <p:xfrm>
          <a:off x="4140360" y="4149720"/>
          <a:ext cx="2146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2146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1397160"/>
          <a:ext cx="8713800" cy="4063680"/>
        </p:xfrm>
        <a:graphic>
          <a:graphicData uri="http://schemas.openxmlformats.org/drawingml/2006/table">
            <a:tbl>
              <a:tblPr/>
              <a:tblGrid>
                <a:gridCol w="1800360"/>
                <a:gridCol w="6913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2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6640560" cy="71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297840" cy="60804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2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397160"/>
          <a:ext cx="871380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4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5783400" cy="946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5" descr=""/>
          <p:cNvPicPr/>
          <p:nvPr/>
        </p:nvPicPr>
        <p:blipFill>
          <a:blip r:embed="rId2"/>
          <a:stretch/>
        </p:blipFill>
        <p:spPr>
          <a:xfrm>
            <a:off x="2340000" y="4292640"/>
            <a:ext cx="6237360" cy="86688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20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0-10-26T19:44:59Z</dcterms:modified>
  <cp:revision>26</cp:revision>
  <dc:subject/>
  <dc:title>Diapositive 1</dc:title>
</cp:coreProperties>
</file>