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BA2-95A0-40D4-AD31-20AF044E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5FA-1BB9-4AD7-854C-8D6FF73E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C89-8CC1-408E-AE9C-BE18010D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E2E-5CDB-431A-899F-8CCAA09B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F1C-3823-4604-B9CA-ECB51156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44B-E0EC-40F0-9F59-1F1B2641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862-F454-46D5-9D5D-D925B8E6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486-D11F-4057-A705-047E149D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218-F171-484F-8116-2BF97B69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178-E3A0-4B2A-A58D-2059DD8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05A-6E61-4D54-8AF4-F54A208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CC6-437D-47EF-9263-2B291325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7DC4-7495-4D48-89D5-2A700BA1B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87640" y="3645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10360" y="1739880"/>
            <a:ext cx="798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par une phrase en français, 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boles mathématiques suivant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6200" y="1884240"/>
            <a:ext cx="77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points A, B et C sont-ils aligné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4400640" cy="3557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3202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5840" y="5916600"/>
            <a:ext cx="81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 leur point d’inters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05620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987640" y="5734080"/>
          <a:ext cx="289548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5734080"/>
                    <a:ext cx="2895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132000" y="1700280"/>
          <a:ext cx="2781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700280"/>
                    <a:ext cx="2781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89080" y="1557360"/>
            <a:ext cx="329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I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5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13440" y="1700280"/>
            <a:ext cx="393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14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360" y="2060640"/>
            <a:ext cx="720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32000" y="3645000"/>
          <a:ext cx="23241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645000"/>
                    <a:ext cx="23241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87640" y="2421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21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080" y="4221000"/>
            <a:ext cx="89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F appartient à la demi-droite [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1557360"/>
            <a:ext cx="92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les points A, B et C ne sont pas align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4000320" cy="4186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234144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" y="1211400"/>
            <a:ext cx="90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r la figure ci-dessous, se trouvent deux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écantes, quel est leur point d’inters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…….(D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979640" y="2540160"/>
            <a:ext cx="5056200" cy="4317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…..[BC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360" y="145260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AB=10cm, compléter AI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1440" y="1557360"/>
            <a:ext cx="80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IB=7cm, compléter AB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8560" y="2028960"/>
            <a:ext cx="720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cris en symbole mathémati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2:52Z</dcterms:modified>
  <cp:revision>27</cp:revision>
  <dc:subject/>
  <dc:title>Diapositive 1</dc:title>
</cp:coreProperties>
</file>