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303-D74B-45B2-BC1E-EA46722D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D10-2918-4BEC-9715-3C2EC2C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BD9-260A-4C79-9301-67B87801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AA1-BBC2-47B0-BBDA-4DDFEE33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600-4D75-4788-8B6D-7DC46FC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0A9-3826-425B-9C98-384E85A0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286-37D7-4A65-8B5F-834870F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CA5-D654-41BE-801D-D21F77B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0C2-9C18-4F12-B2CE-2B242A4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AAA-583A-49E1-9A88-BE1B227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964-74D1-4AAB-9A5F-58260AA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F5C-214B-41DD-ADEA-DDDC0F1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6F38-C6E3-482A-B385-7AA48CEC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280" y="361332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000" y="33242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800" y="606096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AB) et (CD) so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rallè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486400" cy="441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" y="589284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droites (AT) et (AP) so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erpendicul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27280" y="5969160"/>
          <a:ext cx="4140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969160"/>
                    <a:ext cx="414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5969160"/>
          <a:ext cx="4064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969160"/>
                    <a:ext cx="406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56000" y="5969160"/>
          <a:ext cx="41400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969160"/>
                    <a:ext cx="414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411280" y="134136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920" y="5484960"/>
            <a:ext cx="86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B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218916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9440" y="137952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B) et (C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070240" cy="432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" y="5546880"/>
            <a:ext cx="799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’est la droit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erpendiculaire à (A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ssant pa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40320" cy="465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88920" y="5845320"/>
            <a:ext cx="82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trice du segment [TS]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d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1440" y="162864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4076640"/>
          <a:ext cx="358128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076640"/>
                    <a:ext cx="3581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0880" y="18446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933720"/>
          <a:ext cx="3962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3962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86400" cy="44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5800" y="12366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T) et (A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13200" y="1413000"/>
          <a:ext cx="43308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3200" y="1413000"/>
                    <a:ext cx="4330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341360"/>
          <a:ext cx="40640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341360"/>
                    <a:ext cx="4064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362320"/>
            <a:ext cx="492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6600" y="1341360"/>
          <a:ext cx="41274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6600" y="1341360"/>
                    <a:ext cx="4127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843280" y="263700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2160" y="134136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 représente la droite (d) pour 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959120"/>
            <a:ext cx="5746680" cy="48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2920" y="145260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cris la droite rouge de cette fig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2203560"/>
            <a:ext cx="6340680" cy="465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" y="1379520"/>
            <a:ext cx="87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édiatrice du segment [TS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1:00Z</dcterms:modified>
  <cp:revision>20</cp:revision>
  <dc:subject/>
  <dc:title>Diapositive 1</dc:title>
</cp:coreProperties>
</file>