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59F5-751B-4452-90C5-B3453ABE302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EE1D-1BAF-40EF-A080-51AE147F89E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6AAA-DEF8-4041-AA54-7697D46FF10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1BAB-22AB-40E2-9CBB-7E74EA0F2F9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9EF8-6763-4B7A-9E34-5CF354536DE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3550-C5EA-432B-8E00-77C55E14D6D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3060-2A29-4923-BCA4-FF16ACB7B2B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653F-B451-4AC3-A461-5F16F21F357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8082-5CC5-43ED-B11C-9C3A4DE527C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5531-6191-4FCA-8931-F28AE06BD34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8A45-3EEF-49E0-8451-DD96D486EA9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8F5C-8058-486A-828C-71A02525A66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D214-1C1B-4CA0-B6B5-00F571BE853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DB2D-1BE3-43DC-B70A-3B591A90481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62DC-CF9C-4C53-820B-E674D89F6E7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7312-E2A4-4594-8CA6-4B0935A8197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5294-8A13-4B21-87F8-EA35A8109B6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B306-B327-4770-BD5F-DD703541407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8902-C259-4878-A367-AF14F955733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BAAF-C9FC-4B97-BE5F-0A92E88328C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C341-F87F-413B-BE62-205D5F9843B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2B68-5EB8-4D0E-88CA-DA121902623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239A-6BF7-48D9-B09C-CE0690F22B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59A8-6627-4A6F-8EB3-7CA351D118C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C60D-4127-4378-A87F-1B1072FE867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62E4-4BA9-44B8-9F46-FDCC7BCCB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2D76-433A-44DD-ADB4-D9901D83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5CB2-A33B-46C9-8935-C437F0168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B992-FE60-465A-BCBA-BF57A3ECF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5AEB-639E-43ED-B379-B747FDA8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7DA9-B5B0-4132-AB77-4A3087ED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936E-E2A9-4014-822D-62456745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8240-2002-4BFE-885F-E7AE5F27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D40F-1D5A-443F-9FE5-54B8E280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1D44-71DF-4F6E-ABBF-BA1BBE03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FA1C-3A3F-4D50-B3D5-18D2A94B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DA37-67BB-4FFD-B98A-DFC808A7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C5EB-4A54-490F-894C-CF053030C4F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2240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9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6269040" cy="50022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2"/>
          <p:cNvSpPr/>
          <p:nvPr/>
        </p:nvSpPr>
        <p:spPr>
          <a:xfrm>
            <a:off x="0" y="6195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 vue d’œil,quelle est la nature de l’angle trac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9" descr=""/>
          <p:cNvPicPr/>
          <p:nvPr/>
        </p:nvPicPr>
        <p:blipFill>
          <a:blip r:embed="rId1"/>
          <a:stretch/>
        </p:blipFill>
        <p:spPr>
          <a:xfrm>
            <a:off x="60480" y="1413000"/>
            <a:ext cx="9083520" cy="4294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2"/>
          <p:cNvSpPr/>
          <p:nvPr/>
        </p:nvSpPr>
        <p:spPr>
          <a:xfrm>
            <a:off x="0" y="6195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 vue d’œil,quelle est la nature de l’angle trac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6" descr=""/>
          <p:cNvPicPr/>
          <p:nvPr/>
        </p:nvPicPr>
        <p:blipFill>
          <a:blip r:embed="rId1"/>
          <a:stretch/>
        </p:blipFill>
        <p:spPr>
          <a:xfrm>
            <a:off x="0" y="1268280"/>
            <a:ext cx="9163080" cy="5040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7"/>
          <p:cNvSpPr/>
          <p:nvPr/>
        </p:nvSpPr>
        <p:spPr>
          <a:xfrm>
            <a:off x="3709080" y="6156360"/>
            <a:ext cx="10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aig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6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5776920" cy="5031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7"/>
          <p:cNvSpPr/>
          <p:nvPr/>
        </p:nvSpPr>
        <p:spPr>
          <a:xfrm>
            <a:off x="3112920" y="6132600"/>
            <a:ext cx="139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Ob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6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277120" cy="46944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27"/>
          <p:cNvSpPr/>
          <p:nvPr/>
        </p:nvSpPr>
        <p:spPr>
          <a:xfrm>
            <a:off x="3328920" y="5987880"/>
            <a:ext cx="139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Ob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6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331120" cy="43099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7"/>
          <p:cNvSpPr/>
          <p:nvPr/>
        </p:nvSpPr>
        <p:spPr>
          <a:xfrm>
            <a:off x="3257280" y="5772240"/>
            <a:ext cx="9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Pl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37" descr=""/>
          <p:cNvPicPr/>
          <p:nvPr/>
        </p:nvPicPr>
        <p:blipFill>
          <a:blip r:embed="rId1"/>
          <a:stretch/>
        </p:blipFill>
        <p:spPr>
          <a:xfrm>
            <a:off x="0" y="1413000"/>
            <a:ext cx="9012240" cy="39909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8"/>
          <p:cNvSpPr/>
          <p:nvPr/>
        </p:nvSpPr>
        <p:spPr>
          <a:xfrm>
            <a:off x="3473280" y="5845320"/>
            <a:ext cx="139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Ob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5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4973400" cy="50371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6"/>
          <p:cNvSpPr/>
          <p:nvPr/>
        </p:nvSpPr>
        <p:spPr>
          <a:xfrm>
            <a:off x="3257280" y="598788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Aig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2"/>
          <p:cNvSpPr/>
          <p:nvPr/>
        </p:nvSpPr>
        <p:spPr>
          <a:xfrm>
            <a:off x="0" y="6195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 vue d’œil,quelle est la nature de l’angle trac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3" descr=""/>
          <p:cNvPicPr/>
          <p:nvPr/>
        </p:nvPicPr>
        <p:blipFill>
          <a:blip r:embed="rId1"/>
          <a:stretch/>
        </p:blipFill>
        <p:spPr>
          <a:xfrm>
            <a:off x="0" y="1268280"/>
            <a:ext cx="9163080" cy="504036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6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3556080" cy="4869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7"/>
          <p:cNvSpPr/>
          <p:nvPr/>
        </p:nvSpPr>
        <p:spPr>
          <a:xfrm>
            <a:off x="3186000" y="591660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Aig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6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3929040" cy="49150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27"/>
          <p:cNvSpPr/>
          <p:nvPr/>
        </p:nvSpPr>
        <p:spPr>
          <a:xfrm>
            <a:off x="3257280" y="598788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Aig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26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6269040" cy="50022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27"/>
          <p:cNvSpPr/>
          <p:nvPr/>
        </p:nvSpPr>
        <p:spPr>
          <a:xfrm>
            <a:off x="3112920" y="606096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Aig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6" descr=""/>
          <p:cNvPicPr/>
          <p:nvPr/>
        </p:nvPicPr>
        <p:blipFill>
          <a:blip r:embed="rId1"/>
          <a:stretch/>
        </p:blipFill>
        <p:spPr>
          <a:xfrm>
            <a:off x="60480" y="1413000"/>
            <a:ext cx="9083520" cy="42940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27"/>
          <p:cNvSpPr/>
          <p:nvPr/>
        </p:nvSpPr>
        <p:spPr>
          <a:xfrm>
            <a:off x="3257640" y="5772240"/>
            <a:ext cx="125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Dro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9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5776920" cy="5031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2"/>
          <p:cNvSpPr/>
          <p:nvPr/>
        </p:nvSpPr>
        <p:spPr>
          <a:xfrm>
            <a:off x="0" y="6195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 vue d’œil,quelle est la nature de l’angle trac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7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277120" cy="46944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2"/>
          <p:cNvSpPr/>
          <p:nvPr/>
        </p:nvSpPr>
        <p:spPr>
          <a:xfrm>
            <a:off x="0" y="6195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 vue d’œil,quelle est la nature de l’angle trac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7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331120" cy="43099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2"/>
          <p:cNvSpPr/>
          <p:nvPr/>
        </p:nvSpPr>
        <p:spPr>
          <a:xfrm>
            <a:off x="0" y="6165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 vue d’œil,quelle est la nature de l’angle trac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9" descr=""/>
          <p:cNvPicPr/>
          <p:nvPr/>
        </p:nvPicPr>
        <p:blipFill>
          <a:blip r:embed="rId1"/>
          <a:stretch/>
        </p:blipFill>
        <p:spPr>
          <a:xfrm>
            <a:off x="0" y="1413000"/>
            <a:ext cx="9012240" cy="39909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2"/>
          <p:cNvSpPr/>
          <p:nvPr/>
        </p:nvSpPr>
        <p:spPr>
          <a:xfrm>
            <a:off x="0" y="6195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 vue d’œil,quelle est la nature de l’angle trac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9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4973400" cy="50371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2"/>
          <p:cNvSpPr/>
          <p:nvPr/>
        </p:nvSpPr>
        <p:spPr>
          <a:xfrm>
            <a:off x="0" y="6195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 vue d’œil,quelle est la nature de l’angle trac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9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3556080" cy="4869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2"/>
          <p:cNvSpPr/>
          <p:nvPr/>
        </p:nvSpPr>
        <p:spPr>
          <a:xfrm>
            <a:off x="0" y="6195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 vue d’œil,quelle est la nature de l’angle trac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0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3929040" cy="49150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2"/>
          <p:cNvSpPr/>
          <p:nvPr/>
        </p:nvSpPr>
        <p:spPr>
          <a:xfrm>
            <a:off x="0" y="6195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 vue d’œil,quelle est la nature de l’angle trac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11-18T20:12:44Z</dcterms:modified>
  <cp:revision>19</cp:revision>
  <dc:subject/>
  <dc:title>Diapositive 1</dc:title>
</cp:coreProperties>
</file>