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D52-9A1B-45D1-8369-9FB3BEB4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6B9-33F6-40EC-ABF9-6CE06640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B3D-913B-470A-B7DC-BC9525CD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734-1808-483B-AC70-A13FFAC2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3DF-0343-485E-A4CC-CAC5B412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E96-7CC8-40E3-932D-3928255B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8B1-BE8B-4C14-95EE-F0D53E41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084-9E03-46E2-AE5C-F1D1FA98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176-5D92-48A8-80AF-CD57B2CF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66E-B130-4F1C-BA31-CD20AB90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507-788A-4B5C-9FAB-7AA77873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3DF-2B4B-4E65-8D84-F72170F6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52FB-814E-4F35-B2D1-20DB9240F91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211640" y="2060640"/>
          <a:ext cx="2108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284720" y="4221000"/>
          <a:ext cx="21844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21844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211640" y="1989000"/>
          <a:ext cx="1790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989000"/>
                    <a:ext cx="179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140360" y="4221000"/>
          <a:ext cx="17906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221000"/>
                    <a:ext cx="17906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284720" y="2060640"/>
          <a:ext cx="180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06064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284720" y="4149720"/>
          <a:ext cx="17780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149720"/>
                    <a:ext cx="1778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708360" y="206064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70836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95640" y="198900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24360" y="4221000"/>
          <a:ext cx="28321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321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348000" y="2133720"/>
          <a:ext cx="3949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133720"/>
                    <a:ext cx="3949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348000" y="4221000"/>
          <a:ext cx="38988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8988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8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348000" y="2060640"/>
          <a:ext cx="3632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632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348000" y="4221000"/>
          <a:ext cx="36702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6702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780000" y="1989000"/>
          <a:ext cx="3288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328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780000" y="4221000"/>
          <a:ext cx="32130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32130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708360" y="2060640"/>
          <a:ext cx="3225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3225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780000" y="4149720"/>
          <a:ext cx="32889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328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211640" y="2060640"/>
          <a:ext cx="1333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84720" y="4149720"/>
          <a:ext cx="13460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149720"/>
                    <a:ext cx="1346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84720" y="2133720"/>
          <a:ext cx="1371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133720"/>
                    <a:ext cx="137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211640" y="4149720"/>
          <a:ext cx="1308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308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24360" y="2133720"/>
          <a:ext cx="2197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133720"/>
                    <a:ext cx="2197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995640" y="4221000"/>
          <a:ext cx="21081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221000"/>
                    <a:ext cx="21081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4567, quel est le chiffre des cent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2345, quel est le chiffre des diz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345,67 quel est le nombre des diz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986,12 quel est le nombre des unité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468,92 quel est le chiffre des dix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136,087 quel est le chiffre des cent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579,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l est le chiffre des dix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249,06 quel est le chiffre des cent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04T21:25:15Z</dcterms:modified>
  <cp:revision>18</cp:revision>
  <dc:subject/>
  <dc:title>Diapositive 1</dc:title>
</cp:coreProperties>
</file>