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D47-4FF8-4E8C-A9AE-7289D1BE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364-20B7-407D-AA20-148CAFC2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528-F1F0-4CA4-8E66-466A6F9D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EC6-6330-4784-B1B7-E57DAEA3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058-ABDD-44A9-9B06-29D9EB4A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44D-4E00-4EFB-893D-8CF69915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915-3632-4026-8D5A-899E116F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8A5-DFDB-4F68-A9E8-97964C33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799-0B75-4EF9-BCCC-27CBADF7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4F9-0434-4248-8CF6-28A481BB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EEB-78A6-4E02-9D70-690E3C56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F9B-FA72-4D57-9254-BB61CC22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29AA-8F36-4A44-8D63-AC1F171CB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5501" r="0" b="0"/>
          <a:stretch/>
        </p:blipFill>
        <p:spPr>
          <a:xfrm>
            <a:off x="2411280" y="2529000"/>
            <a:ext cx="4467240" cy="43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3080" y="1355760"/>
            <a:ext cx="778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gment [CI] 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" y="1355760"/>
            <a:ext cx="89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points H et P sont symétriques par rapport 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d), comment appelle-t-on encore c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xe de symétr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5064480" cy="38019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134136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4320" y="5877000"/>
            <a:ext cx="74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D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1116000" y="1268280"/>
            <a:ext cx="7329600" cy="4567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4680" y="5877000"/>
            <a:ext cx="75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H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73800" cy="4691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11400" y="5950080"/>
            <a:ext cx="88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symétrique du segment [CD] est le segmen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[FH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7859" r="0" b="0"/>
          <a:stretch/>
        </p:blipFill>
        <p:spPr>
          <a:xfrm>
            <a:off x="2050920" y="1268280"/>
            <a:ext cx="5276880" cy="4221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87120" y="5460840"/>
            <a:ext cx="90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segment [GP] par rapport à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oite (d) est le segme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[DE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132160" cy="4337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0960" y="5583240"/>
            <a:ext cx="34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’est le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ercle bl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9240" y="5676840"/>
            <a:ext cx="89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B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206064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284120"/>
            <a:ext cx="88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8880" y="5676840"/>
            <a:ext cx="88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F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8880" y="5676840"/>
            <a:ext cx="89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D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5501" r="0" b="0"/>
          <a:stretch/>
        </p:blipFill>
        <p:spPr>
          <a:xfrm>
            <a:off x="2195640" y="1268280"/>
            <a:ext cx="4467240" cy="432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00" y="5667480"/>
            <a:ext cx="889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segment [IC] par rapport à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oite (JO) est le segme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[FK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064120" cy="3802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720" y="5268960"/>
            <a:ext cx="79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)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médiatri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u segment [HP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229068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284120"/>
            <a:ext cx="88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1843200"/>
            <a:ext cx="6815160" cy="50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520" y="1284120"/>
            <a:ext cx="87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se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CD]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7859" r="0" b="0"/>
          <a:stretch/>
        </p:blipFill>
        <p:spPr>
          <a:xfrm>
            <a:off x="1979640" y="26370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3800" y="1284120"/>
            <a:ext cx="89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seg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GP] par rapport à la droite (d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2521080"/>
            <a:ext cx="5132520" cy="4336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4160" y="1284120"/>
            <a:ext cx="847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cer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ge par rapport à la droite (AB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2520" y="1284120"/>
            <a:ext cx="86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2160" y="1284120"/>
            <a:ext cx="858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2160" y="1284120"/>
            <a:ext cx="86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09T02:21:26Z</dcterms:modified>
  <cp:revision>20</cp:revision>
  <dc:subject/>
  <dc:title>Diapositive 1</dc:title>
</cp:coreProperties>
</file>