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A26-1933-4ABA-B9EB-3E4FE2AF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AF0-BC55-4672-932D-CEB57074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4DA-9395-4F46-BA94-7805C9C9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823-BD09-4F5B-977E-508383A4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BBB-AF2B-4F61-ADD1-355EFECF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1EF-222B-4090-A65E-F870D02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CA4-67EA-4D42-9D08-D9032BCB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932-6C42-4A68-9901-75179F2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CD7-014E-44A4-9170-0A4A2BC7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695-09D8-4678-9BAD-AC77A9F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0DC-13B0-4CC1-A41A-06B09509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2E1-AA32-4801-A7C2-0176E21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4ED-F15D-436F-8AF0-D38D98EFD2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95640" y="1989000"/>
          <a:ext cx="2158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06728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851280" y="4149720"/>
          <a:ext cx="2057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8900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08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060640"/>
          <a:ext cx="3137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137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4221000"/>
          <a:ext cx="32004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004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2060640"/>
          <a:ext cx="3289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08360" y="4149720"/>
          <a:ext cx="3289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08360" y="1989000"/>
          <a:ext cx="3276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3276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80000" y="4221000"/>
          <a:ext cx="32889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889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19640" y="2133720"/>
          <a:ext cx="386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86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76720" y="4149720"/>
          <a:ext cx="4051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03640" y="4292640"/>
          <a:ext cx="39877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398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2060640"/>
          <a:ext cx="3657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657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348000" y="4221000"/>
          <a:ext cx="39243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9243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76720" y="2060640"/>
          <a:ext cx="4051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76720" y="4292640"/>
          <a:ext cx="4038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92640"/>
                    <a:ext cx="4038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19640" y="4292640"/>
          <a:ext cx="3479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292640"/>
                    <a:ext cx="3479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80000" y="4149720"/>
          <a:ext cx="2806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3280" y="2060640"/>
          <a:ext cx="1397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3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43280" y="4149720"/>
          <a:ext cx="1435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198900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00720" y="4149720"/>
          <a:ext cx="1765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14972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11640" y="206064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211640" y="4149720"/>
          <a:ext cx="180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11640" y="1989000"/>
          <a:ext cx="176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1164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11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51280" y="4149720"/>
          <a:ext cx="21844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51280" y="213372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35280" y="4149720"/>
          <a:ext cx="2489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48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067280" y="2060640"/>
          <a:ext cx="2184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84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8000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2T19:08:12Z</dcterms:modified>
  <cp:revision>14</cp:revision>
  <dc:subject/>
  <dc:title>Diapositive 1</dc:title>
</cp:coreProperties>
</file>