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AD3F-2BA0-4226-A993-AB6B7EC885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BDFA-18E5-48C8-9FF3-A55D039180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68FC-4771-41A8-92A6-0614D30DF8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4AC-8AEE-4171-B568-DB6E5BB51F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C757-19AA-4446-83E0-91296BF5B8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A068-F3EA-434C-B379-F441756351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105-7706-41B2-9349-0050B4B307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4763-CB05-48EA-9E9C-58D00820BC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E0A2-7B49-453E-B1A5-BEA757620D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A712-80C5-4A08-8EED-E84F014605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3C8-E4BE-4621-82D1-8834543EF8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786A-B2D9-42DF-A3AB-4DA09C9A58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0568-008D-4F70-9A06-B3EDB43F66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9B0D-758A-4AB0-B7E7-FE4C2B66B5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65F4-FEA2-4C62-9E2C-84769B9CF6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0D72-D069-4A72-AF46-19E024225E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9253-EB27-477B-90BF-F23AA80B91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090-D66C-4A6B-BBEF-5BBF663CDA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6E7-B7E6-4B5B-AE49-A46343C214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30B4-6FE8-434D-9BA6-B5A0918895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C2E-0677-4BE6-A34D-A2A1F28855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967-6244-4529-AC3B-37432ED27C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456D-1141-433F-862E-AC23C8AEC3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F920-89BC-422F-8338-468B4121B4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2A3F-BAC2-4EDA-A6C3-CD1389FB5E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90A2-51D2-4EF3-9F05-FEC7E4E32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42F-2E4F-42DF-94B0-0F6FBAC3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94B-9B2E-4A15-8596-17719FB9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824-166E-4C5D-B5B5-24BED04C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D04-8549-444E-8077-2DCD628C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859-5889-494F-BF39-168259D3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73E-8302-4076-BAB6-3A8FBCA8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29E-F61F-49E6-B4D9-9B94BFE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29A-0F24-4710-9D6B-8F5963E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26A-6202-47C5-BDE4-3860738B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983-6662-4E46-A7B8-FE19F5B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1A6-9752-4E6D-BE24-60FDCA5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065-6953-45C7-92DD-4720C39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FE1-2E4C-451A-925F-A47AD19BAEA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500720" y="213372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50072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427640" y="4149720"/>
          <a:ext cx="1295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284720" y="1989000"/>
          <a:ext cx="167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989000"/>
                    <a:ext cx="167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9"/>
          <p:cNvGraphicFramePr/>
          <p:nvPr/>
        </p:nvGraphicFramePr>
        <p:xfrm>
          <a:off x="4356000" y="4221000"/>
          <a:ext cx="1282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282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85128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4221000"/>
          <a:ext cx="2819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19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70836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8000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85128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85128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851280" y="198900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067280" y="4149720"/>
          <a:ext cx="208260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0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70836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51280" y="2060640"/>
          <a:ext cx="276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6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24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780000" y="1989000"/>
          <a:ext cx="2755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755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708360" y="4149720"/>
          <a:ext cx="2718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18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635280" y="2060640"/>
          <a:ext cx="3187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187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708360" y="4149720"/>
          <a:ext cx="2781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500720" y="213372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427640" y="4149720"/>
          <a:ext cx="1346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46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643280" y="2133720"/>
          <a:ext cx="1333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133720"/>
                    <a:ext cx="1333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788000" y="4149720"/>
          <a:ext cx="1333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149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427640" y="2060640"/>
          <a:ext cx="135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5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2133720"/>
          <a:ext cx="1295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356000" y="4149720"/>
          <a:ext cx="13208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427640" y="206064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572000" y="4149720"/>
          <a:ext cx="10922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092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427640" y="1989000"/>
          <a:ext cx="1320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356000" y="4221000"/>
          <a:ext cx="13208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3208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2T18:23:47Z</dcterms:modified>
  <cp:revision>15</cp:revision>
  <dc:subject/>
  <dc:title>Diapositive 1</dc:title>
</cp:coreProperties>
</file>