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4CA-2B58-41BA-A8BF-FAB8D35F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71E-8C40-4642-87F3-2D525F96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EEF-93B1-4F6B-91AA-42A0D8C5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772-A338-4D4F-BBCA-DA3E5E84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C18-D24F-4B2E-BC97-9D8A4E0B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303-A624-403D-9186-2F9C3103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4B9-564E-4E24-96FD-FFAF297A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AF0-E548-4540-9420-36A49D4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C5B-5F98-4C9A-9A67-11AFE1DF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A41-2C16-40AB-9568-2BFE116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407-E29C-4BF8-BEEF-F474F001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B30-B80F-4D50-A34F-289B1DE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E15-E464-4E30-9F0F-6022F45B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7280" y="526896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1080" y="595008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1928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4880" y="562932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27640" y="5589720"/>
          <a:ext cx="156204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5589720"/>
                    <a:ext cx="1562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516720" y="5589720"/>
          <a:ext cx="140976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5589720"/>
                    <a:ext cx="14097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459640" y="5589720"/>
          <a:ext cx="52092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5589720"/>
                    <a:ext cx="520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76364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2360" y="580536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92360" y="1268280"/>
            <a:ext cx="6143400" cy="4507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20" y="5546880"/>
            <a:ext cx="92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s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BA) et [BC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85320" y="5556240"/>
            <a:ext cx="86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40360" y="5589720"/>
          <a:ext cx="160020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5589720"/>
                    <a:ext cx="16002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5589720"/>
          <a:ext cx="15238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2360" y="5589720"/>
                    <a:ext cx="15238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458200" y="5734080"/>
          <a:ext cx="6858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8200" y="5734080"/>
                    <a:ext cx="685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445000"/>
            <a:ext cx="79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l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oint 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91440" y="5484960"/>
            <a:ext cx="90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HG) et [H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06064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3440" y="54849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3440" y="562932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O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70160" y="5373720"/>
            <a:ext cx="46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2360" y="5877000"/>
            <a:ext cx="49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1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35116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20500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8920" y="52689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600" y="530064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09T16:16:32Z</dcterms:modified>
  <cp:revision>20</cp:revision>
  <dc:subject/>
  <dc:title>Diapositive 1</dc:title>
</cp:coreProperties>
</file>