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2CD-26EF-43B0-89F4-00BAA7AA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440-A955-4F21-A90A-02D3A93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51E-FD7A-422A-866E-D0EE66E0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EB8-99E0-4050-A66C-E4D59FC4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308-08DE-434A-A6EE-D0DB4E3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D9-EDC3-4571-93AD-58984EA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E39-E65F-4E7D-8009-A7E2F4C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199-FC96-4F35-AAC7-864E112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57B-3056-439D-985C-BD63141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21D-8AB4-4571-AEA6-3616089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FF2-BAE8-41DB-BFC4-A5D44C9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AF7-FB52-43C8-AB9D-0F804B7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301-21BA-49F1-9954-7E3610BC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732720" y="1628640"/>
          <a:ext cx="147312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628640"/>
                    <a:ext cx="1473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04000" y="3645000"/>
          <a:ext cx="11430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645000"/>
                    <a:ext cx="1143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0720" y="198900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8900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414972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0720" y="2060640"/>
          <a:ext cx="1320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20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0" y="407664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7664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48000" y="1557360"/>
          <a:ext cx="393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393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3573360"/>
          <a:ext cx="40640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40640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4800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2360" y="4149720"/>
          <a:ext cx="3632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60640"/>
          <a:ext cx="3962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19640" y="4149720"/>
          <a:ext cx="3606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60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48000" y="1989000"/>
          <a:ext cx="387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7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3640" y="4076640"/>
          <a:ext cx="41907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190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&lt;12&lt;34&lt;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2&gt;34&gt;6&gt;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7&gt;12&gt;9&gt;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&lt;56&lt;78&lt;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484280"/>
          <a:ext cx="38862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8862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3645000"/>
          <a:ext cx="32259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645000"/>
                    <a:ext cx="3225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9564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95640" y="4221000"/>
          <a:ext cx="2882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88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2133720"/>
          <a:ext cx="2730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5128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45,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618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3280" y="206064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4036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211640" y="4076640"/>
          <a:ext cx="212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212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40360" y="2060640"/>
          <a:ext cx="2463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463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4036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92360" y="2565360"/>
          <a:ext cx="3886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3886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4581360"/>
          <a:ext cx="4228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81360"/>
                    <a:ext cx="4228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12; 56; 34;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 s l’ordre décroissant 6; 34; 72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4;67;9;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56;78;9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4:51Z</dcterms:modified>
  <cp:revision>19</cp:revision>
  <dc:subject/>
  <dc:title>Diapositive 1</dc:title>
</cp:coreProperties>
</file>