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B770-476F-4E6E-8E65-E5946B44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DE5-811A-449C-8191-CC205889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D80-0DD1-4CCF-B19F-D570109A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820E-6C58-4BC0-9DBB-EE1C5A31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0982-F304-4D44-ADDA-2C80F744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412-3E48-483D-9D5E-2AA5B1CE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B113-88DF-45D5-BB67-67503D0D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563-CD3E-40E9-BC88-AC588CC6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7FC4-7B54-4588-9FCB-E79C9082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A367-1661-4405-B5C8-38943448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5598-9A3E-4F63-961A-1F8D02C8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AF6C-6E11-4189-92D2-7C2F33D1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C5A9-836A-45AC-8C08-D6EDFBCA6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523880" y="1397160"/>
          <a:ext cx="6361200" cy="4572000"/>
        </p:xfrm>
        <a:graphic>
          <a:graphicData uri="http://schemas.openxmlformats.org/drawingml/2006/table">
            <a:tbl>
              <a:tblPr/>
              <a:tblGrid>
                <a:gridCol w="1608120"/>
                <a:gridCol w="4753080"/>
              </a:tblGrid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ter les pointillés par = ou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ter les pointillés par = ou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932360" y="2133720"/>
          <a:ext cx="29196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133720"/>
                    <a:ext cx="291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932360" y="4437000"/>
          <a:ext cx="291960" cy="2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4437000"/>
                    <a:ext cx="29196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276720" y="2708280"/>
          <a:ext cx="421632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708280"/>
                    <a:ext cx="42163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059280" y="4941720"/>
          <a:ext cx="4635360" cy="7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9280" y="4941720"/>
                    <a:ext cx="46353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a fraction décimale de 40,78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a fraction décimale de 1,8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rime tous les zéros inutiles de 1023,0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rime tous les zéros inutiles de 0340,09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24360" y="2060640"/>
          <a:ext cx="28321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06064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24360" y="4221000"/>
          <a:ext cx="28447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8447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3880" y="1397160"/>
          <a:ext cx="664848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0403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348000" y="2133720"/>
          <a:ext cx="4686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133720"/>
                    <a:ext cx="4686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419640" y="4149720"/>
          <a:ext cx="3962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962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348000" y="1484280"/>
          <a:ext cx="401328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40132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348000" y="3573360"/>
          <a:ext cx="402588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573360"/>
                    <a:ext cx="40258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08360" y="1557360"/>
          <a:ext cx="33019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557360"/>
                    <a:ext cx="33019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348000" y="3645000"/>
          <a:ext cx="401328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645000"/>
                    <a:ext cx="40132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635280" y="1989000"/>
          <a:ext cx="31496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989000"/>
                    <a:ext cx="31496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635280" y="4149720"/>
          <a:ext cx="351792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149720"/>
                    <a:ext cx="3517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419640" y="1989000"/>
          <a:ext cx="37461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989000"/>
                    <a:ext cx="37461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203640" y="4076640"/>
          <a:ext cx="425448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076640"/>
                    <a:ext cx="42544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397160"/>
          <a:ext cx="693576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327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03640" y="1557360"/>
          <a:ext cx="48387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557360"/>
                    <a:ext cx="48387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851280" y="3573360"/>
          <a:ext cx="383544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573360"/>
                    <a:ext cx="383544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397160"/>
          <a:ext cx="849780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769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195640" y="2133720"/>
          <a:ext cx="59814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133720"/>
                    <a:ext cx="59814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124000" y="4005360"/>
          <a:ext cx="654048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4005360"/>
                    <a:ext cx="65404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27640" y="1989000"/>
          <a:ext cx="1346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989000"/>
                    <a:ext cx="1346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356000" y="4149720"/>
          <a:ext cx="1346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346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1989000"/>
          <a:ext cx="2869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2869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708360" y="4149720"/>
          <a:ext cx="2158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158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l est le double de 16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l est le double de 19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a fraction décimale de 34,8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a fraction décimale de 78,0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3880" y="1397160"/>
          <a:ext cx="70088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400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’écritu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cimal d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’écritu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cimal d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77080" y="1628640"/>
          <a:ext cx="118116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7080" y="1628640"/>
                    <a:ext cx="11811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732720" y="3573360"/>
          <a:ext cx="153648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3573360"/>
                    <a:ext cx="15364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348,905 quel est le chiffre des centaine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578,094 quel est le chiffre des unité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ter les pointillés par = ou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ter les pointillés par = ou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659640" y="2205000"/>
          <a:ext cx="29196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2205000"/>
                    <a:ext cx="291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732720" y="4292640"/>
          <a:ext cx="291960" cy="29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4292640"/>
                    <a:ext cx="291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067280" y="2637000"/>
          <a:ext cx="21589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7280" y="2637000"/>
                    <a:ext cx="2158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067280" y="4797360"/>
          <a:ext cx="23619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7280" y="4797360"/>
                    <a:ext cx="2361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07T19:04:35Z</dcterms:modified>
  <cp:revision>18</cp:revision>
  <dc:subject/>
  <dc:title>Diapositive 1</dc:title>
</cp:coreProperties>
</file>