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C53F-579F-4EB8-8553-7516E2E7D0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417A-60D9-44BE-AB6B-1743406782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A91D-E806-4239-865E-9BAA30954B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B56E-1B95-4338-81B2-7E8B4B29F4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43E6-E255-4B73-83C9-2AAC9E9498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7E36-046E-4CE8-9DCB-D8884E620D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4202-59F9-4929-BC0E-BB46AEBA39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3F97-2D01-4121-8B58-11664D50E5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D6D4-6A70-42F6-B431-92037DF6200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1D50-8A11-4ED1-AD16-32AECC34D7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7AC1-5288-4D4F-93C1-69CCB89247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EC8F-4E4E-47D7-B71C-BCFD124CAB0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A37A-4867-4BCD-967A-AB5C208E1A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320D-719F-4723-934A-3F06FCA277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6D62-C390-49C8-B561-1B3DB8C4BA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DB5D-BCB0-4FFF-B8DD-F86A6BD295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3A52-505A-4CFE-90C8-A4E19B703E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9E4D-ECCF-4C1C-8782-088D087D6F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034E-3FF0-4A00-BAC1-97D3C41552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9AD9-17F8-413F-9CF3-F19C37310D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F5CD-7DAE-4CD6-B159-623284696D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EE31-1B0D-4F8B-9EAF-95D76EC2F6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CF37-5972-458C-9DDE-98C5689835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6B4D-9C82-49E4-B78E-2A2EEC9B1B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F2BB-ED73-4874-8554-B664B1430B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D889-A5F6-4484-BD61-BA4ABB8384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EBB-875A-4FA2-AD5B-1F297417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835-1F87-44F6-B6C7-D67B00EE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4AE0-62E5-42B8-A6FB-40F827F3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DCF-3DDB-42F9-8FC7-93FC3998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EC6-025D-4D4B-BCA8-F001D751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B5C6-D469-4C5C-8398-1CBD777E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3A2-B5EF-42A9-809D-6F790267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9B0-3186-41CA-9E46-4D276A90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035-A918-4237-89C8-E8AE2C36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989-4BF8-47A5-B3ED-DAD8C04C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DA3-CAD4-4522-9741-355BD777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4ECA-0624-4B0F-B644-7D099622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2661-C293-4962-BFC9-73498F4EFC9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1120" y="1484280"/>
            <a:ext cx="814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4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4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47640" y="249228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ZoneTexte 16"/>
          <p:cNvSpPr/>
          <p:nvPr/>
        </p:nvSpPr>
        <p:spPr>
          <a:xfrm>
            <a:off x="1005120" y="1557360"/>
            <a:ext cx="71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évelopper l’expression suiv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7"/>
          <p:cNvGraphicFramePr/>
          <p:nvPr/>
        </p:nvGraphicFramePr>
        <p:xfrm>
          <a:off x="3924360" y="2997360"/>
          <a:ext cx="3168720" cy="12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997360"/>
                    <a:ext cx="3168720" cy="12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18"/>
          <p:cNvGraphicFramePr/>
          <p:nvPr/>
        </p:nvGraphicFramePr>
        <p:xfrm>
          <a:off x="3780000" y="4869000"/>
          <a:ext cx="3281040" cy="129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869000"/>
                    <a:ext cx="328104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47640" y="242100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ZoneTexte 16"/>
          <p:cNvSpPr/>
          <p:nvPr/>
        </p:nvSpPr>
        <p:spPr>
          <a:xfrm>
            <a:off x="1005120" y="1557360"/>
            <a:ext cx="71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évelopper l’expression suiv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17"/>
          <p:cNvGraphicFramePr/>
          <p:nvPr/>
        </p:nvGraphicFramePr>
        <p:xfrm>
          <a:off x="3348000" y="2637000"/>
          <a:ext cx="4016520" cy="15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637000"/>
                    <a:ext cx="401652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8"/>
          <p:cNvGraphicFramePr/>
          <p:nvPr/>
        </p:nvGraphicFramePr>
        <p:xfrm>
          <a:off x="3419640" y="4797360"/>
          <a:ext cx="3673440" cy="13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797360"/>
                    <a:ext cx="367344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47640" y="256536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ZoneTexte 16"/>
          <p:cNvSpPr/>
          <p:nvPr/>
        </p:nvSpPr>
        <p:spPr>
          <a:xfrm>
            <a:off x="1005120" y="1557360"/>
            <a:ext cx="71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évelopper l’expression suiv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17"/>
          <p:cNvGraphicFramePr/>
          <p:nvPr/>
        </p:nvGraphicFramePr>
        <p:xfrm>
          <a:off x="3419640" y="3068640"/>
          <a:ext cx="331308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3068640"/>
                    <a:ext cx="33130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8"/>
          <p:cNvGraphicFramePr/>
          <p:nvPr/>
        </p:nvGraphicFramePr>
        <p:xfrm>
          <a:off x="3492360" y="4869000"/>
          <a:ext cx="3456000" cy="11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869000"/>
                    <a:ext cx="34560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15"/>
          <p:cNvGraphicFramePr/>
          <p:nvPr/>
        </p:nvGraphicFramePr>
        <p:xfrm>
          <a:off x="3276720" y="1989000"/>
          <a:ext cx="42829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89000"/>
                    <a:ext cx="42829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6"/>
          <p:cNvGraphicFramePr/>
          <p:nvPr/>
        </p:nvGraphicFramePr>
        <p:xfrm>
          <a:off x="3492360" y="4076640"/>
          <a:ext cx="399276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076640"/>
                    <a:ext cx="39927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15"/>
          <p:cNvGraphicFramePr/>
          <p:nvPr/>
        </p:nvGraphicFramePr>
        <p:xfrm>
          <a:off x="3635280" y="1773360"/>
          <a:ext cx="33940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773360"/>
                    <a:ext cx="33940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16"/>
          <p:cNvGraphicFramePr/>
          <p:nvPr/>
        </p:nvGraphicFramePr>
        <p:xfrm>
          <a:off x="3276720" y="4005360"/>
          <a:ext cx="4221000" cy="71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005360"/>
                    <a:ext cx="422100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50920" y="1397160"/>
          <a:ext cx="8569080" cy="4063680"/>
        </p:xfrm>
        <a:graphic>
          <a:graphicData uri="http://schemas.openxmlformats.org/drawingml/2006/table">
            <a:tbl>
              <a:tblPr/>
              <a:tblGrid>
                <a:gridCol w="2260440"/>
                <a:gridCol w="6308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5"/>
          <p:cNvGraphicFramePr/>
          <p:nvPr/>
        </p:nvGraphicFramePr>
        <p:xfrm>
          <a:off x="2627280" y="1773360"/>
          <a:ext cx="608508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773360"/>
                    <a:ext cx="60850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6"/>
          <p:cNvGraphicFramePr/>
          <p:nvPr/>
        </p:nvGraphicFramePr>
        <p:xfrm>
          <a:off x="2771640" y="3860640"/>
          <a:ext cx="4241880" cy="11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3860640"/>
                    <a:ext cx="424188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5"/>
          <p:cNvGraphicFramePr/>
          <p:nvPr/>
        </p:nvGraphicFramePr>
        <p:xfrm>
          <a:off x="3203640" y="1844640"/>
          <a:ext cx="43210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844640"/>
                    <a:ext cx="43210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6"/>
          <p:cNvGraphicFramePr/>
          <p:nvPr/>
        </p:nvGraphicFramePr>
        <p:xfrm>
          <a:off x="3276720" y="3933720"/>
          <a:ext cx="4174920" cy="112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933720"/>
                    <a:ext cx="417492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397160"/>
          <a:ext cx="8642160" cy="4063680"/>
        </p:xfrm>
        <a:graphic>
          <a:graphicData uri="http://schemas.openxmlformats.org/drawingml/2006/table">
            <a:tbl>
              <a:tblPr/>
              <a:tblGrid>
                <a:gridCol w="1657080"/>
                <a:gridCol w="6985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15"/>
          <p:cNvGraphicFramePr/>
          <p:nvPr/>
        </p:nvGraphicFramePr>
        <p:xfrm>
          <a:off x="2268360" y="1773360"/>
          <a:ext cx="6336000" cy="12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773360"/>
                    <a:ext cx="633600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6"/>
          <p:cNvGraphicFramePr/>
          <p:nvPr/>
        </p:nvGraphicFramePr>
        <p:xfrm>
          <a:off x="2124000" y="3860640"/>
          <a:ext cx="6669000" cy="13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3860640"/>
                    <a:ext cx="666900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4000" y="1397160"/>
          <a:ext cx="8569080" cy="4063680"/>
        </p:xfrm>
        <a:graphic>
          <a:graphicData uri="http://schemas.openxmlformats.org/drawingml/2006/table">
            <a:tbl>
              <a:tblPr/>
              <a:tblGrid>
                <a:gridCol w="2260440"/>
                <a:gridCol w="6308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15"/>
          <p:cNvGraphicFramePr/>
          <p:nvPr/>
        </p:nvGraphicFramePr>
        <p:xfrm>
          <a:off x="2700360" y="1700280"/>
          <a:ext cx="577044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700280"/>
                    <a:ext cx="577044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6"/>
          <p:cNvGraphicFramePr/>
          <p:nvPr/>
        </p:nvGraphicFramePr>
        <p:xfrm>
          <a:off x="2771640" y="3789360"/>
          <a:ext cx="5924520" cy="109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3789360"/>
                    <a:ext cx="592452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0920" y="1397160"/>
          <a:ext cx="856908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840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15"/>
          <p:cNvGraphicFramePr/>
          <p:nvPr/>
        </p:nvGraphicFramePr>
        <p:xfrm>
          <a:off x="2195640" y="1916280"/>
          <a:ext cx="615636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16280"/>
                    <a:ext cx="61563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6"/>
          <p:cNvGraphicFramePr/>
          <p:nvPr/>
        </p:nvGraphicFramePr>
        <p:xfrm>
          <a:off x="2411280" y="3933720"/>
          <a:ext cx="5508720" cy="103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3933720"/>
                    <a:ext cx="550872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1800000"/>
                <a:gridCol w="669600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15"/>
          <p:cNvGraphicFramePr/>
          <p:nvPr/>
        </p:nvGraphicFramePr>
        <p:xfrm>
          <a:off x="2340000" y="1844640"/>
          <a:ext cx="619272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844640"/>
                    <a:ext cx="619272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6"/>
          <p:cNvGraphicFramePr/>
          <p:nvPr/>
        </p:nvGraphicFramePr>
        <p:xfrm>
          <a:off x="2340000" y="3789360"/>
          <a:ext cx="6192720" cy="11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3789360"/>
                    <a:ext cx="61927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50920" y="1397160"/>
          <a:ext cx="849780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769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15"/>
          <p:cNvGraphicFramePr/>
          <p:nvPr/>
        </p:nvGraphicFramePr>
        <p:xfrm>
          <a:off x="2124000" y="1916280"/>
          <a:ext cx="594036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916280"/>
                    <a:ext cx="59403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6"/>
          <p:cNvGraphicFramePr/>
          <p:nvPr/>
        </p:nvGraphicFramePr>
        <p:xfrm>
          <a:off x="2050920" y="3860640"/>
          <a:ext cx="6121440" cy="104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860640"/>
                    <a:ext cx="61214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0920" y="1397160"/>
          <a:ext cx="849780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769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15"/>
          <p:cNvGraphicFramePr/>
          <p:nvPr/>
        </p:nvGraphicFramePr>
        <p:xfrm>
          <a:off x="2050920" y="1916280"/>
          <a:ext cx="619308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16280"/>
                    <a:ext cx="61930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16"/>
          <p:cNvGraphicFramePr/>
          <p:nvPr/>
        </p:nvGraphicFramePr>
        <p:xfrm>
          <a:off x="2195640" y="3716280"/>
          <a:ext cx="597528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3716280"/>
                    <a:ext cx="59752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619280" y="27939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ZoneTexte 16"/>
          <p:cNvSpPr/>
          <p:nvPr/>
        </p:nvSpPr>
        <p:spPr>
          <a:xfrm>
            <a:off x="1505520" y="1700280"/>
            <a:ext cx="62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Réduire l’expression suiva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28"/>
          <p:cNvGraphicFramePr/>
          <p:nvPr/>
        </p:nvGraphicFramePr>
        <p:xfrm>
          <a:off x="3780000" y="3357720"/>
          <a:ext cx="338436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3357720"/>
                    <a:ext cx="33843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29"/>
          <p:cNvGraphicFramePr/>
          <p:nvPr/>
        </p:nvGraphicFramePr>
        <p:xfrm>
          <a:off x="3635280" y="5229360"/>
          <a:ext cx="3529080" cy="104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5229360"/>
                    <a:ext cx="352908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76360" y="249228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ZoneTexte 16"/>
          <p:cNvSpPr/>
          <p:nvPr/>
        </p:nvSpPr>
        <p:spPr>
          <a:xfrm>
            <a:off x="1505520" y="1700280"/>
            <a:ext cx="62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Réduire l’expression suiva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17"/>
          <p:cNvGraphicFramePr/>
          <p:nvPr/>
        </p:nvGraphicFramePr>
        <p:xfrm>
          <a:off x="3708360" y="2852640"/>
          <a:ext cx="33940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852640"/>
                    <a:ext cx="33940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9"/>
          <p:cNvGraphicFramePr/>
          <p:nvPr/>
        </p:nvGraphicFramePr>
        <p:xfrm>
          <a:off x="3348000" y="4653000"/>
          <a:ext cx="394956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653000"/>
                    <a:ext cx="39495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47640" y="256536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ZoneTexte 16"/>
          <p:cNvSpPr/>
          <p:nvPr/>
        </p:nvSpPr>
        <p:spPr>
          <a:xfrm>
            <a:off x="1505520" y="1700280"/>
            <a:ext cx="62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Réduire l’expression suiva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15"/>
          <p:cNvGraphicFramePr/>
          <p:nvPr/>
        </p:nvGraphicFramePr>
        <p:xfrm>
          <a:off x="3276720" y="3068640"/>
          <a:ext cx="40320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068640"/>
                    <a:ext cx="4032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6"/>
          <p:cNvGraphicFramePr/>
          <p:nvPr/>
        </p:nvGraphicFramePr>
        <p:xfrm>
          <a:off x="3276720" y="5084640"/>
          <a:ext cx="4241520" cy="11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5084640"/>
                    <a:ext cx="424152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619280" y="249228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ZoneTexte 16"/>
          <p:cNvSpPr/>
          <p:nvPr/>
        </p:nvSpPr>
        <p:spPr>
          <a:xfrm>
            <a:off x="1505520" y="1700280"/>
            <a:ext cx="62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Réduire l’expression suiva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15"/>
          <p:cNvGraphicFramePr/>
          <p:nvPr/>
        </p:nvGraphicFramePr>
        <p:xfrm>
          <a:off x="3348000" y="2852640"/>
          <a:ext cx="418320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852640"/>
                    <a:ext cx="41832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6"/>
          <p:cNvGraphicFramePr/>
          <p:nvPr/>
        </p:nvGraphicFramePr>
        <p:xfrm>
          <a:off x="3348000" y="4869000"/>
          <a:ext cx="4294080" cy="11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869000"/>
                    <a:ext cx="42940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ZoneTexte 16"/>
          <p:cNvSpPr/>
          <p:nvPr/>
        </p:nvSpPr>
        <p:spPr>
          <a:xfrm>
            <a:off x="1005120" y="1557360"/>
            <a:ext cx="71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évelopper l’expression suiv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17"/>
          <p:cNvGraphicFramePr/>
          <p:nvPr/>
        </p:nvGraphicFramePr>
        <p:xfrm>
          <a:off x="3924360" y="3068640"/>
          <a:ext cx="287964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068640"/>
                    <a:ext cx="28796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18"/>
          <p:cNvGraphicFramePr/>
          <p:nvPr/>
        </p:nvGraphicFramePr>
        <p:xfrm>
          <a:off x="4140360" y="5013360"/>
          <a:ext cx="2663640" cy="112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5013360"/>
                    <a:ext cx="266364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47640" y="256536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ZoneTexte 16"/>
          <p:cNvSpPr/>
          <p:nvPr/>
        </p:nvSpPr>
        <p:spPr>
          <a:xfrm>
            <a:off x="1005120" y="1557360"/>
            <a:ext cx="71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évelopper l’expression suiv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17"/>
          <p:cNvGraphicFramePr/>
          <p:nvPr/>
        </p:nvGraphicFramePr>
        <p:xfrm>
          <a:off x="3492360" y="2852640"/>
          <a:ext cx="3672000" cy="14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852640"/>
                    <a:ext cx="3672000" cy="14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8"/>
          <p:cNvGraphicFramePr/>
          <p:nvPr/>
        </p:nvGraphicFramePr>
        <p:xfrm>
          <a:off x="3348000" y="4869000"/>
          <a:ext cx="3672000" cy="14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869000"/>
                    <a:ext cx="367200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47640" y="249228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ZoneTexte 16"/>
          <p:cNvSpPr/>
          <p:nvPr/>
        </p:nvSpPr>
        <p:spPr>
          <a:xfrm>
            <a:off x="1005120" y="1557360"/>
            <a:ext cx="71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évelopper l’expression suiv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3851280" y="2997360"/>
          <a:ext cx="273672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997360"/>
                    <a:ext cx="273672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3924360" y="5013360"/>
          <a:ext cx="2592360" cy="103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5013360"/>
                    <a:ext cx="25923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3-31T18:49:58Z</dcterms:modified>
  <cp:revision>17</cp:revision>
  <dc:subject/>
  <dc:title>Diapositive 1</dc:title>
</cp:coreProperties>
</file>