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2E78-1D9C-4C98-A304-4DDD91F5FD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83CF-3390-4C72-A2A7-46406775B2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6175-156B-4FF7-A765-5862D0902B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30F3-824C-4392-A897-E0D66CFE67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995A-8033-4ACB-AB2F-2B369465A5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F1C5-267A-4C09-9E8F-397D73D96D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F06-0B04-4CDE-8AB3-4E833C88F2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F12A-4656-4732-92FC-D959FB8950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A8E2-FAB4-400D-993C-5AA27C2DCF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C9ED-89D4-4F6F-B2B5-271284BFC3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6E00-FC1C-4584-952F-076282C77A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F1EE-F0D0-4F14-B242-6FB07C8DC8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5B17-DEF0-47BE-94A5-EE1B23743E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69D8-86CB-460C-894A-C728E2761B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D6F-BA09-4EAF-865E-6AF90A3445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D4CE-0958-4039-B182-596C3A5AC4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15FD-DA16-407B-A69C-4ECA3C4F5E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7F7D-8461-49CD-AB45-758DA6FECC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A3A-38A5-47A1-AA51-2577906BEC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8736-4BF5-4BE2-9CBC-0CA1232E6F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44C4-8354-4ED0-BDA9-15CB8550D2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0290-EA97-427E-9A63-34CCD69883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A13A-976E-4EE8-93D8-E8589983AB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69D8-65E2-4094-8AD3-2366E0B922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4C60-ADA9-4085-A59D-C19AD9CC33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6A9-45C0-4948-B3A0-2DA07E27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5EB-B8DC-4F70-8A65-7491FE3B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4EF-348C-4DDF-B8FF-D1EEBC55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0E4-911A-4746-BD54-9445532E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DEE-64FF-482C-8C07-5BA4DFBA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2A5-44BD-4751-AFD0-23A4F53D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2AF-8D84-4203-8650-7440B7F3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D2A-D68A-48E7-82FF-58D109BB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AF4-3F90-4E0C-96FC-D92C91CC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914-F7DB-4B59-A3AC-54DF30A3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506-68B5-4130-B0F3-566B663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E25-06B8-4B67-BD5A-F97E2F12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356D-F7A6-4AA0-9740-663532A6A93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508320" y="2276640"/>
            <a:ext cx="876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ibliothèque peut contenir 123 livr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livres peuvent contenir 4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ibliothèqu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5"/>
          <p:cNvSpPr/>
          <p:nvPr/>
        </p:nvSpPr>
        <p:spPr>
          <a:xfrm>
            <a:off x="509400" y="2276640"/>
            <a:ext cx="87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paquets contiennent 20 bill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billes y’a-t-il dans un paqu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692360" y="1916280"/>
          <a:ext cx="561636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6163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979640" y="1916280"/>
          <a:ext cx="45687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4568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340000" y="2637000"/>
          <a:ext cx="420048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37000"/>
                    <a:ext cx="42004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2484360" y="2060640"/>
          <a:ext cx="47516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47516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835280" y="1916280"/>
          <a:ext cx="482436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16280"/>
                    <a:ext cx="48243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ZoneTexte 3"/>
          <p:cNvSpPr/>
          <p:nvPr/>
        </p:nvSpPr>
        <p:spPr>
          <a:xfrm>
            <a:off x="2554200" y="2781360"/>
            <a:ext cx="419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NE SAIT PA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71440" y="2205000"/>
            <a:ext cx="866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oîte de biscuit coûte 245F, combi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3 boîtes de biscu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979640" y="2637000"/>
          <a:ext cx="54990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37000"/>
                    <a:ext cx="54990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619280" y="2924280"/>
          <a:ext cx="531972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24280"/>
                    <a:ext cx="5319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258920" y="2708280"/>
          <a:ext cx="648180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08280"/>
                    <a:ext cx="6481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340000" y="2924280"/>
          <a:ext cx="43070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43070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268920" y="213372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inq pommes coûtent 550F, combi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 deux  pom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9 enfants par jou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4 j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35600" y="2133720"/>
            <a:ext cx="801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ur faire un gâteau pour 4 personn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faut 300g de beur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quantité de beurre faut-il pou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faire un gâteau pour 6 person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89800" y="2205000"/>
            <a:ext cx="77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enfant mesure 95cm à 1an, quell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era sa taille à 2 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506160" y="2276640"/>
            <a:ext cx="782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10m² peut contenir 15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lan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plantes pourra conteni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30m²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ZoneTexte 5"/>
          <p:cNvSpPr/>
          <p:nvPr/>
        </p:nvSpPr>
        <p:spPr>
          <a:xfrm>
            <a:off x="395280" y="234936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ZoneTexte 5"/>
          <p:cNvSpPr/>
          <p:nvPr/>
        </p:nvSpPr>
        <p:spPr>
          <a:xfrm>
            <a:off x="499680" y="2276640"/>
            <a:ext cx="811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voiture consomme 10L pour fair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 km, combien de km fait-elle avec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30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01T01:40:50Z</dcterms:modified>
  <cp:revision>29</cp:revision>
  <dc:subject/>
  <dc:title>Diapositive 1</dc:title>
</cp:coreProperties>
</file>