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F534-356E-44BE-88CC-1A69A1B6F8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8FEC-CCD6-471C-8FAA-A965E789E9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E88C-73AA-4990-A7ED-EDC6F179FD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2466-5F6A-4A78-ABFE-63264C2047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434D-D420-4093-B8C7-83DFDF4382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D43A-9B86-4315-B18D-962994FB89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538D-4088-490C-8541-07742B462B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DB95-D34A-4C15-928A-BB46F9C190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C9C4-A6D3-4511-832B-70281D34CD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C4C9-96E5-4FA1-BA91-89688B2D16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DAD5-23D1-42AD-A59E-5E9DA1D106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FB50-835D-4649-859B-F971ED051D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389A-4971-4B3B-971E-53478B3CDA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35FB-2F9B-40A6-B51C-4CEC171D1D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D90C-F685-413E-A099-141D360C8B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2739-B557-42F5-8F07-F68106DA38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7D3E-157B-49D0-A551-7386D247B4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15D4-ABAD-4A74-A68E-32C9DBF366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1924-1F20-4F40-93A8-3648A8B6A7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4E38-ACB2-4C4E-B24E-E12B79F390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CC9A-34C4-41A5-A5C5-1F8FAF7A22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DDAE-302B-42AA-B142-6B1E4FB4EE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18A9-DB70-401B-86D7-CF797BF251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36CB-4A35-4C90-AB4E-FEC81AAE69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B9F7-D293-4CC9-B628-DA1DB4ACF3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77F8-B940-4973-AABC-CEB4C76CE7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511-6F5E-4475-891D-EBD555B2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CA3-A4C6-4ED0-B5A4-790FB641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D73-0C38-40DA-9B53-3B1E35E0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719-2F46-4872-8128-DD136FC4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122-4DBA-4E2A-BE4B-03C793FF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FB1-BF78-4D37-B69B-7D688352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70E-6835-4110-A52C-C07F652E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130-8AD0-424B-876E-340D3E28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BDD-FD20-4A12-98C5-C3E2CA1F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6F7-D3AF-47C2-9981-CF165CA3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0E2-EA87-40AD-8C49-D2D12572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9A4-C00A-43AD-AFEF-1D3F68CA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8F53-36A1-4528-85BB-B3C0CA05231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120" y="1484280"/>
            <a:ext cx="814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4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"/>
          <p:cNvGraphicFramePr/>
          <p:nvPr/>
        </p:nvGraphicFramePr>
        <p:xfrm>
          <a:off x="1336680" y="1341360"/>
          <a:ext cx="675324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341360"/>
                    <a:ext cx="67532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1104840" y="1341360"/>
          <a:ext cx="72169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341360"/>
                    <a:ext cx="7216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9"/>
          <p:cNvSpPr/>
          <p:nvPr/>
        </p:nvSpPr>
        <p:spPr>
          <a:xfrm>
            <a:off x="364896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1295280" y="1341360"/>
          <a:ext cx="68374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41360"/>
                    <a:ext cx="68374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1547640" y="1341360"/>
          <a:ext cx="63309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63309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3"/>
          <p:cNvGraphicFramePr/>
          <p:nvPr/>
        </p:nvGraphicFramePr>
        <p:xfrm>
          <a:off x="3492360" y="2852640"/>
          <a:ext cx="380232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852640"/>
                    <a:ext cx="38023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3632040" y="5084640"/>
          <a:ext cx="3664080" cy="10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2040" y="5084640"/>
                    <a:ext cx="366408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2565360"/>
          <a:ext cx="8569080" cy="4064040"/>
        </p:xfrm>
        <a:graphic>
          <a:graphicData uri="http://schemas.openxmlformats.org/drawingml/2006/table">
            <a:tbl>
              <a:tblPr/>
              <a:tblGrid>
                <a:gridCol w="2260440"/>
                <a:gridCol w="630864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2"/>
          <p:cNvGraphicFramePr/>
          <p:nvPr/>
        </p:nvGraphicFramePr>
        <p:xfrm>
          <a:off x="1359000" y="1341360"/>
          <a:ext cx="671040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1341360"/>
                    <a:ext cx="67104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3"/>
          <p:cNvGraphicFramePr/>
          <p:nvPr/>
        </p:nvGraphicFramePr>
        <p:xfrm>
          <a:off x="2987640" y="3141720"/>
          <a:ext cx="572472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141720"/>
                    <a:ext cx="5724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4"/>
          <p:cNvGraphicFramePr/>
          <p:nvPr/>
        </p:nvGraphicFramePr>
        <p:xfrm>
          <a:off x="2700360" y="5157720"/>
          <a:ext cx="601200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5157720"/>
                    <a:ext cx="6012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2565360"/>
          <a:ext cx="8642160" cy="406404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2"/>
          <p:cNvGraphicFramePr/>
          <p:nvPr/>
        </p:nvGraphicFramePr>
        <p:xfrm>
          <a:off x="1104840" y="1341360"/>
          <a:ext cx="72169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341360"/>
                    <a:ext cx="7216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2771640" y="3141720"/>
          <a:ext cx="5826240" cy="71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3141720"/>
                    <a:ext cx="58262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"/>
          <p:cNvGraphicFramePr/>
          <p:nvPr/>
        </p:nvGraphicFramePr>
        <p:xfrm>
          <a:off x="2124000" y="5229360"/>
          <a:ext cx="6873840" cy="71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5229360"/>
                    <a:ext cx="68738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10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2565360"/>
          <a:ext cx="8713800" cy="4064040"/>
        </p:xfrm>
        <a:graphic>
          <a:graphicData uri="http://schemas.openxmlformats.org/drawingml/2006/table">
            <a:tbl>
              <a:tblPr/>
              <a:tblGrid>
                <a:gridCol w="1657080"/>
                <a:gridCol w="705672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473040" y="1341360"/>
          <a:ext cx="84819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341360"/>
                    <a:ext cx="84819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"/>
          <p:cNvGraphicFramePr/>
          <p:nvPr/>
        </p:nvGraphicFramePr>
        <p:xfrm>
          <a:off x="1979640" y="3284640"/>
          <a:ext cx="66960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284640"/>
                    <a:ext cx="66960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4"/>
          <p:cNvGraphicFramePr/>
          <p:nvPr/>
        </p:nvGraphicFramePr>
        <p:xfrm>
          <a:off x="2127240" y="5173560"/>
          <a:ext cx="6400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7240" y="5173560"/>
                    <a:ext cx="6400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0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1527120" y="1341360"/>
          <a:ext cx="63723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341360"/>
                    <a:ext cx="6372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3276720" y="2924280"/>
          <a:ext cx="4122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924280"/>
                    <a:ext cx="4122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4"/>
          <p:cNvGraphicFramePr/>
          <p:nvPr/>
        </p:nvGraphicFramePr>
        <p:xfrm>
          <a:off x="3127320" y="5013360"/>
          <a:ext cx="456408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7320" y="5013360"/>
                    <a:ext cx="4564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231920" y="1341360"/>
          <a:ext cx="69627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1341360"/>
                    <a:ext cx="69627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3"/>
          <p:cNvGraphicFramePr/>
          <p:nvPr/>
        </p:nvGraphicFramePr>
        <p:xfrm>
          <a:off x="3132000" y="2852640"/>
          <a:ext cx="439920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852640"/>
                    <a:ext cx="4399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3132000" y="5013360"/>
          <a:ext cx="4399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5013360"/>
                    <a:ext cx="4399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10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1252440" y="1341360"/>
          <a:ext cx="69217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1341360"/>
                    <a:ext cx="6921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"/>
          <p:cNvGraphicFramePr/>
          <p:nvPr/>
        </p:nvGraphicFramePr>
        <p:xfrm>
          <a:off x="3203640" y="3068640"/>
          <a:ext cx="4281480" cy="8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068640"/>
                    <a:ext cx="42814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4"/>
          <p:cNvGraphicFramePr/>
          <p:nvPr/>
        </p:nvGraphicFramePr>
        <p:xfrm>
          <a:off x="3222720" y="5084640"/>
          <a:ext cx="4243320" cy="86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2720" y="5084640"/>
                    <a:ext cx="424332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2565360"/>
          <a:ext cx="8713800" cy="4064040"/>
        </p:xfrm>
        <a:graphic>
          <a:graphicData uri="http://schemas.openxmlformats.org/drawingml/2006/table">
            <a:tbl>
              <a:tblPr/>
              <a:tblGrid>
                <a:gridCol w="1656000"/>
                <a:gridCol w="705780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2"/>
          <p:cNvGraphicFramePr/>
          <p:nvPr/>
        </p:nvGraphicFramePr>
        <p:xfrm>
          <a:off x="1336680" y="1341360"/>
          <a:ext cx="675324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341360"/>
                    <a:ext cx="67532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3"/>
          <p:cNvGraphicFramePr/>
          <p:nvPr/>
        </p:nvGraphicFramePr>
        <p:xfrm>
          <a:off x="2050920" y="3213000"/>
          <a:ext cx="648180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213000"/>
                    <a:ext cx="64818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4"/>
          <p:cNvGraphicFramePr/>
          <p:nvPr/>
        </p:nvGraphicFramePr>
        <p:xfrm>
          <a:off x="2033640" y="5157720"/>
          <a:ext cx="651816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3640" y="5157720"/>
                    <a:ext cx="6518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9280" y="2565360"/>
          <a:ext cx="8785440" cy="4064040"/>
        </p:xfrm>
        <a:graphic>
          <a:graphicData uri="http://schemas.openxmlformats.org/drawingml/2006/table">
            <a:tbl>
              <a:tblPr/>
              <a:tblGrid>
                <a:gridCol w="1728720"/>
                <a:gridCol w="705672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1104840" y="1341360"/>
          <a:ext cx="72169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341360"/>
                    <a:ext cx="7216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3"/>
          <p:cNvGraphicFramePr/>
          <p:nvPr/>
        </p:nvGraphicFramePr>
        <p:xfrm>
          <a:off x="2050920" y="2637000"/>
          <a:ext cx="5907240" cy="18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2637000"/>
                    <a:ext cx="59072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4"/>
          <p:cNvGraphicFramePr/>
          <p:nvPr/>
        </p:nvGraphicFramePr>
        <p:xfrm>
          <a:off x="2163600" y="4724280"/>
          <a:ext cx="5972400" cy="18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3600" y="4724280"/>
                    <a:ext cx="59724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9"/>
          <p:cNvSpPr/>
          <p:nvPr/>
        </p:nvSpPr>
        <p:spPr>
          <a:xfrm>
            <a:off x="364896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50920" y="2565360"/>
          <a:ext cx="8713800" cy="4064040"/>
        </p:xfrm>
        <a:graphic>
          <a:graphicData uri="http://schemas.openxmlformats.org/drawingml/2006/table">
            <a:tbl>
              <a:tblPr/>
              <a:tblGrid>
                <a:gridCol w="1657080"/>
                <a:gridCol w="705672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1295280" y="1341360"/>
          <a:ext cx="68374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41360"/>
                    <a:ext cx="68374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2268360" y="3141720"/>
          <a:ext cx="61912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141720"/>
                    <a:ext cx="6191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4"/>
          <p:cNvGraphicFramePr/>
          <p:nvPr/>
        </p:nvGraphicFramePr>
        <p:xfrm>
          <a:off x="2016000" y="5157720"/>
          <a:ext cx="655164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16000" y="5157720"/>
                    <a:ext cx="65516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10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1547640" y="1341360"/>
          <a:ext cx="63309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63309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1359000" y="1341360"/>
          <a:ext cx="671040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1341360"/>
                    <a:ext cx="67104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1104840" y="1341360"/>
          <a:ext cx="72169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341360"/>
                    <a:ext cx="7216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473040" y="1341360"/>
          <a:ext cx="84819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341360"/>
                    <a:ext cx="84819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1527120" y="1341360"/>
          <a:ext cx="63723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341360"/>
                    <a:ext cx="6372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2"/>
          <p:cNvGraphicFramePr/>
          <p:nvPr/>
        </p:nvGraphicFramePr>
        <p:xfrm>
          <a:off x="1231920" y="1341360"/>
          <a:ext cx="69627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1341360"/>
                    <a:ext cx="69627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1252440" y="1341360"/>
          <a:ext cx="69217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1341360"/>
                    <a:ext cx="6921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3-31T18:15:31Z</dcterms:modified>
  <cp:revision>16</cp:revision>
  <dc:subject/>
  <dc:title>Diapositive 1</dc:title>
</cp:coreProperties>
</file>