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440-8D99-4DF4-929C-2D7EA3458C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EAC5-2886-44AA-BD1A-C1418A3780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053-447B-4197-9685-8432E9567C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B01F-C222-4222-A5FA-9B16FC4762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1C1-D0F3-40B0-AAB8-172DB625C7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1C78-84AF-4BDC-81DE-EF9B4D828E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6D5-FF85-4B91-95F0-0E8A3B4D80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41F-C170-47D5-8E8B-8D54814D34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AA8-6A38-4E17-9399-58AB5C8EBA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A9D-76E2-4703-83BD-701034710D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1402-9357-4D38-823E-C33C0B4CAD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ACF-214E-4EBF-B78E-7ECD7FB5F6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7A1-49A0-45FF-9B56-A51B652D67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CBD-9E2A-4BC6-A7B8-D4DBA7C87B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5672-23B3-49B4-BD8D-20AE9E4BBE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C840-387B-4427-9038-0E88AE9AEE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31F9-4E71-4197-BEB4-8E6A2F04F8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659-FA97-4AEB-9742-848F02E1D8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8F7-1FF8-4072-A635-72074A75B9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CA81-C8DE-451C-B97F-F898139608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71C-D497-4881-86F1-55FD8CBD3B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22FC-2E7D-487E-B470-E74C3DBA3F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C2D-46B4-476D-BB70-29DA39242A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863-A40C-4282-BBBD-E424B4E0B0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06CF-CECA-45C5-B4E4-BC3E3800B1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680-317D-4BBA-83C7-0CE23C849E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B7B-76A1-47BF-B520-DBE21274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07F-AB01-4CB1-B25C-7D4B509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472-AFD0-4B96-8608-B69DBB18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2DC-E705-42FC-BEBE-FDFB65DB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142-5910-4E1E-8129-E226F94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AC8-E267-43B4-99D6-19BDF5E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53D-8D3B-4CA8-AF28-4A63C6BE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247-512D-4105-BFE7-FD31A57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257-8EFE-4537-952F-85EF52C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75C-004D-44B5-9F41-AEE1B01C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ABD-03D1-48F7-A8B4-4549753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CBB-DF73-4450-BA98-84B71F6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DA1C-3390-482C-BBC3-A10BAD18A5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5"/>
          <p:cNvGraphicFramePr/>
          <p:nvPr/>
        </p:nvGraphicFramePr>
        <p:xfrm>
          <a:off x="6516720" y="1773360"/>
          <a:ext cx="5968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73360"/>
                    <a:ext cx="596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6588000" y="3860640"/>
          <a:ext cx="57168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3860640"/>
                    <a:ext cx="5716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5"/>
          <p:cNvGraphicFramePr/>
          <p:nvPr/>
        </p:nvGraphicFramePr>
        <p:xfrm>
          <a:off x="6516720" y="1773360"/>
          <a:ext cx="5842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73360"/>
                    <a:ext cx="584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6588000" y="3789360"/>
          <a:ext cx="5842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3789360"/>
                    <a:ext cx="584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6516720" y="1700280"/>
          <a:ext cx="5587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00280"/>
                    <a:ext cx="5587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6516720" y="3789360"/>
          <a:ext cx="5205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3789360"/>
                    <a:ext cx="5205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4284720" y="1773360"/>
          <a:ext cx="19051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4284720" y="3860640"/>
          <a:ext cx="19051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860640"/>
                    <a:ext cx="1905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4211640" y="1773360"/>
          <a:ext cx="20700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20700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4211640" y="3860640"/>
          <a:ext cx="19051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860640"/>
                    <a:ext cx="1905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4211640" y="1773360"/>
          <a:ext cx="190512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051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4067280" y="3860640"/>
          <a:ext cx="22986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860640"/>
                    <a:ext cx="22986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4284720" y="1773360"/>
          <a:ext cx="20318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2031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4356000" y="3860640"/>
          <a:ext cx="20448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860640"/>
                    <a:ext cx="20448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140360" y="1844640"/>
          <a:ext cx="21081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2108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140360" y="3933720"/>
          <a:ext cx="20700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933720"/>
                    <a:ext cx="20700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4211640" y="1700280"/>
          <a:ext cx="20318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00280"/>
                    <a:ext cx="2031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4211640" y="3789360"/>
          <a:ext cx="21081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2108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4500720" y="1700280"/>
          <a:ext cx="13716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00280"/>
                    <a:ext cx="13716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4643280" y="3789360"/>
          <a:ext cx="113040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789360"/>
                    <a:ext cx="1130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4427640" y="1844640"/>
          <a:ext cx="14097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844640"/>
                    <a:ext cx="14097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284720" y="3789360"/>
          <a:ext cx="16002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789360"/>
                    <a:ext cx="16002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4284720" y="1773360"/>
          <a:ext cx="13842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13842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4284720" y="3716280"/>
          <a:ext cx="13968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716280"/>
                    <a:ext cx="13968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4356000" y="1844640"/>
          <a:ext cx="13845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13845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4356000" y="3789360"/>
          <a:ext cx="13464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789360"/>
                    <a:ext cx="1346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72000" y="1773360"/>
          <a:ext cx="10922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3360"/>
                    <a:ext cx="10922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500720" y="3789360"/>
          <a:ext cx="1091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789360"/>
                    <a:ext cx="1091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500720" y="1773360"/>
          <a:ext cx="109188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109188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427640" y="3789360"/>
          <a:ext cx="10792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789360"/>
                    <a:ext cx="1079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788000" y="1700280"/>
          <a:ext cx="10922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10922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572000" y="3860640"/>
          <a:ext cx="127008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60640"/>
                    <a:ext cx="12700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643280" y="1773360"/>
          <a:ext cx="10033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73360"/>
                    <a:ext cx="10033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572000" y="3716280"/>
          <a:ext cx="10033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16280"/>
                    <a:ext cx="1003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317840" y="1562040"/>
          <a:ext cx="101628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562040"/>
                    <a:ext cx="10162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356000" y="3860640"/>
          <a:ext cx="102888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860640"/>
                    <a:ext cx="10288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572000" y="1844640"/>
          <a:ext cx="10159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0159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427640" y="3716280"/>
          <a:ext cx="10285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716280"/>
                    <a:ext cx="10285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6732720" y="1844640"/>
          <a:ext cx="5713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844640"/>
                    <a:ext cx="5713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6659640" y="3860640"/>
          <a:ext cx="31752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3860640"/>
                    <a:ext cx="31752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0-11T17:49:50Z</dcterms:modified>
  <cp:revision>16</cp:revision>
  <dc:subject/>
  <dc:title>Diapositive 1</dc:title>
</cp:coreProperties>
</file>