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D502-A6D0-41DE-8901-20B0D31603F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651A-6E4E-4BBD-A8D4-5EC5F154AF2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82F4-FCD7-43EE-A8F7-25A1B26B152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E307-0D47-4B21-B110-AA0DECA3F05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8CC5-4232-4A0C-B431-8059BAD3088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6269-D6AB-4E23-8D28-F50F9DD8D5B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4B10-C3B5-49C0-A300-EA9E1E48EB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A7A2-534E-4EE0-B821-7AB68286C0D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70A6-7270-4014-8282-1BD8B630CC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578F-42E8-4B98-8CB1-CB0625DFD9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3A69-AB29-49A4-BEC3-05E26A2DE01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E796-8A0C-47AF-96B1-A6DF5F854C7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6D09-3430-4783-A1D6-085E22E0BF8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1E86-FB2D-4A8D-9561-C1FADDAFF0C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5251-EBED-4865-A06A-500D8A3E6BE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5C20-B19F-4770-91C6-47581D71921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5EFA-749C-4B2A-8B9F-7A090DD1C6A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5265-4362-47DF-B5A9-0C2857FB49E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683D-FC0E-4120-A9A5-8E8A50A6353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AC70-AEA6-4B51-BD51-E2277342917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3CCD-8666-411D-8141-E00980DFD61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46F8-8ACF-403C-9370-3B668BB8850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B4DB-3D61-4766-9CA9-A37B56F36A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F196-2A88-4A2D-A1C3-D95D01FA8D3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2B50-0D4A-4322-AAF4-BC8620C8CDC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5F74-8EE1-4E49-853D-E1A25D91C39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4DE7-C011-4D26-A674-33A6F1428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5A50-C31B-4E5B-86DB-F9BFAB7D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ECA5-1F63-41AE-82D6-E1459021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57D3-611B-456B-8E16-70E154248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7A37-EA69-432C-82AF-C6F12AF1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0D36-2F59-4F54-82B8-AA64E170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6008-E0DB-4D4A-9D9E-197DC1CE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33ED-28F6-4A81-9805-F7067418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7F04-990C-486A-ABFE-8915F52C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A60D-E668-4F51-A8D0-7F5E9B85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2DFA-B2CD-4234-BCB5-1C727284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2F27-F3C3-4A20-BDA8-A94A2707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AC82-63D2-4DBE-844F-51C89ADD09A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4436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4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  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476360" y="2637000"/>
          <a:ext cx="609588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ZoneTexte 16"/>
          <p:cNvSpPr/>
          <p:nvPr/>
        </p:nvSpPr>
        <p:spPr>
          <a:xfrm>
            <a:off x="435600" y="1341360"/>
            <a:ext cx="797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e résultat sous la forme d’u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uissance de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17"/>
          <p:cNvGraphicFramePr/>
          <p:nvPr/>
        </p:nvGraphicFramePr>
        <p:xfrm>
          <a:off x="3736800" y="2852640"/>
          <a:ext cx="2513160" cy="17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6800" y="2852640"/>
                    <a:ext cx="251316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18"/>
          <p:cNvGraphicFramePr/>
          <p:nvPr/>
        </p:nvGraphicFramePr>
        <p:xfrm>
          <a:off x="4356000" y="4581360"/>
          <a:ext cx="1195560" cy="206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4581360"/>
                    <a:ext cx="11955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61928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ZoneTexte 16"/>
          <p:cNvSpPr/>
          <p:nvPr/>
        </p:nvSpPr>
        <p:spPr>
          <a:xfrm>
            <a:off x="435600" y="1341360"/>
            <a:ext cx="797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e résultat sous la forme d’u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uissance de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Object 17"/>
          <p:cNvGraphicFramePr/>
          <p:nvPr/>
        </p:nvGraphicFramePr>
        <p:xfrm>
          <a:off x="4314960" y="2565360"/>
          <a:ext cx="1390680" cy="20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4960" y="2565360"/>
                    <a:ext cx="13906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18"/>
          <p:cNvGraphicFramePr/>
          <p:nvPr/>
        </p:nvGraphicFramePr>
        <p:xfrm>
          <a:off x="3879720" y="4724280"/>
          <a:ext cx="2927520" cy="173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79720" y="4724280"/>
                    <a:ext cx="292752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619280" y="27939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ZoneTexte 16"/>
          <p:cNvSpPr/>
          <p:nvPr/>
        </p:nvSpPr>
        <p:spPr>
          <a:xfrm>
            <a:off x="435600" y="1341360"/>
            <a:ext cx="797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e résultat sous la forme d’u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uissance de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Object 17"/>
          <p:cNvGraphicFramePr/>
          <p:nvPr/>
        </p:nvGraphicFramePr>
        <p:xfrm>
          <a:off x="3419640" y="3068640"/>
          <a:ext cx="353376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3068640"/>
                    <a:ext cx="35337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8"/>
          <p:cNvGraphicFramePr/>
          <p:nvPr/>
        </p:nvGraphicFramePr>
        <p:xfrm>
          <a:off x="3514680" y="5373720"/>
          <a:ext cx="353232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14680" y="5373720"/>
                    <a:ext cx="353232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8360" y="1397160"/>
          <a:ext cx="8280360" cy="4063680"/>
        </p:xfrm>
        <a:graphic>
          <a:graphicData uri="http://schemas.openxmlformats.org/drawingml/2006/table">
            <a:tbl>
              <a:tblPr/>
              <a:tblGrid>
                <a:gridCol w="1843200"/>
                <a:gridCol w="64371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15"/>
          <p:cNvGraphicFramePr/>
          <p:nvPr/>
        </p:nvGraphicFramePr>
        <p:xfrm>
          <a:off x="2954160" y="1916280"/>
          <a:ext cx="4986360" cy="106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4160" y="1916280"/>
                    <a:ext cx="498636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6"/>
          <p:cNvGraphicFramePr/>
          <p:nvPr/>
        </p:nvGraphicFramePr>
        <p:xfrm>
          <a:off x="3603600" y="3933720"/>
          <a:ext cx="3925800" cy="106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03600" y="3933720"/>
                    <a:ext cx="39258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24000" y="1397160"/>
          <a:ext cx="8496000" cy="4063680"/>
        </p:xfrm>
        <a:graphic>
          <a:graphicData uri="http://schemas.openxmlformats.org/drawingml/2006/table">
            <a:tbl>
              <a:tblPr/>
              <a:tblGrid>
                <a:gridCol w="1871640"/>
                <a:gridCol w="66243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Object 15"/>
          <p:cNvGraphicFramePr/>
          <p:nvPr/>
        </p:nvGraphicFramePr>
        <p:xfrm>
          <a:off x="3203640" y="3860640"/>
          <a:ext cx="4611600" cy="12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3860640"/>
                    <a:ext cx="461160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16"/>
          <p:cNvGraphicFramePr/>
          <p:nvPr/>
        </p:nvGraphicFramePr>
        <p:xfrm>
          <a:off x="2641680" y="1773360"/>
          <a:ext cx="5673600" cy="123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41680" y="1773360"/>
                    <a:ext cx="567360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68360" y="1397160"/>
          <a:ext cx="8137440" cy="4063680"/>
        </p:xfrm>
        <a:graphic>
          <a:graphicData uri="http://schemas.openxmlformats.org/drawingml/2006/table">
            <a:tbl>
              <a:tblPr/>
              <a:tblGrid>
                <a:gridCol w="1887480"/>
                <a:gridCol w="62499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15"/>
          <p:cNvGraphicFramePr/>
          <p:nvPr/>
        </p:nvGraphicFramePr>
        <p:xfrm>
          <a:off x="3281400" y="1844640"/>
          <a:ext cx="4317840" cy="10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1400" y="1844640"/>
                    <a:ext cx="431784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16"/>
          <p:cNvGraphicFramePr/>
          <p:nvPr/>
        </p:nvGraphicFramePr>
        <p:xfrm>
          <a:off x="3054240" y="3789360"/>
          <a:ext cx="4865760" cy="106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4240" y="3789360"/>
                    <a:ext cx="486576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4000" y="1397160"/>
          <a:ext cx="8569080" cy="4063680"/>
        </p:xfrm>
        <a:graphic>
          <a:graphicData uri="http://schemas.openxmlformats.org/drawingml/2006/table">
            <a:tbl>
              <a:tblPr/>
              <a:tblGrid>
                <a:gridCol w="2260440"/>
                <a:gridCol w="6308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5"/>
          <p:cNvGraphicFramePr/>
          <p:nvPr/>
        </p:nvGraphicFramePr>
        <p:xfrm>
          <a:off x="3560760" y="1844640"/>
          <a:ext cx="4537080" cy="12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0760" y="1844640"/>
                    <a:ext cx="453708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16"/>
          <p:cNvGraphicFramePr/>
          <p:nvPr/>
        </p:nvGraphicFramePr>
        <p:xfrm>
          <a:off x="2700360" y="3789360"/>
          <a:ext cx="5595840" cy="12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3789360"/>
                    <a:ext cx="559584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1397160"/>
          <a:ext cx="8496000" cy="5200560"/>
        </p:xfrm>
        <a:graphic>
          <a:graphicData uri="http://schemas.openxmlformats.org/drawingml/2006/table">
            <a:tbl>
              <a:tblPr/>
              <a:tblGrid>
                <a:gridCol w="2241360"/>
                <a:gridCol w="6254640"/>
              </a:tblGrid>
              <a:tr h="26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15"/>
          <p:cNvGraphicFramePr/>
          <p:nvPr/>
        </p:nvGraphicFramePr>
        <p:xfrm>
          <a:off x="2583000" y="1989000"/>
          <a:ext cx="620388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3000" y="1989000"/>
                    <a:ext cx="620388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16"/>
          <p:cNvGraphicFramePr/>
          <p:nvPr/>
        </p:nvGraphicFramePr>
        <p:xfrm>
          <a:off x="3995640" y="4292640"/>
          <a:ext cx="3098880" cy="20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292640"/>
                    <a:ext cx="30988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24000" y="1397160"/>
          <a:ext cx="8496000" cy="4063680"/>
        </p:xfrm>
        <a:graphic>
          <a:graphicData uri="http://schemas.openxmlformats.org/drawingml/2006/table">
            <a:tbl>
              <a:tblPr/>
              <a:tblGrid>
                <a:gridCol w="2241360"/>
                <a:gridCol w="6254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Object 15"/>
          <p:cNvGraphicFramePr/>
          <p:nvPr/>
        </p:nvGraphicFramePr>
        <p:xfrm>
          <a:off x="4083120" y="1413000"/>
          <a:ext cx="3068640" cy="20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83120" y="1413000"/>
                    <a:ext cx="30686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16"/>
          <p:cNvGraphicFramePr/>
          <p:nvPr/>
        </p:nvGraphicFramePr>
        <p:xfrm>
          <a:off x="2611440" y="3860640"/>
          <a:ext cx="6167520" cy="10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11440" y="3860640"/>
                    <a:ext cx="6167520" cy="10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24000" y="1397160"/>
          <a:ext cx="8496000" cy="4063680"/>
        </p:xfrm>
        <a:graphic>
          <a:graphicData uri="http://schemas.openxmlformats.org/drawingml/2006/table">
            <a:tbl>
              <a:tblPr/>
              <a:tblGrid>
                <a:gridCol w="2241360"/>
                <a:gridCol w="6254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15"/>
          <p:cNvGraphicFramePr/>
          <p:nvPr/>
        </p:nvGraphicFramePr>
        <p:xfrm>
          <a:off x="2743200" y="1916280"/>
          <a:ext cx="590868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916280"/>
                    <a:ext cx="590868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16"/>
          <p:cNvGraphicFramePr/>
          <p:nvPr/>
        </p:nvGraphicFramePr>
        <p:xfrm>
          <a:off x="3429000" y="3573360"/>
          <a:ext cx="4808520" cy="173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573360"/>
                    <a:ext cx="480852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79280" y="1397160"/>
          <a:ext cx="8785440" cy="4840200"/>
        </p:xfrm>
        <a:graphic>
          <a:graphicData uri="http://schemas.openxmlformats.org/drawingml/2006/table">
            <a:tbl>
              <a:tblPr/>
              <a:tblGrid>
                <a:gridCol w="2317680"/>
                <a:gridCol w="6467760"/>
              </a:tblGrid>
              <a:tr h="242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Object 15"/>
          <p:cNvGraphicFramePr/>
          <p:nvPr/>
        </p:nvGraphicFramePr>
        <p:xfrm>
          <a:off x="3059280" y="1628640"/>
          <a:ext cx="5243400" cy="17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628640"/>
                    <a:ext cx="524340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16"/>
          <p:cNvGraphicFramePr/>
          <p:nvPr/>
        </p:nvGraphicFramePr>
        <p:xfrm>
          <a:off x="4284720" y="3933720"/>
          <a:ext cx="3117960" cy="206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933720"/>
                    <a:ext cx="31179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24000" y="1397160"/>
          <a:ext cx="8496000" cy="4063680"/>
        </p:xfrm>
        <a:graphic>
          <a:graphicData uri="http://schemas.openxmlformats.org/drawingml/2006/table">
            <a:tbl>
              <a:tblPr/>
              <a:tblGrid>
                <a:gridCol w="2241360"/>
                <a:gridCol w="6254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Object 15"/>
          <p:cNvGraphicFramePr/>
          <p:nvPr/>
        </p:nvGraphicFramePr>
        <p:xfrm>
          <a:off x="3930480" y="1341360"/>
          <a:ext cx="3508560" cy="20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0480" y="1341360"/>
                    <a:ext cx="35085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16"/>
          <p:cNvGraphicFramePr/>
          <p:nvPr/>
        </p:nvGraphicFramePr>
        <p:xfrm>
          <a:off x="2841480" y="3573360"/>
          <a:ext cx="6008760" cy="173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1480" y="3573360"/>
                    <a:ext cx="600876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9280" y="1397160"/>
          <a:ext cx="8964720" cy="4063680"/>
        </p:xfrm>
        <a:graphic>
          <a:graphicData uri="http://schemas.openxmlformats.org/drawingml/2006/table">
            <a:tbl>
              <a:tblPr/>
              <a:tblGrid>
                <a:gridCol w="2365560"/>
                <a:gridCol w="65991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Object 15"/>
          <p:cNvGraphicFramePr/>
          <p:nvPr/>
        </p:nvGraphicFramePr>
        <p:xfrm>
          <a:off x="2719440" y="1844640"/>
          <a:ext cx="618480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9440" y="1844640"/>
                    <a:ext cx="618480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16"/>
          <p:cNvGraphicFramePr/>
          <p:nvPr/>
        </p:nvGraphicFramePr>
        <p:xfrm>
          <a:off x="2665440" y="3933720"/>
          <a:ext cx="616428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5440" y="3933720"/>
                    <a:ext cx="616428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ZoneTexte 16"/>
          <p:cNvSpPr/>
          <p:nvPr/>
        </p:nvSpPr>
        <p:spPr>
          <a:xfrm>
            <a:off x="1290960" y="1557360"/>
            <a:ext cx="64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’écriture décimale d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28"/>
          <p:cNvGraphicFramePr/>
          <p:nvPr/>
        </p:nvGraphicFramePr>
        <p:xfrm>
          <a:off x="4265640" y="3068640"/>
          <a:ext cx="1335240" cy="10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5640" y="3068640"/>
                    <a:ext cx="133524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29"/>
          <p:cNvGraphicFramePr/>
          <p:nvPr/>
        </p:nvGraphicFramePr>
        <p:xfrm>
          <a:off x="4265640" y="5157720"/>
          <a:ext cx="1335240" cy="106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5640" y="5157720"/>
                    <a:ext cx="133524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47640" y="2349360"/>
          <a:ext cx="6096240" cy="4064040"/>
        </p:xfrm>
        <a:graphic>
          <a:graphicData uri="http://schemas.openxmlformats.org/drawingml/2006/table">
            <a:tbl>
              <a:tblPr/>
              <a:tblGrid>
                <a:gridCol w="160848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ZoneTexte 16"/>
          <p:cNvSpPr/>
          <p:nvPr/>
        </p:nvSpPr>
        <p:spPr>
          <a:xfrm>
            <a:off x="1290960" y="1557360"/>
            <a:ext cx="64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’écriture décimale d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Object 17"/>
          <p:cNvGraphicFramePr/>
          <p:nvPr/>
        </p:nvGraphicFramePr>
        <p:xfrm>
          <a:off x="4098960" y="3068640"/>
          <a:ext cx="1668600" cy="10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8960" y="3068640"/>
                    <a:ext cx="16686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18"/>
          <p:cNvGraphicFramePr/>
          <p:nvPr/>
        </p:nvGraphicFramePr>
        <p:xfrm>
          <a:off x="3986280" y="4869000"/>
          <a:ext cx="1668240" cy="106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86280" y="4869000"/>
                    <a:ext cx="166824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476360" y="249228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ZoneTexte 16"/>
          <p:cNvSpPr/>
          <p:nvPr/>
        </p:nvSpPr>
        <p:spPr>
          <a:xfrm>
            <a:off x="294120" y="1557360"/>
            <a:ext cx="89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a puissance de 10 correspondant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Object 15"/>
          <p:cNvGraphicFramePr/>
          <p:nvPr/>
        </p:nvGraphicFramePr>
        <p:xfrm>
          <a:off x="3922560" y="3176640"/>
          <a:ext cx="2022480" cy="84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2560" y="3176640"/>
                    <a:ext cx="202248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16"/>
          <p:cNvGraphicFramePr/>
          <p:nvPr/>
        </p:nvGraphicFramePr>
        <p:xfrm>
          <a:off x="3525840" y="5148360"/>
          <a:ext cx="3081240" cy="84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25840" y="5148360"/>
                    <a:ext cx="308124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403280" y="2421000"/>
          <a:ext cx="609624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ZoneTexte 16"/>
          <p:cNvSpPr/>
          <p:nvPr/>
        </p:nvSpPr>
        <p:spPr>
          <a:xfrm>
            <a:off x="294120" y="1557360"/>
            <a:ext cx="89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a puissance de 10 correspondant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15"/>
          <p:cNvGraphicFramePr/>
          <p:nvPr/>
        </p:nvGraphicFramePr>
        <p:xfrm>
          <a:off x="4010040" y="3087720"/>
          <a:ext cx="1846080" cy="102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0040" y="3087720"/>
                    <a:ext cx="184608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6"/>
          <p:cNvGraphicFramePr/>
          <p:nvPr/>
        </p:nvGraphicFramePr>
        <p:xfrm>
          <a:off x="3575160" y="5003640"/>
          <a:ext cx="2906640" cy="102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5160" y="5003640"/>
                    <a:ext cx="290664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47640" y="263700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480"/>
                <a:gridCol w="44877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ZoneTexte 16"/>
          <p:cNvSpPr/>
          <p:nvPr/>
        </p:nvSpPr>
        <p:spPr>
          <a:xfrm>
            <a:off x="435600" y="1341360"/>
            <a:ext cx="797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e résultat sous la forme d’u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uissance de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Object 17"/>
          <p:cNvGraphicFramePr/>
          <p:nvPr/>
        </p:nvGraphicFramePr>
        <p:xfrm>
          <a:off x="3492360" y="3213000"/>
          <a:ext cx="353376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3213000"/>
                    <a:ext cx="35337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18"/>
          <p:cNvGraphicFramePr/>
          <p:nvPr/>
        </p:nvGraphicFramePr>
        <p:xfrm>
          <a:off x="4708440" y="4581360"/>
          <a:ext cx="1177920" cy="206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08440" y="4581360"/>
                    <a:ext cx="117792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ZoneTexte 16"/>
          <p:cNvSpPr/>
          <p:nvPr/>
        </p:nvSpPr>
        <p:spPr>
          <a:xfrm>
            <a:off x="435600" y="1341360"/>
            <a:ext cx="797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e résultat sous la forme d’u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uissance de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Object 17"/>
          <p:cNvGraphicFramePr/>
          <p:nvPr/>
        </p:nvGraphicFramePr>
        <p:xfrm>
          <a:off x="4427640" y="2565360"/>
          <a:ext cx="1163520" cy="20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565360"/>
                    <a:ext cx="116352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18"/>
          <p:cNvGraphicFramePr/>
          <p:nvPr/>
        </p:nvGraphicFramePr>
        <p:xfrm>
          <a:off x="3584520" y="5013360"/>
          <a:ext cx="349416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4520" y="5013360"/>
                    <a:ext cx="34941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ZoneTexte 16"/>
          <p:cNvSpPr/>
          <p:nvPr/>
        </p:nvSpPr>
        <p:spPr>
          <a:xfrm>
            <a:off x="435600" y="1341360"/>
            <a:ext cx="797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e résultat sous la forme d’u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uissance de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17"/>
          <p:cNvGraphicFramePr/>
          <p:nvPr/>
        </p:nvGraphicFramePr>
        <p:xfrm>
          <a:off x="3430440" y="3068640"/>
          <a:ext cx="351324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440" y="3068640"/>
                    <a:ext cx="351324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8"/>
          <p:cNvGraphicFramePr/>
          <p:nvPr/>
        </p:nvGraphicFramePr>
        <p:xfrm>
          <a:off x="4064040" y="4724280"/>
          <a:ext cx="2433600" cy="173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4040" y="4724280"/>
                    <a:ext cx="243360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2-03-29T17:44:41Z</dcterms:modified>
  <cp:revision>20</cp:revision>
  <dc:subject/>
  <dc:title>Diapositive 1</dc:title>
</cp:coreProperties>
</file>