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8EDC-6DA1-4F25-BB08-E22EE74FB6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F314-2682-4FAF-A0CA-E6C8EDB0D4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C4CA-22F0-484C-9125-1759612821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616E-56FF-4F88-A8C7-11669A3371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457D-4F2C-4771-88A9-6D27405EF7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1F06-8816-4F19-B758-A9E2D4362B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4840-6600-4AB9-B48E-B760D02910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294B-9FFD-4522-A7C0-58FC990C6F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26BD-637E-473C-88FF-3198CBC3B2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8000-8A27-458B-93E0-5887F8A1AA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28BD-8136-44B7-9BE6-C994DB909E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1D9A-F7E1-49E5-93E2-5CC8503D64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45A6-3591-4241-8353-80054B1BC0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C6F0-20EB-4666-B89C-33A685B250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E306-9643-4509-989F-C3CF65FCB7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7EEF-E094-43A0-B524-6DC393E273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61A4-4905-4718-AE72-CE7746D48F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7AA5-E566-4378-AF4C-CB4A3BB315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D369-9AB5-41EF-AC8B-3D131225C6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5F2D-6839-4AD1-9935-92D0BE62F3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63B6-E65F-4051-A4C8-6DD3DE6B36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292A-0C07-4A2E-B02B-9DB2705F31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47B7-5128-465C-A3C7-2E823E437F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313A-1C2C-4CE3-8980-107AA3B0D3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39AD-E8EB-43BD-9EFE-66425552E5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2E3-6445-425D-830C-A6897156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280-CDAE-44B8-8F60-85CB888D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A2F-8D3F-4189-A49F-D879A825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40A-6973-4E69-AE39-D42456EE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384-5DA6-46BF-BB5D-1D7E24BC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213-37F8-4FAE-A165-7BA7C5B1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B56-F73D-42F6-9A52-A1A5C7EB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A61-48C3-4E66-A2DF-06C522DE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0E2-39FA-46B8-B617-7F7DF458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247-0319-47A6-945E-ABD93D1E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EDF-91DA-4932-BF56-7FF301BA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3D2-A426-48D3-9C21-B8C94892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0A00-1C33-401E-8F6A-06F37E6DF3D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8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218200" cy="469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9"/>
          <p:cNvSpPr/>
          <p:nvPr/>
        </p:nvSpPr>
        <p:spPr>
          <a:xfrm>
            <a:off x="329040" y="1413000"/>
            <a:ext cx="82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Quelle est la nature du quadrilatère ANB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8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894120" cy="4694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0"/>
          <p:cNvSpPr/>
          <p:nvPr/>
        </p:nvSpPr>
        <p:spPr>
          <a:xfrm>
            <a:off x="451080" y="1284120"/>
            <a:ext cx="77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Quelles sont les coordonnées du point 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6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01488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2774520" y="5661000"/>
            <a:ext cx="40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DE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st l’hypoténu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6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7"/>
          <p:cNvSpPr/>
          <p:nvPr/>
        </p:nvSpPr>
        <p:spPr>
          <a:xfrm>
            <a:off x="2751480" y="546084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DE² = DC² + CE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1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6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7"/>
          <p:cNvSpPr/>
          <p:nvPr/>
        </p:nvSpPr>
        <p:spPr>
          <a:xfrm>
            <a:off x="2702520" y="566100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RP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est l’hypotén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6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645000" cy="4240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2916360" y="5661000"/>
            <a:ext cx="32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RP² = RT² + TP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ZoneTexte 7"/>
          <p:cNvSpPr/>
          <p:nvPr/>
        </p:nvSpPr>
        <p:spPr>
          <a:xfrm>
            <a:off x="3286440" y="5950080"/>
            <a:ext cx="18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Times New Roman"/>
              </a:rPr>
              <a:t>BC=5c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0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321440" cy="433368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ZoneTexte 8"/>
          <p:cNvSpPr/>
          <p:nvPr/>
        </p:nvSpPr>
        <p:spPr>
          <a:xfrm>
            <a:off x="3215160" y="5661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Times New Roman"/>
              </a:rPr>
              <a:t>EF=10 c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9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241520" cy="417528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1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73080" y="1139760"/>
            <a:ext cx="890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CDE est un triangle rectangle en C, quelle est l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hypoténu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6" descr=""/>
          <p:cNvPicPr/>
          <p:nvPr/>
        </p:nvPicPr>
        <p:blipFill>
          <a:blip r:embed="rId1"/>
          <a:srcRect l="0" t="3592" r="0" b="0"/>
          <a:stretch/>
        </p:blipFill>
        <p:spPr>
          <a:xfrm>
            <a:off x="1547640" y="1268280"/>
            <a:ext cx="6356520" cy="4559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7"/>
          <p:cNvSpPr/>
          <p:nvPr/>
        </p:nvSpPr>
        <p:spPr>
          <a:xfrm>
            <a:off x="306000" y="5891040"/>
            <a:ext cx="48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’angle         mesure </a:t>
            </a: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65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28"/>
          <p:cNvGraphicFramePr/>
          <p:nvPr/>
        </p:nvGraphicFramePr>
        <p:xfrm>
          <a:off x="1835280" y="5950080"/>
          <a:ext cx="1008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5950080"/>
                    <a:ext cx="1008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10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6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938920" cy="4157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7"/>
          <p:cNvSpPr/>
          <p:nvPr/>
        </p:nvSpPr>
        <p:spPr>
          <a:xfrm>
            <a:off x="161640" y="5386320"/>
            <a:ext cx="44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’angle      mesure </a:t>
            </a: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41°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253080" y="6021360"/>
            <a:ext cx="57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car 75+64=139 et 180-139=4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29"/>
          <p:cNvGraphicFramePr/>
          <p:nvPr/>
        </p:nvGraphicFramePr>
        <p:xfrm>
          <a:off x="1692360" y="5445000"/>
          <a:ext cx="52056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5445000"/>
                    <a:ext cx="5205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6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218200" cy="4697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7"/>
          <p:cNvSpPr/>
          <p:nvPr/>
        </p:nvSpPr>
        <p:spPr>
          <a:xfrm>
            <a:off x="2342160" y="5950080"/>
            <a:ext cx="46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ANBM est un </a:t>
            </a:r>
            <a:r>
              <a:rPr b="1" lang="fr-FR" sz="3600" spc="-1" strike="noStrike">
                <a:solidFill>
                  <a:srgbClr val="cc0000"/>
                </a:solidFill>
                <a:latin typeface="Times New Roman"/>
              </a:rPr>
              <a:t>rectang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0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6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894120" cy="4694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7"/>
          <p:cNvSpPr/>
          <p:nvPr/>
        </p:nvSpPr>
        <p:spPr>
          <a:xfrm>
            <a:off x="2880" y="5805360"/>
            <a:ext cx="89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es coordonnées de A sont 1; 2. On note </a:t>
            </a: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A(1;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10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2"/>
          <p:cNvSpPr/>
          <p:nvPr/>
        </p:nvSpPr>
        <p:spPr>
          <a:xfrm>
            <a:off x="545040" y="134136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CDE est un triangle rectangle en C, éc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3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015240" cy="41148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2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24200" y="1139760"/>
            <a:ext cx="88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TP est un triangle rectangle en T, quelle est l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hypoténu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8" descr=""/>
          <p:cNvPicPr/>
          <p:nvPr/>
        </p:nvPicPr>
        <p:blipFill>
          <a:blip r:embed="rId1"/>
          <a:stretch/>
        </p:blipFill>
        <p:spPr>
          <a:xfrm>
            <a:off x="2700360" y="261792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9"/>
          <p:cNvSpPr/>
          <p:nvPr/>
        </p:nvSpPr>
        <p:spPr>
          <a:xfrm>
            <a:off x="250920" y="1341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TP est un triangle rectangle en T, éc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7"/>
          <p:cNvSpPr/>
          <p:nvPr/>
        </p:nvSpPr>
        <p:spPr>
          <a:xfrm>
            <a:off x="428760" y="1341360"/>
            <a:ext cx="83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BC est un triangle rectangle en A. Calcul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a longueur B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0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4781520" cy="47973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ZoneTexte 7"/>
          <p:cNvSpPr/>
          <p:nvPr/>
        </p:nvSpPr>
        <p:spPr>
          <a:xfrm>
            <a:off x="428040" y="1341360"/>
            <a:ext cx="82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DEF est un triangle rectangle en D. Calcul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a longueur E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1" descr=""/>
          <p:cNvPicPr/>
          <p:nvPr/>
        </p:nvPicPr>
        <p:blipFill>
          <a:blip r:embed="rId1"/>
          <a:stretch/>
        </p:blipFill>
        <p:spPr>
          <a:xfrm>
            <a:off x="3635280" y="2349360"/>
            <a:ext cx="4465800" cy="43959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8" descr=""/>
          <p:cNvPicPr/>
          <p:nvPr/>
        </p:nvPicPr>
        <p:blipFill>
          <a:blip r:embed="rId1"/>
          <a:srcRect l="0" t="3592" r="0" b="0"/>
          <a:stretch/>
        </p:blipFill>
        <p:spPr>
          <a:xfrm>
            <a:off x="1619280" y="2298600"/>
            <a:ext cx="6356160" cy="4559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9"/>
          <p:cNvSpPr/>
          <p:nvPr/>
        </p:nvSpPr>
        <p:spPr>
          <a:xfrm>
            <a:off x="329040" y="1484280"/>
            <a:ext cx="72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Quelle est la mesure de l’angle          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30"/>
          <p:cNvGraphicFramePr/>
          <p:nvPr/>
        </p:nvGraphicFramePr>
        <p:xfrm>
          <a:off x="6156360" y="1484280"/>
          <a:ext cx="1008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6360" y="1484280"/>
                    <a:ext cx="1008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9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453000" cy="451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0"/>
          <p:cNvSpPr/>
          <p:nvPr/>
        </p:nvSpPr>
        <p:spPr>
          <a:xfrm>
            <a:off x="381240" y="1355760"/>
            <a:ext cx="65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Quelle est la mesure de l’angle    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41"/>
          <p:cNvGraphicFramePr/>
          <p:nvPr/>
        </p:nvGraphicFramePr>
        <p:xfrm>
          <a:off x="6227640" y="1413000"/>
          <a:ext cx="52092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413000"/>
                    <a:ext cx="5209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2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9-14T20:53:48Z</dcterms:modified>
  <cp:revision>27</cp:revision>
  <dc:subject/>
  <dc:title>Diapositive 1</dc:title>
</cp:coreProperties>
</file>