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1B85-9925-4141-AFBC-2F8FF248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9AD8-040F-47F0-9D25-0020C6D8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748D-3E33-49BA-A7B1-0D150B95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978F-FDEF-4EBF-A2B7-0495310A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B689-1D60-4446-843A-A9831A03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42A9-461D-42C5-AE7D-979007E4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1A2B-EFA7-4467-B6E9-165896EC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680A-B202-4D12-9BC1-DC225EB8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5ED6-1918-4DE9-B515-BB32E92C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B81D-56B8-4C74-8BFD-9A428BD6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9E3B-B33B-41C1-8DE3-3F49D9F5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FC2B-5286-427E-B6DA-CDE856AB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6D55-9A18-4A23-A3F6-65E2316FF29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5T06:23:59Z</dcterms:modified>
  <cp:revision>12</cp:revision>
  <dc:subject/>
  <dc:title>Diapositive 1</dc:title>
</cp:coreProperties>
</file>