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00A9-9E9C-4ACC-9015-601306F666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A0A5-CDDF-4B4B-972E-6B41F0C2EA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E55F-8465-4B81-B26A-66D9EC3A5F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BBDE-E9B7-4BDB-A4ED-C3DF63B363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5A67-C403-42DB-9E67-2934884989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E1E7-1C9C-46DD-9172-0593C2A33C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D204-B94F-4E2E-97BB-4B4481A636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105D-4E81-4A2E-BD18-E0B5175F4B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389B-1069-41C2-A08E-63117E0107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60CE-D3EA-42D7-9AAF-DE534F4D96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2B6F-999B-4CC5-B596-EB63CFAEA4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9672-593E-4A0F-A73D-9756A4D112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228F-E2BB-47A0-A246-AC711A25C8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9A95-CAA6-48C4-A9B5-DFF9A06E10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0896-9B97-44BF-AF8F-E80596AC36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83FD-2EF7-47D9-A0D4-713D5644C7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942D-320A-469A-83C0-7207E6077B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ECDB-A2EE-4E43-AFB4-7B5DCB3BD3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AACA-AE93-41AC-B897-2E88A4A373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6562-E730-4366-838E-CDFE4A0955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72E1-56FB-40B3-9C39-BCC9604DD4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2A92-9134-4AA5-9359-DEC9D6E07C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433B-B3A7-4476-A812-4FF4E7A238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594C-D842-4CCE-8A65-CADE122BD4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C926-9F55-48E4-9C99-C85EBD986B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4F2D-E4EB-4B17-AB5D-474A76B8A9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475-E249-4216-90C8-855887AD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EA8-614E-4F19-970E-3C5DA4AE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2BA-F040-4F87-8ECF-5786E7D9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9CD-2957-4BE0-B6B6-FE678902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EC8-D09D-4149-A46F-D53E99E9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EA1-FF76-4443-8A2B-698F05F6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8B9-1205-4D53-B3B9-B80E65F5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013-3C0D-4ACF-8F70-CB9A4A07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4F5-B767-4437-BEA5-5F80E2B0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CAA7-EAB2-4CF2-BD3B-A14A239D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C83-DC1F-4444-AB57-65BF447C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5D8-DC93-4452-A31E-43FC6CBC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1B62-ADA5-4EC8-BD7C-EE580D2F43A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4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5"/>
          <p:cNvGraphicFramePr/>
          <p:nvPr/>
        </p:nvGraphicFramePr>
        <p:xfrm>
          <a:off x="4211640" y="2133720"/>
          <a:ext cx="176544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133720"/>
                    <a:ext cx="1765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6"/>
          <p:cNvGraphicFramePr/>
          <p:nvPr/>
        </p:nvGraphicFramePr>
        <p:xfrm>
          <a:off x="4067280" y="4005360"/>
          <a:ext cx="2158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005360"/>
                    <a:ext cx="2158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5"/>
          <p:cNvGraphicFramePr/>
          <p:nvPr/>
        </p:nvGraphicFramePr>
        <p:xfrm>
          <a:off x="4284720" y="1916280"/>
          <a:ext cx="227340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916280"/>
                    <a:ext cx="2273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6"/>
          <p:cNvGraphicFramePr/>
          <p:nvPr/>
        </p:nvGraphicFramePr>
        <p:xfrm>
          <a:off x="4140360" y="4005360"/>
          <a:ext cx="22604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005360"/>
                    <a:ext cx="22604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5"/>
          <p:cNvGraphicFramePr/>
          <p:nvPr/>
        </p:nvGraphicFramePr>
        <p:xfrm>
          <a:off x="3851280" y="1989000"/>
          <a:ext cx="275580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27558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6"/>
          <p:cNvGraphicFramePr/>
          <p:nvPr/>
        </p:nvGraphicFramePr>
        <p:xfrm>
          <a:off x="3708360" y="4005360"/>
          <a:ext cx="3048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005360"/>
                    <a:ext cx="3048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419640" y="2133720"/>
          <a:ext cx="361944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133720"/>
                    <a:ext cx="36194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348000" y="4076640"/>
          <a:ext cx="397512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076640"/>
                    <a:ext cx="39751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203640" y="1989000"/>
          <a:ext cx="42289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42289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276720" y="4076640"/>
          <a:ext cx="42670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076640"/>
                    <a:ext cx="42670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492360" y="2060640"/>
          <a:ext cx="341640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4164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564000" y="4005360"/>
          <a:ext cx="33526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005360"/>
                    <a:ext cx="33526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6"/>
          <p:cNvGraphicFramePr/>
          <p:nvPr/>
        </p:nvGraphicFramePr>
        <p:xfrm>
          <a:off x="3419640" y="2060640"/>
          <a:ext cx="380988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060640"/>
                    <a:ext cx="3809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7"/>
          <p:cNvGraphicFramePr/>
          <p:nvPr/>
        </p:nvGraphicFramePr>
        <p:xfrm>
          <a:off x="3348000" y="4005360"/>
          <a:ext cx="386100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005360"/>
                    <a:ext cx="38610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3564000" y="2060640"/>
          <a:ext cx="340344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060640"/>
                    <a:ext cx="34034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3564000" y="4076640"/>
          <a:ext cx="342900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076640"/>
                    <a:ext cx="34290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3564000" y="2133720"/>
          <a:ext cx="337824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133720"/>
                    <a:ext cx="33782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3564000" y="4149720"/>
          <a:ext cx="340344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149720"/>
                    <a:ext cx="34034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3492360" y="2133720"/>
          <a:ext cx="354348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133720"/>
                    <a:ext cx="35434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3635280" y="4076640"/>
          <a:ext cx="35434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076640"/>
                    <a:ext cx="35434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3780000" y="2205000"/>
          <a:ext cx="299700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205000"/>
                    <a:ext cx="29970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3564000" y="4005360"/>
          <a:ext cx="33782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005360"/>
                    <a:ext cx="33782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3635280" y="1989000"/>
          <a:ext cx="34797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989000"/>
                    <a:ext cx="34797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6"/>
          <p:cNvGraphicFramePr/>
          <p:nvPr/>
        </p:nvGraphicFramePr>
        <p:xfrm>
          <a:off x="3492360" y="4005360"/>
          <a:ext cx="37720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005360"/>
                    <a:ext cx="3772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3564000" y="2060640"/>
          <a:ext cx="365760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060640"/>
                    <a:ext cx="36576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3492360" y="4076640"/>
          <a:ext cx="3949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076640"/>
                    <a:ext cx="3949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8"/>
          <p:cNvGraphicFramePr/>
          <p:nvPr/>
        </p:nvGraphicFramePr>
        <p:xfrm>
          <a:off x="3708360" y="2060640"/>
          <a:ext cx="270504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7050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29"/>
          <p:cNvGraphicFramePr/>
          <p:nvPr/>
        </p:nvGraphicFramePr>
        <p:xfrm>
          <a:off x="3780000" y="4005360"/>
          <a:ext cx="274320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005360"/>
                    <a:ext cx="27432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3708360" y="2060640"/>
          <a:ext cx="273060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7306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6"/>
          <p:cNvGraphicFramePr/>
          <p:nvPr/>
        </p:nvGraphicFramePr>
        <p:xfrm>
          <a:off x="3708360" y="4005360"/>
          <a:ext cx="271800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005360"/>
                    <a:ext cx="27180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4067280" y="1916280"/>
          <a:ext cx="186696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16280"/>
                    <a:ext cx="18669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3995640" y="4005360"/>
          <a:ext cx="185436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005360"/>
                    <a:ext cx="18543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3851280" y="1989000"/>
          <a:ext cx="266688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2666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3851280" y="4005360"/>
          <a:ext cx="26668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005360"/>
                    <a:ext cx="2666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5"/>
          <p:cNvGraphicFramePr/>
          <p:nvPr/>
        </p:nvGraphicFramePr>
        <p:xfrm>
          <a:off x="4140360" y="2133720"/>
          <a:ext cx="185400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133720"/>
                    <a:ext cx="18540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6"/>
          <p:cNvGraphicFramePr/>
          <p:nvPr/>
        </p:nvGraphicFramePr>
        <p:xfrm>
          <a:off x="4067280" y="4076640"/>
          <a:ext cx="189216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076640"/>
                    <a:ext cx="189216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5"/>
          <p:cNvGraphicFramePr/>
          <p:nvPr/>
        </p:nvGraphicFramePr>
        <p:xfrm>
          <a:off x="4356000" y="2060640"/>
          <a:ext cx="187956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8795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6"/>
          <p:cNvGraphicFramePr/>
          <p:nvPr/>
        </p:nvGraphicFramePr>
        <p:xfrm>
          <a:off x="4211640" y="4076640"/>
          <a:ext cx="185436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076640"/>
                    <a:ext cx="185436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5"/>
          <p:cNvGraphicFramePr/>
          <p:nvPr/>
        </p:nvGraphicFramePr>
        <p:xfrm>
          <a:off x="3924360" y="2060640"/>
          <a:ext cx="264168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060640"/>
                    <a:ext cx="26416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6"/>
          <p:cNvGraphicFramePr/>
          <p:nvPr/>
        </p:nvGraphicFramePr>
        <p:xfrm>
          <a:off x="3851280" y="4005360"/>
          <a:ext cx="267984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005360"/>
                    <a:ext cx="26798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9-01T18:09:54Z</dcterms:modified>
  <cp:revision>24</cp:revision>
  <dc:subject/>
  <dc:title>Diapositive 1</dc:title>
</cp:coreProperties>
</file>