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D40-A356-4B88-888B-5336A5B36D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BFED-2056-4EED-94F8-5DBE0AE466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23D-B30D-4F0E-8FA5-C770FF3517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5D33-AD79-4CFD-8404-0C2E590020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536-66EA-4AA2-BB9A-629E40688E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5AC5-F9DB-43B3-947B-2F68105832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7432-EE54-4551-B771-D0E7CC42A6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7101-1B90-4F69-8CB2-3C2775E5E1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1B08-9C30-43B7-8949-D453CE9238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80C3-8F87-47E8-A167-255AA8E67F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5EAD-F9CD-4803-BA4D-E26EBEF196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7F5D-E9C4-4AED-9486-D0B41F4F99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E1E8-2A32-4366-8952-D9DD4D0157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395F-7C31-48A3-9FE0-329D057311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7F7-E71F-4B88-B2A6-F1C5025E3B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FA5E-26FB-49D2-AD6D-7C6474C110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B008-5523-49D8-B02A-ECD3B7D5D5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098A-633A-43FE-AD50-65A979D51E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221-1E1D-446B-A02C-497A44A37B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6C2C-1510-46AF-AFE9-39BE95FABA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F22B-D8A0-4389-9AAE-146AADF12E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AEA7-B24B-48B5-9F4C-49DC1932F3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1E8-076B-460E-AD4C-3FF6018EA3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5B55-7E93-4C3A-ADB4-0AE1FBC4DC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95C3-C8B0-48E0-B04E-283EF9104D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950A-E4C8-4223-B55A-AFB6B5664A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29F-C46E-43EC-A648-39CB0871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759-D705-4164-A960-E9BE0E8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962-BE6A-4263-8FDE-E7CC9A82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03A-C99D-49ED-960C-EC347424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DE6-D17F-47F6-82FA-00F12762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773-6AD2-4770-ACF9-3F1D0AC0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7A9-1ACE-44A9-8795-F383724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172-591B-4FA7-9223-83958ED9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E10-0EED-4646-9DC8-23C60359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1AE-D2B8-420A-907E-4D9AE2B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331-78CC-4629-AB01-CB32E07F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DB2-9620-43BD-AFCE-90B80B7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6E1B-F72E-49DD-849D-BAAEF2DDD82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9680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637000"/>
          <a:ext cx="60958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736800" y="2852640"/>
          <a:ext cx="251316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2852640"/>
                    <a:ext cx="25131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4210200" y="4581360"/>
          <a:ext cx="14871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0200" y="4581360"/>
                    <a:ext cx="14871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949680" y="1341360"/>
            <a:ext cx="69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scientifiqu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3679920" y="3068640"/>
          <a:ext cx="322416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9920" y="3068640"/>
                    <a:ext cx="322416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3745080" y="5049720"/>
          <a:ext cx="320184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5080" y="5049720"/>
                    <a:ext cx="32018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2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7"/>
          <p:cNvGraphicFramePr/>
          <p:nvPr/>
        </p:nvGraphicFramePr>
        <p:xfrm>
          <a:off x="3959280" y="3087720"/>
          <a:ext cx="245412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3087720"/>
                    <a:ext cx="24541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8"/>
          <p:cNvGraphicFramePr/>
          <p:nvPr/>
        </p:nvGraphicFramePr>
        <p:xfrm>
          <a:off x="4094280" y="5364000"/>
          <a:ext cx="23749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4280" y="5364000"/>
                    <a:ext cx="23749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ZoneTexte 16"/>
          <p:cNvSpPr/>
          <p:nvPr/>
        </p:nvSpPr>
        <p:spPr>
          <a:xfrm>
            <a:off x="1005120" y="1484280"/>
            <a:ext cx="69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scientifiqu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97160"/>
          <a:ext cx="8280360" cy="4063680"/>
        </p:xfrm>
        <a:graphic>
          <a:graphicData uri="http://schemas.openxmlformats.org/drawingml/2006/table">
            <a:tbl>
              <a:tblPr/>
              <a:tblGrid>
                <a:gridCol w="1843200"/>
                <a:gridCol w="6437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3151080" y="1798560"/>
          <a:ext cx="459288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798560"/>
                    <a:ext cx="45928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3132000" y="3860640"/>
          <a:ext cx="461340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860640"/>
                    <a:ext cx="461340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2771640" y="3860640"/>
          <a:ext cx="52405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860640"/>
                    <a:ext cx="52405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2249640" y="1744560"/>
          <a:ext cx="6457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1744560"/>
                    <a:ext cx="6457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397160"/>
          <a:ext cx="8137440" cy="4063680"/>
        </p:xfrm>
        <a:graphic>
          <a:graphicData uri="http://schemas.openxmlformats.org/drawingml/2006/table">
            <a:tbl>
              <a:tblPr/>
              <a:tblGrid>
                <a:gridCol w="1887480"/>
                <a:gridCol w="62499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2860560" y="1727280"/>
          <a:ext cx="51627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1727280"/>
                    <a:ext cx="51627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2614680" y="3673440"/>
          <a:ext cx="574668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4680" y="3673440"/>
                    <a:ext cx="57466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305160" y="1844640"/>
          <a:ext cx="5048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844640"/>
                    <a:ext cx="5048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3583080" y="3878280"/>
          <a:ext cx="3828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3080" y="3878280"/>
                    <a:ext cx="3828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397160"/>
          <a:ext cx="8496000" cy="520056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730600" y="1989000"/>
          <a:ext cx="59086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0600" y="1989000"/>
                    <a:ext cx="5908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3987720" y="4292640"/>
          <a:ext cx="311472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7720" y="4292640"/>
                    <a:ext cx="31147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3962520" y="1413000"/>
          <a:ext cx="331128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13000"/>
                    <a:ext cx="33112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709720" y="3860640"/>
          <a:ext cx="5970600" cy="10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9720" y="3860640"/>
                    <a:ext cx="5970600" cy="10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556000" y="1916280"/>
          <a:ext cx="62960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16280"/>
                    <a:ext cx="62960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3243240" y="3573360"/>
          <a:ext cx="518004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3240" y="3573360"/>
                    <a:ext cx="5180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397160"/>
          <a:ext cx="8785440" cy="4840200"/>
        </p:xfrm>
        <a:graphic>
          <a:graphicData uri="http://schemas.openxmlformats.org/drawingml/2006/table">
            <a:tbl>
              <a:tblPr/>
              <a:tblGrid>
                <a:gridCol w="2317680"/>
                <a:gridCol w="6467760"/>
              </a:tblGrid>
              <a:tr h="24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3225960" y="1628640"/>
          <a:ext cx="491004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5960" y="1628640"/>
                    <a:ext cx="4910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4002120" y="3933720"/>
          <a:ext cx="368460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2120" y="3933720"/>
                    <a:ext cx="3684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2662200" y="1841400"/>
          <a:ext cx="604692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2200" y="1841400"/>
                    <a:ext cx="604692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2556000" y="3860640"/>
          <a:ext cx="62132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860640"/>
                    <a:ext cx="62132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397160"/>
          <a:ext cx="8964720" cy="4063680"/>
        </p:xfrm>
        <a:graphic>
          <a:graphicData uri="http://schemas.openxmlformats.org/drawingml/2006/table">
            <a:tbl>
              <a:tblPr/>
              <a:tblGrid>
                <a:gridCol w="2365560"/>
                <a:gridCol w="6599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522520" y="1773360"/>
          <a:ext cx="6621480" cy="106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773360"/>
                    <a:ext cx="66214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527200" y="3860640"/>
          <a:ext cx="66168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7200" y="3860640"/>
                    <a:ext cx="66168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4284720" y="3068640"/>
          <a:ext cx="12952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068640"/>
                    <a:ext cx="12952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4098960" y="5157720"/>
          <a:ext cx="166860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8960" y="515772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2349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4098960" y="3068640"/>
          <a:ext cx="16686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306864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8"/>
          <p:cNvGraphicFramePr/>
          <p:nvPr/>
        </p:nvGraphicFramePr>
        <p:xfrm>
          <a:off x="4152960" y="4869000"/>
          <a:ext cx="133488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2960" y="4869000"/>
                    <a:ext cx="1334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530520" y="3059280"/>
          <a:ext cx="2808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0520" y="3059280"/>
                    <a:ext cx="2808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537000" y="5032440"/>
          <a:ext cx="3060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7000" y="5032440"/>
                    <a:ext cx="3060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0328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3745080" y="3087720"/>
          <a:ext cx="237636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5080" y="3087720"/>
                    <a:ext cx="23763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4281480" y="5091120"/>
          <a:ext cx="149400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1480" y="5091120"/>
                    <a:ext cx="149400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263700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511440" y="3213000"/>
          <a:ext cx="34941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1440" y="3213000"/>
                    <a:ext cx="34941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700520" y="4581360"/>
          <a:ext cx="11937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0520" y="4581360"/>
                    <a:ext cx="11937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4307040" y="2565360"/>
          <a:ext cx="140652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565360"/>
                    <a:ext cx="14065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556080" y="5013360"/>
          <a:ext cx="35528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080" y="5013360"/>
                    <a:ext cx="35528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254400" y="3068640"/>
          <a:ext cx="386712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068640"/>
                    <a:ext cx="3867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025880" y="4724280"/>
          <a:ext cx="251136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5880" y="4724280"/>
                    <a:ext cx="25113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6T20:07:05Z</dcterms:modified>
  <cp:revision>28</cp:revision>
  <dc:subject/>
  <dc:title>Diapositive 1</dc:title>
</cp:coreProperties>
</file>