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A70D-1FF1-4B0F-BB3B-E864175DF4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25D1-5EF0-4C1E-998E-06069D8E8B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0EFD-4632-4D8E-B0F4-F584DDA3B2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B78F-7956-42F9-AD8B-7B83D02973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F7F4-F0CE-49FF-9980-80D6BD4E10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9288-23F8-4539-A3B7-CBA357D760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1EEA-DCAB-49F2-8EB1-8A90C27D6B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10EF-AFAC-45AA-BE68-DF9710F21C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511C-82B7-4290-A282-43B724530D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FEDC-1B6B-43EC-9FA7-273890E912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B4A5-E9A8-444E-BB21-2F798BD160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4CB9-B7D3-4843-915C-C8A689C7C1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C89E-9BE5-4CBB-B050-53D11D0768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E471-7563-4B31-AA02-A0116FF8C1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B411-20A2-4C74-B6B2-3FD5446C8B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F6D9-F1CA-4206-9D30-58FD45BE95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CC3D-B8EC-49DC-B8E8-03FFA00CFC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4670-B9F9-480F-8789-26C5F5DDF3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B79F-5134-48E1-902D-EE69EFF786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C27E-9D5A-45DD-9D4A-E8FAC303AE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4FF7-1815-46F0-9D21-BF9D016A96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BA39-8B0F-42F9-BBE0-708F148091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E115-8231-458B-9046-00B8AD51D9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421A-F6B3-495B-8342-3EDD40FB5C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219A-5CC8-45F0-8076-0BF3FBFEEE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0A98-69C8-47A4-8BFF-B484022AA5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A9C5-371C-4DF7-B4E9-B1886AB4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016C-3C42-4945-8B25-A4EC04B0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C9C-0FED-4563-AAE0-329C45E9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A21D-5922-4DB9-9075-E547A036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6CD-173C-45A4-92BB-4B10E21A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F1FC-A26E-4EDE-B0C9-59AA22D8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5CE8-913F-4301-A8D6-40D16940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72F8-BA68-4681-9484-9F941E79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ABE-E6DC-4922-9A5B-F36F7C2C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C4BE-91B1-4DEE-816B-11370D6A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77E6-1510-444B-91DA-EFF9D81B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E90B-FE1C-4EA6-95FD-B93AB481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66D0-A1F3-4DB1-BA0A-945B2C09149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436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4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476360" y="2637000"/>
          <a:ext cx="609588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7"/>
          <p:cNvGraphicFramePr/>
          <p:nvPr/>
        </p:nvGraphicFramePr>
        <p:xfrm>
          <a:off x="3718080" y="2852640"/>
          <a:ext cx="255240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8080" y="2852640"/>
                    <a:ext cx="255240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18"/>
          <p:cNvGraphicFramePr/>
          <p:nvPr/>
        </p:nvGraphicFramePr>
        <p:xfrm>
          <a:off x="4356000" y="4581360"/>
          <a:ext cx="1195560" cy="20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581360"/>
                    <a:ext cx="11955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1928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17"/>
          <p:cNvGraphicFramePr/>
          <p:nvPr/>
        </p:nvGraphicFramePr>
        <p:xfrm>
          <a:off x="4427640" y="2565360"/>
          <a:ext cx="116352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565360"/>
                    <a:ext cx="11635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8"/>
          <p:cNvGraphicFramePr/>
          <p:nvPr/>
        </p:nvGraphicFramePr>
        <p:xfrm>
          <a:off x="4076640" y="4724280"/>
          <a:ext cx="2533680" cy="17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6640" y="4724280"/>
                    <a:ext cx="253368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619280" y="27939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17"/>
          <p:cNvGraphicFramePr/>
          <p:nvPr/>
        </p:nvGraphicFramePr>
        <p:xfrm>
          <a:off x="3419640" y="3068640"/>
          <a:ext cx="353376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3068640"/>
                    <a:ext cx="35337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8"/>
          <p:cNvGraphicFramePr/>
          <p:nvPr/>
        </p:nvGraphicFramePr>
        <p:xfrm>
          <a:off x="3505320" y="5373720"/>
          <a:ext cx="355284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5373720"/>
                    <a:ext cx="355284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397160"/>
          <a:ext cx="8280360" cy="4063680"/>
        </p:xfrm>
        <a:graphic>
          <a:graphicData uri="http://schemas.openxmlformats.org/drawingml/2006/table">
            <a:tbl>
              <a:tblPr/>
              <a:tblGrid>
                <a:gridCol w="1843200"/>
                <a:gridCol w="64371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15"/>
          <p:cNvGraphicFramePr/>
          <p:nvPr/>
        </p:nvGraphicFramePr>
        <p:xfrm>
          <a:off x="2700360" y="1916280"/>
          <a:ext cx="5495760" cy="106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916280"/>
                    <a:ext cx="549576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6"/>
          <p:cNvGraphicFramePr/>
          <p:nvPr/>
        </p:nvGraphicFramePr>
        <p:xfrm>
          <a:off x="2268360" y="3933720"/>
          <a:ext cx="6597720" cy="10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933720"/>
                    <a:ext cx="65977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24000" y="1397160"/>
          <a:ext cx="8496000" cy="4063680"/>
        </p:xfrm>
        <a:graphic>
          <a:graphicData uri="http://schemas.openxmlformats.org/drawingml/2006/table">
            <a:tbl>
              <a:tblPr/>
              <a:tblGrid>
                <a:gridCol w="1871640"/>
                <a:gridCol w="66243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15"/>
          <p:cNvGraphicFramePr/>
          <p:nvPr/>
        </p:nvGraphicFramePr>
        <p:xfrm>
          <a:off x="3059280" y="1773360"/>
          <a:ext cx="4611600" cy="123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773360"/>
                    <a:ext cx="461160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16"/>
          <p:cNvGraphicFramePr/>
          <p:nvPr/>
        </p:nvGraphicFramePr>
        <p:xfrm>
          <a:off x="2700360" y="3860640"/>
          <a:ext cx="5124600" cy="123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860640"/>
                    <a:ext cx="5124600" cy="12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8360" y="1397160"/>
          <a:ext cx="8137440" cy="4063680"/>
        </p:xfrm>
        <a:graphic>
          <a:graphicData uri="http://schemas.openxmlformats.org/drawingml/2006/table">
            <a:tbl>
              <a:tblPr/>
              <a:tblGrid>
                <a:gridCol w="1887480"/>
                <a:gridCol w="62499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5"/>
          <p:cNvGraphicFramePr/>
          <p:nvPr/>
        </p:nvGraphicFramePr>
        <p:xfrm>
          <a:off x="2987640" y="1844640"/>
          <a:ext cx="490716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844640"/>
                    <a:ext cx="49071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6"/>
          <p:cNvGraphicFramePr/>
          <p:nvPr/>
        </p:nvGraphicFramePr>
        <p:xfrm>
          <a:off x="3564000" y="3789360"/>
          <a:ext cx="3846600" cy="10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789360"/>
                    <a:ext cx="38466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1397160"/>
          <a:ext cx="8569080" cy="4063680"/>
        </p:xfrm>
        <a:graphic>
          <a:graphicData uri="http://schemas.openxmlformats.org/drawingml/2006/table">
            <a:tbl>
              <a:tblPr/>
              <a:tblGrid>
                <a:gridCol w="2260440"/>
                <a:gridCol w="6308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5"/>
          <p:cNvGraphicFramePr/>
          <p:nvPr/>
        </p:nvGraphicFramePr>
        <p:xfrm>
          <a:off x="3306600" y="1844640"/>
          <a:ext cx="5046840" cy="12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6600" y="1844640"/>
                    <a:ext cx="504684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6"/>
          <p:cNvGraphicFramePr/>
          <p:nvPr/>
        </p:nvGraphicFramePr>
        <p:xfrm>
          <a:off x="3564000" y="3789360"/>
          <a:ext cx="386856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789360"/>
                    <a:ext cx="386856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397160"/>
          <a:ext cx="8496000" cy="5200560"/>
        </p:xfrm>
        <a:graphic>
          <a:graphicData uri="http://schemas.openxmlformats.org/drawingml/2006/table">
            <a:tbl>
              <a:tblPr/>
              <a:tblGrid>
                <a:gridCol w="2241360"/>
                <a:gridCol w="6254640"/>
              </a:tblGrid>
              <a:tr h="26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15"/>
          <p:cNvGraphicFramePr/>
          <p:nvPr/>
        </p:nvGraphicFramePr>
        <p:xfrm>
          <a:off x="2700360" y="1989000"/>
          <a:ext cx="596736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989000"/>
                    <a:ext cx="59673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6"/>
          <p:cNvGraphicFramePr/>
          <p:nvPr/>
        </p:nvGraphicFramePr>
        <p:xfrm>
          <a:off x="3995640" y="4292640"/>
          <a:ext cx="3098880" cy="20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292640"/>
                    <a:ext cx="30988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4000" y="1397160"/>
          <a:ext cx="8496000" cy="4063680"/>
        </p:xfrm>
        <a:graphic>
          <a:graphicData uri="http://schemas.openxmlformats.org/drawingml/2006/table">
            <a:tbl>
              <a:tblPr/>
              <a:tblGrid>
                <a:gridCol w="2241360"/>
                <a:gridCol w="6254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15"/>
          <p:cNvGraphicFramePr/>
          <p:nvPr/>
        </p:nvGraphicFramePr>
        <p:xfrm>
          <a:off x="4067280" y="1413000"/>
          <a:ext cx="310032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413000"/>
                    <a:ext cx="310032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6"/>
          <p:cNvGraphicFramePr/>
          <p:nvPr/>
        </p:nvGraphicFramePr>
        <p:xfrm>
          <a:off x="2700360" y="3860640"/>
          <a:ext cx="5989680" cy="10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860640"/>
                    <a:ext cx="5989680" cy="10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1397160"/>
          <a:ext cx="8496000" cy="4063680"/>
        </p:xfrm>
        <a:graphic>
          <a:graphicData uri="http://schemas.openxmlformats.org/drawingml/2006/table">
            <a:tbl>
              <a:tblPr/>
              <a:tblGrid>
                <a:gridCol w="2241360"/>
                <a:gridCol w="6254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15"/>
          <p:cNvGraphicFramePr/>
          <p:nvPr/>
        </p:nvGraphicFramePr>
        <p:xfrm>
          <a:off x="2771640" y="1916280"/>
          <a:ext cx="585000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916280"/>
                    <a:ext cx="58500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6"/>
          <p:cNvGraphicFramePr/>
          <p:nvPr/>
        </p:nvGraphicFramePr>
        <p:xfrm>
          <a:off x="3203640" y="3573360"/>
          <a:ext cx="5261040" cy="17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573360"/>
                    <a:ext cx="526104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79280" y="1397160"/>
          <a:ext cx="8785440" cy="4840200"/>
        </p:xfrm>
        <a:graphic>
          <a:graphicData uri="http://schemas.openxmlformats.org/drawingml/2006/table">
            <a:tbl>
              <a:tblPr/>
              <a:tblGrid>
                <a:gridCol w="2317680"/>
                <a:gridCol w="6467760"/>
              </a:tblGrid>
              <a:tr h="24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15"/>
          <p:cNvGraphicFramePr/>
          <p:nvPr/>
        </p:nvGraphicFramePr>
        <p:xfrm>
          <a:off x="3059280" y="1628640"/>
          <a:ext cx="524340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628640"/>
                    <a:ext cx="524340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16"/>
          <p:cNvGraphicFramePr/>
          <p:nvPr/>
        </p:nvGraphicFramePr>
        <p:xfrm>
          <a:off x="4284720" y="3933720"/>
          <a:ext cx="3117960" cy="20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933720"/>
                    <a:ext cx="31179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4000" y="1397160"/>
          <a:ext cx="8496000" cy="4063680"/>
        </p:xfrm>
        <a:graphic>
          <a:graphicData uri="http://schemas.openxmlformats.org/drawingml/2006/table">
            <a:tbl>
              <a:tblPr/>
              <a:tblGrid>
                <a:gridCol w="2241360"/>
                <a:gridCol w="6254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Object 15"/>
          <p:cNvGraphicFramePr/>
          <p:nvPr/>
        </p:nvGraphicFramePr>
        <p:xfrm>
          <a:off x="4140360" y="1341360"/>
          <a:ext cx="308736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341360"/>
                    <a:ext cx="3087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16"/>
          <p:cNvGraphicFramePr/>
          <p:nvPr/>
        </p:nvGraphicFramePr>
        <p:xfrm>
          <a:off x="3203640" y="3573360"/>
          <a:ext cx="5283000" cy="17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573360"/>
                    <a:ext cx="528300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9280" y="1397160"/>
          <a:ext cx="8964720" cy="4063680"/>
        </p:xfrm>
        <a:graphic>
          <a:graphicData uri="http://schemas.openxmlformats.org/drawingml/2006/table">
            <a:tbl>
              <a:tblPr/>
              <a:tblGrid>
                <a:gridCol w="2365560"/>
                <a:gridCol w="65991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15"/>
          <p:cNvGraphicFramePr/>
          <p:nvPr/>
        </p:nvGraphicFramePr>
        <p:xfrm>
          <a:off x="2700360" y="1844640"/>
          <a:ext cx="622296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844640"/>
                    <a:ext cx="62229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16"/>
          <p:cNvGraphicFramePr/>
          <p:nvPr/>
        </p:nvGraphicFramePr>
        <p:xfrm>
          <a:off x="2627280" y="3933720"/>
          <a:ext cx="624204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3933720"/>
                    <a:ext cx="624204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ZoneTexte 16"/>
          <p:cNvSpPr/>
          <p:nvPr/>
        </p:nvSpPr>
        <p:spPr>
          <a:xfrm>
            <a:off x="1290960" y="1557360"/>
            <a:ext cx="64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’écriture décimale d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28"/>
          <p:cNvGraphicFramePr/>
          <p:nvPr/>
        </p:nvGraphicFramePr>
        <p:xfrm>
          <a:off x="4284720" y="3068640"/>
          <a:ext cx="129528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3068640"/>
                    <a:ext cx="129528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29"/>
          <p:cNvGraphicFramePr/>
          <p:nvPr/>
        </p:nvGraphicFramePr>
        <p:xfrm>
          <a:off x="4265640" y="5157720"/>
          <a:ext cx="1335240" cy="10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5640" y="5157720"/>
                    <a:ext cx="13352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47640" y="2349360"/>
          <a:ext cx="6096240" cy="4064040"/>
        </p:xfrm>
        <a:graphic>
          <a:graphicData uri="http://schemas.openxmlformats.org/drawingml/2006/table">
            <a:tbl>
              <a:tblPr/>
              <a:tblGrid>
                <a:gridCol w="160848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ZoneTexte 16"/>
          <p:cNvSpPr/>
          <p:nvPr/>
        </p:nvSpPr>
        <p:spPr>
          <a:xfrm>
            <a:off x="1290960" y="1557360"/>
            <a:ext cx="64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’écriture décimale d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Object 17"/>
          <p:cNvGraphicFramePr/>
          <p:nvPr/>
        </p:nvGraphicFramePr>
        <p:xfrm>
          <a:off x="4098960" y="3068640"/>
          <a:ext cx="166860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8960" y="3068640"/>
                    <a:ext cx="16686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8"/>
          <p:cNvGraphicFramePr/>
          <p:nvPr/>
        </p:nvGraphicFramePr>
        <p:xfrm>
          <a:off x="3995640" y="4869000"/>
          <a:ext cx="1649520" cy="106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869000"/>
                    <a:ext cx="164952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249228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ZoneTexte 16"/>
          <p:cNvSpPr/>
          <p:nvPr/>
        </p:nvSpPr>
        <p:spPr>
          <a:xfrm>
            <a:off x="294120" y="1557360"/>
            <a:ext cx="89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a puissance de 10 correspond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15"/>
          <p:cNvGraphicFramePr/>
          <p:nvPr/>
        </p:nvGraphicFramePr>
        <p:xfrm>
          <a:off x="3648240" y="3186000"/>
          <a:ext cx="25714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8240" y="3186000"/>
                    <a:ext cx="25714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6"/>
          <p:cNvGraphicFramePr/>
          <p:nvPr/>
        </p:nvGraphicFramePr>
        <p:xfrm>
          <a:off x="4309920" y="5157720"/>
          <a:ext cx="151128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9920" y="5157720"/>
                    <a:ext cx="15112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403280" y="2421000"/>
          <a:ext cx="609624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ZoneTexte 16"/>
          <p:cNvSpPr/>
          <p:nvPr/>
        </p:nvSpPr>
        <p:spPr>
          <a:xfrm>
            <a:off x="294120" y="1557360"/>
            <a:ext cx="89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a puissance de 10 correspond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15"/>
          <p:cNvGraphicFramePr/>
          <p:nvPr/>
        </p:nvGraphicFramePr>
        <p:xfrm>
          <a:off x="3755880" y="3097080"/>
          <a:ext cx="235584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55880" y="3097080"/>
                    <a:ext cx="23558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6"/>
          <p:cNvGraphicFramePr/>
          <p:nvPr/>
        </p:nvGraphicFramePr>
        <p:xfrm>
          <a:off x="4419720" y="5013360"/>
          <a:ext cx="121752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5013360"/>
                    <a:ext cx="12175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47640" y="263700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480"/>
                <a:gridCol w="44877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17"/>
          <p:cNvGraphicFramePr/>
          <p:nvPr/>
        </p:nvGraphicFramePr>
        <p:xfrm>
          <a:off x="3492360" y="3213000"/>
          <a:ext cx="353376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3213000"/>
                    <a:ext cx="35337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18"/>
          <p:cNvGraphicFramePr/>
          <p:nvPr/>
        </p:nvGraphicFramePr>
        <p:xfrm>
          <a:off x="4716360" y="4581360"/>
          <a:ext cx="1162080" cy="20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4581360"/>
                    <a:ext cx="1162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17"/>
          <p:cNvGraphicFramePr/>
          <p:nvPr/>
        </p:nvGraphicFramePr>
        <p:xfrm>
          <a:off x="4411800" y="2565360"/>
          <a:ext cx="119520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1800" y="2565360"/>
                    <a:ext cx="11952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8"/>
          <p:cNvGraphicFramePr/>
          <p:nvPr/>
        </p:nvGraphicFramePr>
        <p:xfrm>
          <a:off x="3544920" y="5013360"/>
          <a:ext cx="357336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44920" y="5013360"/>
                    <a:ext cx="35733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7"/>
          <p:cNvGraphicFramePr/>
          <p:nvPr/>
        </p:nvGraphicFramePr>
        <p:xfrm>
          <a:off x="3468600" y="3068640"/>
          <a:ext cx="343548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8600" y="3068640"/>
                    <a:ext cx="34354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8"/>
          <p:cNvGraphicFramePr/>
          <p:nvPr/>
        </p:nvGraphicFramePr>
        <p:xfrm>
          <a:off x="3995640" y="4724280"/>
          <a:ext cx="2571840" cy="17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724280"/>
                    <a:ext cx="257184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3-29T17:10:51Z</dcterms:modified>
  <cp:revision>17</cp:revision>
  <dc:subject/>
  <dc:title>Diapositive 1</dc:title>
</cp:coreProperties>
</file>