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0C59-29E5-41C3-9BF2-A6570595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5BC-84F1-4F4B-A00E-BB25FECE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A0E1-DF77-4CCC-B5B2-E55700DC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0DD0-5E94-44B3-876B-2FEFC2DB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2D20-94FB-4981-BA83-02F7CFE3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FF08-F412-4A43-81E6-72259F37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3091-FF9A-4927-A182-4860FFB8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3A35-7C43-4506-BFF7-3A218A79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92CE-846D-4B40-B623-6F7823B5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F6DE-A775-43EA-8ED2-5C2BCDAB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B238-2BF8-4249-9FE0-C29064C3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CD2-F164-44FF-8B0A-F574E439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A6C5-6307-4AB3-B51C-5AC95E16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7170-2E12-463B-81B0-1D4F2940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306F-A411-4D24-96A9-555069BFD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E199-8A51-48DB-A8A4-588E8073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84048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04800" y="457164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67652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84048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04800" y="5448960"/>
            <a:ext cx="206064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8BA3-DB4D-4BDE-808F-1D5A5E66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CD61-916D-4F74-A137-1CF60B19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52F4-4621-4215-9EB7-62887259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B66A-848D-499C-BC03-66A30C8D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676520" y="1904760"/>
            <a:ext cx="7238880" cy="88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5E93-98A1-4E21-B5E2-468B5024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6600-0454-4AAD-AC0B-855FBB02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16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56480" y="544896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949C-F2FD-4B06-A750-1A113825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52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56480" y="4571640"/>
            <a:ext cx="312336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676520" y="5448960"/>
            <a:ext cx="6400800" cy="8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7A69-7E5A-4F60-83B2-B32B110C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3BC3-2D59-48F6-853C-559ACD3BB6AB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5467-4D81-4B65-8BA2-EEEC3E081CCD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24640"/>
            <a:ext cx="9144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cc00"/>
                </a:solidFill>
                <a:latin typeface="Arial"/>
              </a:rPr>
              <a:t>Quelle place pour le calcul mental</a:t>
            </a:r>
            <a:br>
              <a:rPr sz="4000"/>
            </a:br>
            <a:br>
              <a:rPr sz="4000"/>
            </a:br>
            <a:r>
              <a:rPr b="1" i="1" lang="fr-FR" sz="4000" spc="-1" strike="noStrike">
                <a:solidFill>
                  <a:srgbClr val="ffcc00"/>
                </a:solidFill>
                <a:latin typeface="Arial"/>
              </a:rPr>
              <a:t>dans nos pratiques en classe 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Arial"/>
              </a:rPr>
              <a:t>Les Program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Arial"/>
              </a:rPr>
              <a:t>« …le calcul mental sous toutes ses formes (résultats mémorisés, calcul réfléchi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Arial"/>
              </a:rPr>
              <a:t>occupe la place principale et accompagne l’u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fr-FR" sz="3200" spc="-1" strike="noStrike">
                <a:solidFill>
                  <a:srgbClr val="ffffff"/>
                </a:solidFill>
                <a:latin typeface="Arial"/>
              </a:rPr>
              <a:t>intelligent d’une calculatrice ordinaire…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LES REPONS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676160" y="23623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ORA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ÉCR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ossibilité d’un </a:t>
            </a: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écrit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intermédiaire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pour soulager la mémoi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1240" y="1447920"/>
            <a:ext cx="365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lles peuvent êtr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9880" y="609588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EN TEMPS LIMI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ORREC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MMEDI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 l’issue de chaque répon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ecadrage rapide pour les élèves hésita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ajustement pédagogique immédi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 LA FIN de la sér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91120" y="609588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EN TEMPS LIMI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MATERIE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rdo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Feui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Cahier avec autocor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ou échange entre élèves et corr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Ordinateur (salle multiméd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troprojecteur ou Vidéo projecte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2716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DEROULEMEN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PHASE D’ ECHAUFFEMENT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rès brève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et les élèves en condition d’écoute et de concent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PHASE D’ AUTOMAT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vec des calculs simples en jouant sur les différentes variables en jeu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Fait appel à des connaissances ou des procédures qui doivent être directement disponibles et rappelées éventuellement à la corr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"/>
              </a:rPr>
              <a:t>PHASE DE CALCUL REFLECHI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lus complexe. Toutes les procédures sont possi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correction permettra de les confronter et fera apparaître éventuellement la plus adapté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2800"/>
            <a:ext cx="777240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800" spc="-1" strike="noStrike">
                <a:solidFill>
                  <a:srgbClr val="ffcc00"/>
                </a:solidFill>
                <a:latin typeface="Arial"/>
              </a:rPr>
              <a:t>Quelle(s) progression(s) au collège ?</a:t>
            </a: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2743200"/>
            <a:ext cx="9144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Nécessité d’avoir à chaque niveau ( de chaque classe ? )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Une </a:t>
            </a: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progression annue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Un </a:t>
            </a: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répertoire des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cc00"/>
                </a:solidFill>
                <a:latin typeface="Arial"/>
              </a:rPr>
              <a:t>contenus incontourn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Nécessité d’établir des progressions communes entre collèg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59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5400" spc="-1" strike="noStrike">
                <a:solidFill>
                  <a:srgbClr val="ffcc00"/>
                </a:solidFill>
                <a:latin typeface="Arial"/>
              </a:rPr>
              <a:t>EN CONCLUSION</a:t>
            </a:r>
            <a:br>
              <a:rPr sz="4000"/>
            </a:br>
            <a:br>
              <a:rPr sz="4000"/>
            </a:br>
            <a:r>
              <a:rPr b="1" i="1" lang="fr-FR" sz="4800" spc="-1" strike="noStrike">
                <a:solidFill>
                  <a:srgbClr val="ffcc00"/>
                </a:solidFill>
                <a:latin typeface="Arial"/>
              </a:rPr>
              <a:t>Rendre cet outil pédagogique dynamique en lui donnant une place reconnue par les élèves (évaluation et notation)</a:t>
            </a:r>
            <a:br>
              <a:rPr sz="4800"/>
            </a:b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La pratique </a:t>
            </a:r>
            <a:br>
              <a:rPr sz="4400"/>
            </a:b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du calcul mental</a:t>
            </a:r>
            <a:br>
              <a:rPr sz="4400"/>
            </a:b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est complémentaire</a:t>
            </a:r>
            <a:br>
              <a:rPr sz="4400"/>
            </a:b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 des pratiques habituelles. </a:t>
            </a: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Elle occupe</a:t>
            </a:r>
            <a:br>
              <a:rPr sz="4400"/>
            </a:b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 une place spécifique </a:t>
            </a:r>
            <a:br>
              <a:rPr sz="4400"/>
            </a:b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omme d’autres dispositifs</a:t>
            </a:r>
            <a:br>
              <a:rPr sz="4400"/>
            </a:b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 dans la classe.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ALCUL MENTAL</a:t>
            </a:r>
            <a:br>
              <a:rPr sz="4400"/>
            </a:br>
            <a:r>
              <a:rPr b="0" lang="fr-FR" sz="2000" spc="-1" strike="noStrike">
                <a:solidFill>
                  <a:srgbClr val="ffcc00"/>
                </a:solidFill>
                <a:latin typeface="Arial Black"/>
              </a:rPr>
              <a:t>Priorité des priorité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7617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Évaluations officielles nat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Le calcul mental apparaît clairement dans les évaluations CE2 et sixiè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Nouveaux programm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Le calcul mental est une priorité des nouveaux programmes de primaire et de collège d’où la nécessité d’un travail d’articulation CM2- sixiè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Liaison CM2 - 6è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525780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Consulter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ce157"/>
                </a:solidFill>
                <a:latin typeface="Bradley Hand ITC"/>
              </a:rPr>
              <a:t>LES NOUVEAUX PROGRAMMES DE L’ÉCOLE PRIM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ce157"/>
                </a:solidFill>
                <a:latin typeface="Bradley Hand ITC"/>
              </a:rPr>
              <a:t> </a:t>
            </a:r>
            <a:r>
              <a:rPr b="1" lang="fr-FR" sz="2400" spc="-1" strike="noStrike">
                <a:solidFill>
                  <a:srgbClr val="9ce157"/>
                </a:solidFill>
                <a:latin typeface="Bradley Hand ITC"/>
              </a:rPr>
              <a:t>Mathématiques  document d’accompagn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ALCUL MENTAL</a:t>
            </a:r>
            <a:br>
              <a:rPr sz="4400"/>
            </a:br>
            <a:r>
              <a:rPr b="0" lang="fr-FR" sz="2000" spc="-1" strike="noStrike">
                <a:solidFill>
                  <a:srgbClr val="ffcc00"/>
                </a:solidFill>
                <a:latin typeface="Arial Black"/>
              </a:rPr>
              <a:t>développement de l’attention et de la mémoire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Acquisition de mécanisme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util indispensable à la connaissance des nomb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x : 15 = 10 + 5 et inversement 10 + 5 =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15 = 6 + 9 et inversement 6 + 9 = 1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56 = 7 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8 et inversement 7 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8 = 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Procédures multi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réparer l’élève à des tâches de calcul raisonné plus complexes </a:t>
            </a:r>
            <a:r>
              <a:rPr b="0" lang="fr-FR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Calcul algébrique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x :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–7</a:t>
            </a:r>
            <a:r>
              <a:rPr b="0" lang="fr-FR" sz="2000" spc="-1" strike="noStrike">
                <a:solidFill>
                  <a:srgbClr val="ffffff"/>
                </a:solidFill>
                <a:latin typeface="CommercialScriptTwo"/>
              </a:rPr>
              <a:t>x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+ 2</a:t>
            </a:r>
            <a:r>
              <a:rPr b="0" lang="fr-FR" sz="2000" spc="-1" strike="noStrike">
                <a:solidFill>
                  <a:srgbClr val="ffffff"/>
                </a:solidFill>
                <a:latin typeface="CommercialScriptTwo"/>
              </a:rPr>
              <a:t>x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= (-7+2)</a:t>
            </a:r>
            <a:r>
              <a:rPr b="0" lang="fr-FR" sz="2000" spc="-1" strike="noStrike">
                <a:solidFill>
                  <a:srgbClr val="ffffff"/>
                </a:solidFill>
                <a:latin typeface="CommercialScriptTwo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réparer l’élève aux propriétés des opé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Passer d’une utilisation implicite à une utilisation plus formelle (distributivité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Moyen de contrôle et d’anticipation, aide à la résolution de problèmes (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rdre de grandeur dans la vie couran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itiation au raisonnement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(mise en œuvre de stratég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CALCUL MENTA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80880" y="990720"/>
          <a:ext cx="8458200" cy="4797360"/>
        </p:xfrm>
        <a:graphic>
          <a:graphicData uri="http://schemas.openxmlformats.org/drawingml/2006/table">
            <a:tbl>
              <a:tblPr/>
              <a:tblGrid>
                <a:gridCol w="2592360"/>
                <a:gridCol w="2667240"/>
                <a:gridCol w="31986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ORI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MATI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FLECH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l nécessite des connaissances directement disponib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édures immédiatement disponibl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l s’agit d’élaborer une stratégie dans un type de calcul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’élève choisit la plus adaptée de son point de vue, ses connaissances disponibles ou aux contenus mis en jeu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table de multiplication par 5 </a:t>
                      </a:r>
                      <a:r>
                        <a:rPr b="0" i="1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u du furet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 quart de cent, moitié, double……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4 , 25 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5 …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crire 32 comme un produit de deux nomb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 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12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25 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4 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25 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10 + 25 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12 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100 / 2 /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227880"/>
            <a:ext cx="8534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c00"/>
                </a:solidFill>
                <a:latin typeface="Arial Black"/>
              </a:rPr>
              <a:t>EXEMPLE de fiche </a:t>
            </a:r>
            <a:r>
              <a:rPr b="0" lang="fr-FR" sz="2000" spc="-1" strike="noStrike">
                <a:solidFill>
                  <a:srgbClr val="ffcc00"/>
                </a:solidFill>
                <a:latin typeface="Arial Black"/>
              </a:rPr>
              <a:t>pour calculs automatisés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80880" y="792000"/>
          <a:ext cx="7775640" cy="6066000"/>
        </p:xfrm>
        <a:graphic>
          <a:graphicData uri="http://schemas.openxmlformats.org/drawingml/2006/table">
            <a:tbl>
              <a:tblPr/>
              <a:tblGrid>
                <a:gridCol w="2441520"/>
                <a:gridCol w="2740320"/>
                <a:gridCol w="2593800"/>
              </a:tblGrid>
              <a:tr h="18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ME:</a:t>
                      </a:r>
                      <a:r>
                        <a:rPr b="0" lang="fr-FR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Nombres enti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IGNES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ccff"/>
                          </a:solidFill>
                          <a:latin typeface="Arial"/>
                        </a:rPr>
                        <a:t>(Le contrôle en classe est calqué sur les trois séries d’entraînement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ables: multiplication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  Replier le bas de la p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  Réviser le cou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) Préparer une feuille en l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)    Répondre en 5, 10 mi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)     Compter 1 point par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ddition, soustra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u utiliser un cach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érotant de 1 à 1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ni calculatrice ni pos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nne répon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IE n°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25+19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104 - 39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)8 x 7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)9 x 5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) (6 x 8) + (4 x 5)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)128 - 36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)279 + 23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)12500 + 600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)5600 – 700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) 12 x 7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IE n°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104+59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532 - 79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) (5 x 7) + (3x 9)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)11 x 8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) 6 x 13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)128 - 19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)435 + 39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) 623 – 24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) 47000 + 8000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) 5600 – 700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IE n°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) 421 x 3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) 279+23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) 128 -19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) 21 + 276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) 111 x 8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) (6 x 7) + (5 x 3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) 39 + 436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)732 x 0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)626 – 27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) 59 + 162 =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 SERI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LES à reteni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tissement: C’est super d’avoir les réponses, ma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ême le prof peut faire des erreurs!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8381880" y="0"/>
            <a:ext cx="762120" cy="69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ce157"/>
                </a:solidFill>
                <a:latin typeface="Bradley Hand ITC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ce157"/>
                </a:solidFill>
                <a:latin typeface="Bradley Hand ITC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ce157"/>
                </a:solidFill>
                <a:latin typeface="Bradley Hand ITC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9ce157"/>
                </a:solidFill>
                <a:latin typeface="Bradley Hand ITC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ce157"/>
                </a:solidFill>
                <a:latin typeface="Bradley Hand ITC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ce157"/>
                </a:solidFill>
                <a:latin typeface="Bradley Hand ITC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ce157"/>
                </a:solidFill>
                <a:latin typeface="Bradley Hand IT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ce157"/>
                </a:solidFill>
                <a:latin typeface="Bradley Hand ITC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ce157"/>
                </a:solidFill>
                <a:latin typeface="Bradley Hand ITC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ce157"/>
                </a:solidFill>
                <a:latin typeface="Bradley Hand ITC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ce157"/>
                </a:solidFill>
                <a:latin typeface="Bradley Hand ITC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ce157"/>
                </a:solidFill>
                <a:latin typeface="Bradley Hand ITC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ce157"/>
                </a:solidFill>
                <a:latin typeface="Bradley Hand ITC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ce157"/>
                </a:solidFill>
                <a:latin typeface="Bradley Hand ITC"/>
              </a:rPr>
              <a:t>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ce157"/>
                </a:solidFill>
                <a:latin typeface="Bradley Hand ITC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9ce157"/>
                </a:solidFill>
                <a:latin typeface="Bradley Hand ITC"/>
              </a:rPr>
              <a:t>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58320"/>
            <a:ext cx="8610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00"/>
                </a:solidFill>
                <a:latin typeface="Arial Black"/>
              </a:rPr>
              <a:t>EXEMPLE : </a:t>
            </a:r>
            <a:r>
              <a:rPr b="0" lang="fr-FR" sz="3200" spc="-1" strike="noStrike">
                <a:solidFill>
                  <a:srgbClr val="ffcc00"/>
                </a:solidFill>
                <a:latin typeface="Arial Black"/>
              </a:rPr>
              <a:t>LE COMPTE EST BON 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04920" y="3429000"/>
          <a:ext cx="8153280" cy="3228840"/>
        </p:xfrm>
        <a:graphic>
          <a:graphicData uri="http://schemas.openxmlformats.org/drawingml/2006/table">
            <a:tbl>
              <a:tblPr/>
              <a:tblGrid>
                <a:gridCol w="1412640"/>
                <a:gridCol w="2397240"/>
                <a:gridCol w="1981080"/>
                <a:gridCol w="23623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à trou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mbres à utilis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lcu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; 4 ; 3 ; 20 ; 5 ; 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 ; 10 ; 2 ; 1 ; 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; 5 ; 25 ; 45 ; 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; 6 ; 2 ; 10 ; 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 ; 2 ; 5 ; 40 ; 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 ; 10 ; 25 ; 2 ; 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228600" y="762120"/>
            <a:ext cx="63244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Voici une série de petits déf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 l’aide des nombres que tu as à ta disposi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tu dois trouver un calcul pour arriver au nombre écrit dans la case gri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Attention, tu ne peux utiliser qu’une seule fois chaque nombre, mais tu n’es pas obligé de les utiliser tous 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msotw9_temp0" descr=""/>
          <p:cNvPicPr/>
          <p:nvPr/>
        </p:nvPicPr>
        <p:blipFill>
          <a:blip r:embed="rId1"/>
          <a:srcRect l="0" t="9095" r="0" b="6058"/>
          <a:stretch/>
        </p:blipFill>
        <p:spPr>
          <a:xfrm>
            <a:off x="6400800" y="762120"/>
            <a:ext cx="2298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cc00"/>
                </a:solidFill>
                <a:latin typeface="Arial Black"/>
              </a:rPr>
              <a:t>EXEMPLE</a:t>
            </a: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fr-FR" sz="2800" spc="-1" strike="noStrike">
                <a:solidFill>
                  <a:srgbClr val="ffcc00"/>
                </a:solidFill>
                <a:latin typeface="Arial Black"/>
              </a:rPr>
              <a:t>pour CALCUL REFLECHI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48320" y="12949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ctivité de l’élè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cherc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Argu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onner du sens aux apprenti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Contrôle des résultats (Ordre de grandeur, calculatrice …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msotw9_temp0" descr=""/>
          <p:cNvPicPr/>
          <p:nvPr/>
        </p:nvPicPr>
        <p:blipFill>
          <a:blip r:embed="rId6"/>
          <a:srcRect l="0" t="6351" r="0" b="0"/>
          <a:stretch/>
        </p:blipFill>
        <p:spPr>
          <a:xfrm>
            <a:off x="685800" y="1143000"/>
            <a:ext cx="3657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L’ ENONC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6933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O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ECR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Persist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Ex: Calculer l’expression 2</a:t>
            </a:r>
            <a:r>
              <a:rPr b="0" lang="fr-FR" sz="2800" spc="-1" strike="noStrike">
                <a:solidFill>
                  <a:srgbClr val="ffccff"/>
                </a:solidFill>
                <a:latin typeface="CommercialScriptTwo"/>
              </a:rPr>
              <a:t>x 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+ 5 quand </a:t>
            </a:r>
            <a:r>
              <a:rPr b="0" lang="fr-FR" sz="2800" spc="-1" strike="noStrike">
                <a:solidFill>
                  <a:srgbClr val="ffccff"/>
                </a:solidFill>
                <a:latin typeface="CommercialScriptTwo"/>
              </a:rPr>
              <a:t>x</a:t>
            </a:r>
            <a:r>
              <a:rPr b="0" lang="fr-FR" sz="2400" spc="-1" strike="noStrike">
                <a:solidFill>
                  <a:srgbClr val="ffccff"/>
                </a:solidFill>
                <a:latin typeface="CommercialScriptTwo"/>
              </a:rPr>
              <a:t> 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objectif étant le calcul de l’expressio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n soulage l’élève de l’effort de mémoriser </a:t>
            </a: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l’expression qui reste écrite au tableau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Tempora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enseignant décide </a:t>
            </a:r>
            <a:r>
              <a:rPr b="0" lang="fr-FR" sz="2400" spc="-1" strike="noStrike">
                <a:solidFill>
                  <a:srgbClr val="ffcc00"/>
                </a:solidFill>
                <a:latin typeface="Arial"/>
              </a:rPr>
              <a:t>d’effacer l’expression au bout d’un temps déterminé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par l’objectif vis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8280" y="106668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Il peut être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5400000">
            <a:off x="6094440" y="297072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EN TEMPS LIMI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 Black"/>
              </a:rPr>
              <a:t>TYPE DE TACH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Travail sur la technique 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questions fermées sur le calcul numériqu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une seule réponse attendue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Ex : le double de 5, le tiers de 9 …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Q.C.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Vrai-Faux en calcul réfléchi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Ex : le double de 3 est 9 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Faux car le double c’est 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2 x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ou     c’est 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multiplier par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ou     c’est 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ffcc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609588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00"/>
                </a:solidFill>
                <a:latin typeface="Arial"/>
              </a:rPr>
              <a:t>EN TEMPS LIMI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20:02:34Z</dcterms:created>
  <dc:creator>EUGENIE</dc:creator>
  <dc:description/>
  <dc:language>en-US</dc:language>
  <cp:lastModifiedBy>IprMath</cp:lastModifiedBy>
  <dcterms:modified xsi:type="dcterms:W3CDTF">2005-11-20T20:40:19Z</dcterms:modified>
  <cp:revision>34</cp:revision>
  <dc:subject/>
  <dc:title>CALCUL MENTAL</dc:title>
</cp:coreProperties>
</file>