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8C44-6EB6-431C-994E-A1D0B78BB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94A-76B6-4F3C-B7F6-BC70C827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6372-F5A7-42BC-890E-5C6866E7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ABB-DFB9-4200-A6DD-6A2830DDF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7CB6-7301-4F38-8889-FCD63FA2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CCAB-A81C-4CF8-9AFB-707E4756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FA0-81D7-48E2-93E1-F4636DEB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B6E8-B145-40F8-AAF0-722D24DB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1A86-9648-4D75-A83C-20C4711C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F4FF-6231-4EBB-895A-EAC189B2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8EB6-7052-47C9-975F-BFE75822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EAB4-95F8-41F0-B173-BC833952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F3022-D498-4FCE-BD9C-D1BC7DDC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A27D-881C-40D4-8F87-88019D4C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CD3D-B154-4F18-8AD2-2792D871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635E-AB00-4563-B1B2-89D4E2D5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FEF1-C998-4AEA-90B7-0EEF18FCE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C6FB-9BA2-4FC1-8A1D-F3911B0F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8DC-6C26-4432-85A9-838CA5F2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3DF9-EDE4-4192-A21E-A24D74A5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C29-6B51-4C60-A852-659A3B45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7679-8D42-48E2-939F-7D04CE09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3033-6B36-46AA-BC58-AA2B08B2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A73F-46BD-462A-9992-61CA6F44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6D28-8FCC-420D-89CB-4BA4E15749FB}" type="datetime">
              <a:rPr b="0" lang="fr-FR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6D47-99BA-4F60-A635-E2C68F810221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565-A0FB-4F88-BACA-2C398332FCD7}" type="datetime">
              <a:rPr b="0" lang="fr-FR" sz="14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99BC-1F95-4E0F-916E-B412AF8DC1C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7543800" cy="152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500" spc="-1" strike="noStrike">
                <a:solidFill>
                  <a:srgbClr val="ffffcc"/>
                </a:solidFill>
                <a:latin typeface="Arial Narrow"/>
              </a:rPr>
              <a:t>Thèmes de convergence</a:t>
            </a:r>
            <a:endParaRPr b="1" lang="en-US" sz="55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C29C-35D7-4D59-8F88-F7AB1886DF7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A2DA6D6-B1E5-478A-B3D7-8E068AD8B5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Mais aussi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 histoire et géographie, l’élaboration de croquis simples à partir de données statistiques permet un lien direct entre deux discipli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 éducation physique et sportive, le recueil de données peut avoir lieu au cours d‘activités (prise de pouls, vitesse moyenn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D2A-808F-4B8E-8649-4BEEAE737B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C1479-2DFF-4A55-B83C-57B3CE740C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666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En conclusion,</a:t>
            </a:r>
            <a:br>
              <a:rPr sz="4000"/>
            </a:b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les programmes fourmillent de supports indiscutables pour l’apprentissage de la pensée statistique au collège.</a:t>
            </a:r>
            <a:br>
              <a:rPr sz="4000"/>
            </a:br>
            <a:r>
              <a:rPr b="1" lang="fr-FR" sz="4000" spc="-1" strike="noStrike">
                <a:solidFill>
                  <a:srgbClr val="ffffcc"/>
                </a:solidFill>
                <a:latin typeface="Arial Narrow"/>
              </a:rPr>
              <a:t>Un effort envers les autres disciplines est indispensable.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               Soyons curieux 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2E7-A2B5-4BCC-A027-DEA85948EB2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DB7AD9-8D05-4DF1-836D-4455561B10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191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Présentation général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mathématiques existent à la fois comme discipline à part entière mais aussi comme discipline de service dans tout le domaine scientifiqu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thèmes de convergence sont donc obligatoires mais ne font pas l’objet d’un enseignement spécifique et ne nécessitent pas un horaire supplémentai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4AE-7412-4C30-854E-371F12ED79F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E554DE-F776-420D-B2A7-55DC16CFE9F8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7760" y="380880"/>
            <a:ext cx="6095880" cy="137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Les Thèm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77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Un nombre limité de thèmes ont été retenus en tentant d’associer des domaines relevant de la culture scientifique et d’autres ayant une portée d’application direc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84B-7364-4281-9150-9BB34F78A4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29029-6EB0-4B0B-B71E-EF283F11E699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Éner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nvironnement et développement du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étéorologie et climatolog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ode de pensée statistique dans le regard scientifique sur le mon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ant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Sécurit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4D3-E3DE-4A97-9927-9F3A4B03C2C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935D7-15C5-4678-BB63-65413D0401DE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21F5-178A-49CA-83AE-01A82BDE55AC}" type="slidenum">
              <a:rPr b="0" lang="fr-FR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7363-AC30-4DFA-BA75-3FA4A421D52E}" type="datetime">
              <a:rPr b="0" lang="fr-FR" sz="1400" spc="-1" strike="noStrike">
                <a:solidFill>
                  <a:srgbClr val="009999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336699"/>
                </a:solidFill>
                <a:latin typeface="Arial Narrow"/>
              </a:rPr>
              <a:t>Convergence entre les discipline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Pour chaque enseignement, il s’agit de contribuer à l’appropriation par les élèves de savoirs relatifs à ces thè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ans certains cas, la discipline traite d’un thème dans ses objectifs propres; dans d’autres cas, le thème n’est qu’un suppo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9999"/>
                </a:solidFill>
                <a:latin typeface="Arial"/>
              </a:rPr>
              <a:t>D’après les textes officiels, les thèmes de convergence se prêtent particulièrement bien à une évaluation soit disciplinaire soit dans un cadre pluridisciplinai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’aléatoire est présent dans de très nombreux domaines de la vie courante: analyses médicales, prévisions météorologiques, sondage d’opinion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a statistique a pour but essentiel de construire des modèles  pour expliquer ou prévo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Importance du mode de pensée statistique dans le regard scientifique sur le monde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026-9635-43B3-BD1A-89668B177EA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989AF-6B30-4B73-AC0E-67775CE04120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77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Au collèg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Seule la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tie exploratoir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st mise en relief. Elle consiste à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bserver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ecueill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analy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résumer des donné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FF04-B870-4646-BE12-E9CFA7C2321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C556B-6192-4EE8-AD71-E577D3C591E6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7760" y="6076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Trois types d’outil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Synthèse des observations: tableaux, effectifs, regroupements en classe, pourcentage, etc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Représentation: diagramme à barres, diagramme circulaire, histogramm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Caractérisation numérique d’une série statistique : médiane, moyenne, quarti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9B06-850A-4E5F-A054-823264BB90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72109-29F6-499E-8A79-863994A00C22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cc"/>
                </a:solidFill>
                <a:latin typeface="Arial Narrow"/>
              </a:rPr>
              <a:t>Quelques points des programmes…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28600" y="1523880"/>
          <a:ext cx="8686800" cy="405792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  <a:gridCol w="2895480"/>
              </a:tblGrid>
              <a:tr h="3661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6èm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5èm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0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hématiqu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ctures et interprétations de diagrammes, tableaux, graphiq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Organisation de données en tableaux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xes gradué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Lectures et interprétations de diagrammes,  tableaux, graphiq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présentation d’une série statistique sous forme d’un tableau, d’ un diagramme, d’un graphiqu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alcul d’effectif, de fréquenc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groupement en class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iences de la vie et de la ter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épartition des êtres vivants et caractérisation des milieux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Croissanc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Alimentation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Influence de l’alcool sur le comportement du conducteu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Pollution et maladies respiratoir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Bookman Old Style"/>
                        </a:rPr>
                        <a:t>Ressources géologiqu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6E80-EE6A-4211-80AF-D35EC162B908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E70A7-B8F0-421E-A813-B6BAD3455858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prMath</cp:lastModifiedBy>
  <dcterms:modified xsi:type="dcterms:W3CDTF">2005-11-20T21:10:46Z</dcterms:modified>
  <cp:revision>7</cp:revision>
  <dc:subject/>
  <dc:title>Présentation PowerPoint</dc:title>
</cp:coreProperties>
</file>