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3AC2-0F9E-41A9-9C01-0487F3E2D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D3A8-94A6-4A8B-8978-85C9E7C0B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CBD4-0AA5-453B-9D99-C93DF9B82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CEAF-01AF-4E73-A2BA-A422175E6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14B27-14E8-4F23-83DC-BA52A5BB1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417C0-1421-4DBC-97D3-F4455ABF6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53570-84FC-4D49-A55E-B05F0D80C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C230F-8D31-48E0-AE10-C65EB1744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33391-525E-493C-9A4F-88120A218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EA680-2129-4E30-8DBB-7EC9A6192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21BC8-E0FB-4FF0-B9B5-140E1CFA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AB1A-E37C-4239-9A3F-FBF35129E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69FF0-AA77-4D75-8CDD-9A463B5F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0B740-AC5D-499C-B052-300AC3BE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9F13D-EBEA-41D6-A243-0CEDC2246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E66CE-5574-4852-ABB8-3189324BC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3DE1C-09A6-415E-89B3-E21CC42C0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5B79-EA6A-48A4-AE00-A42842AB1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D16E-7014-4ED4-993A-190D4C08F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9F82-0919-4FB4-8377-033A79181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4B73-1664-40E3-890B-F466ED5F7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4581-F38D-402C-8FAC-D72E4D2D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5832-3805-47E4-A3E8-A1752DEA1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4D73-E992-4950-9BFC-7ADDEB44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D3DCA-5B30-4F4D-8665-48C3C96AB5D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A6F8F-A331-4ACF-8B53-EB261E2CE8C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3840" cy="19461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arler, lire, écrire en mathématiques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800"/>
                </a:solidFill>
                <a:latin typeface="Comic Sans MS"/>
              </a:rPr>
              <a:t>Conséquen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érification régulière des cahi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bligation pour l’élève interrogé de parler suffisamment fort pour se faire entendre de to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 côté ludique qui a lassé car un seul élève actif pour 24 passif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Comic Sans MS"/>
              </a:rPr>
              <a:t>2ème vers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7696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 élève pointe son doigt au hasard sur 2 élèves de la liste de la class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 élève interroge en posant 4 questions l’autre répo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l’interrogé a des difficultés sur une question il a droit a un joker: « le vote du public » ou « le coup de fil à un ami » (il m’arrive d’aider si l’élève a bien démarré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l’interrogé ne trouve pas la réponse, la question est renvoyée à l’interrogateu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 travail d’évaluation concerne alors l’interrogateur et l’interrog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b2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Comic Sans MS"/>
              </a:rPr>
              <a:t>Pertinence des questions / justesse des répons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b2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Comic Sans MS"/>
              </a:rPr>
              <a:t>Précision du vocabulaire utilisé et clarté des questions / répons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b2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Comic Sans MS"/>
              </a:rPr>
              <a:t>Volume sonore des orateu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b800"/>
                </a:solidFill>
                <a:latin typeface="Comic Sans MS"/>
              </a:rPr>
              <a:t>Conséquen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69608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bligation pour les élèves interrogés de parler suffisamment fort pour se faire entendre de tou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u moins 2 élèves impliqués mais n’importe quel autre peut être appelé à l’aide d’où une attention accrue et des cahiers ouver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gumentation sur la difficulté des questions au moment de la notation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gumentation sur l’expression de chacun au moment de la not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 côté ludique qui les accroch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04080" indent="-214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 exercice où il est facile d’obtenir une bonne no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Comic Sans MS"/>
              </a:rPr>
              <a:t>3ème vers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suivre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Récapitulatif des programmes du primaire </a:t>
            </a:r>
            <a:r>
              <a:rPr b="0" lang="en-US" sz="3200" spc="-1" strike="noStrike" u="sng">
                <a:solidFill>
                  <a:srgbClr val="6600ff"/>
                </a:solidFill>
                <a:uFillTx/>
                <a:latin typeface="Comic Sans MS"/>
              </a:rPr>
              <a:t>et de ceux du collè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s nouveaux programmes du primaire insistent sur l’importance de l’oral dans toutes les matières. Les mathématiques ont recours à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ngue usuel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 langage spécifiq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 notations et des symbol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 graphiques (figures, schémas, diagrammes…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3399"/>
                </a:solidFill>
                <a:latin typeface="Comic Sans MS"/>
              </a:rPr>
              <a:t>Par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1483920"/>
            <a:ext cx="80629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lidation de la preuve travaillée d’abord à l’or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stral"/>
              </a:rPr>
              <a:t>Etapes de raisonne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stral"/>
              </a:rPr>
              <a:t>Communiquer, échang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stral"/>
              </a:rPr>
              <a:t>Argumen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ticipation du maximum d’élèves </a:t>
            </a:r>
            <a:r>
              <a:rPr b="0" lang="en-US" sz="2400" spc="-1" strike="noStrike">
                <a:solidFill>
                  <a:srgbClr val="000000"/>
                </a:solidFill>
                <a:latin typeface="Mistral"/>
              </a:rPr>
              <a:t>(notamment ceux qui ont des difficultés de lectur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66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Différence de signification dans le langage usuel et le langage mathématiques précis en faisant passer l’élève de « faire » à « faire faire ». C’est en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écrivant pour autrui que l’obligation de 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6600ff"/>
                </a:solidFill>
                <a:latin typeface="Comic Sans MS"/>
              </a:rPr>
              <a:t>précision apparaît comme une nécessit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3399"/>
                </a:solidFill>
                <a:latin typeface="Comic Sans MS"/>
              </a:rPr>
              <a:t>Li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Compréhension nécessaire du langage usuel 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Comic Sans MS"/>
              </a:rPr>
              <a:t>et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 des symboles mathématiques ainsi que des notions 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évoquées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Au primaire, les situations sont la plupart du temps concrètes et exprimées dans un langage courant tandis qu’au collège la syntaxe et la formulation seront la source de difficultés supplémentaires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Savoir prendre des informations sur différents supports </a:t>
            </a:r>
            <a:r>
              <a:rPr b="0" lang="en-US" sz="2300" spc="-1" strike="noStrike">
                <a:solidFill>
                  <a:srgbClr val="000000"/>
                </a:solidFill>
                <a:latin typeface="Mistral"/>
              </a:rPr>
              <a:t>(textes tableaux, graphiques, schémas…)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  <a:p>
            <a:pPr lvl="3" marL="1568160" indent="-22392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Certains écrits de référence, souvent difficiles à décoder, demandent, pour être lus et compris un travail spécifique réalisé en classe</a:t>
            </a:r>
            <a:endParaRPr b="0" lang="en-US" sz="23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3399"/>
                </a:solidFill>
                <a:latin typeface="Comic Sans MS"/>
              </a:rPr>
              <a:t>Ecrir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620280"/>
            <a:ext cx="769608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cc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cc00cc"/>
                </a:solidFill>
                <a:uFillTx/>
                <a:latin typeface="Comic Sans MS"/>
              </a:rPr>
              <a:t>Ecrits de recherche: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ivés, brouillon, l’enseignant peut intervenir pour fair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vancer la recherche de l’élève mais ne doit en aucun ca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ni les corriger ni les critique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cc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cc00cc"/>
                </a:solidFill>
                <a:uFillTx/>
                <a:latin typeface="Comic Sans MS"/>
              </a:rPr>
              <a:t>Ecrits d’échange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ise en forme minimum pour être lisible et servir d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upport à un déba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cc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cc00cc"/>
                </a:solidFill>
                <a:uFillTx/>
                <a:latin typeface="Comic Sans MS"/>
              </a:rPr>
              <a:t>Ecrits de référence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istral"/>
              </a:rPr>
              <a:t>Ecrits à conserve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istral"/>
              </a:rPr>
              <a:t>Institutionnalisation des éléments du savoir sous la responsabilité de l’enseignan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Mistral"/>
              </a:rPr>
              <a:t>Constitution d’une mémoire du travai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3399"/>
                </a:solidFill>
                <a:latin typeface="Comic Sans MS"/>
              </a:rPr>
              <a:t>En conclus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 ce soit au primaire ou au collège, la place de l’oral est primordia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s lectures des énoncés, des notations et des symboles doivent se faire aussi souvent que possible en classe pour que les difficultés de lecture ne supplantent pas les difficultés mathématiqu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vant de passer aux écrits individuels la nécessité de développer, d’expliquer et argumenter son raisonnement reste indispensab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69608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55640" y="981000"/>
            <a:ext cx="7129440" cy="453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Kristen ITC"/>
              </a:rPr>
              <a:t>La main innocent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Kristen ITC"/>
              <a:ea typeface="Kristen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Comic Sans MS"/>
              </a:rPr>
              <a:t>1ère vers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 élève pointe son doigt au hasard sur la liste de la classe (d’où le nom du jeu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ndre le cahier d’un élève et interroger l’élève désigné en lui posant 4 questions de cour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mander aux autres élèves de la classe de l’évaluer en tenant compt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b2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de la justesse de ses répons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b2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de la précision du vocabulaire utilisé et de la clarté des explic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b2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du volume sonore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31T06:49:25Z</dcterms:created>
  <dc:creator>anne </dc:creator>
  <dc:description/>
  <dc:language>en-US</dc:language>
  <cp:lastModifiedBy>anne </cp:lastModifiedBy>
  <dcterms:modified xsi:type="dcterms:W3CDTF">2005-11-22T10:54:09Z</dcterms:modified>
  <cp:revision>22</cp:revision>
  <dc:subject/>
  <dc:title>Parler, lire, écrire en mathématiques</dc:title>
</cp:coreProperties>
</file>